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8E9-980F-4123-8475-AF80D98D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5CB-78A3-4C43-B3B0-902F050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935-D648-4405-9904-134D0E18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9FD-3A5E-4B82-853B-0A121087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B93-87EF-41B7-8D41-3009171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B5E-417C-4B09-A003-D0D80B72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AC1-A20D-4CFC-A1F4-A138F96D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9BD-27A1-4387-9FA9-67C95D0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7AE-FF53-45D6-B292-304A2030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498-8CB1-4C92-A485-729AF0A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301-F5A1-4FA0-8C12-01DDB20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F01-166D-4EA9-BF2C-D74815E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5C8E-0CDE-41C3-AAF7-BEF1D784C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potki za izdelavo dobre predstavitve s Power Poin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990000"/>
                </a:solidFill>
                <a:latin typeface="Calibri"/>
              </a:rPr>
              <a:t>Imena sodelujoč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05320" y="9446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990000"/>
                </a:solidFill>
                <a:latin typeface="Calibri"/>
              </a:rPr>
              <a:t>Šola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Grafičen prikaz rezulta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vzmet1"/>
          <p:cNvPicPr/>
          <p:nvPr/>
        </p:nvPicPr>
        <p:blipFill>
          <a:blip r:embed="rId1"/>
          <a:stretch/>
        </p:blipFill>
        <p:spPr>
          <a:xfrm>
            <a:off x="1295280" y="1760400"/>
            <a:ext cx="6510600" cy="43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Ugotovit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vzmet2"/>
          <p:cNvPicPr/>
          <p:nvPr/>
        </p:nvPicPr>
        <p:blipFill>
          <a:blip r:embed="rId1"/>
          <a:stretch/>
        </p:blipFill>
        <p:spPr>
          <a:xfrm>
            <a:off x="304920" y="2114640"/>
            <a:ext cx="6205320" cy="41338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8"/>
          <p:cNvSpPr/>
          <p:nvPr/>
        </p:nvSpPr>
        <p:spPr>
          <a:xfrm>
            <a:off x="5715000" y="1371600"/>
            <a:ext cx="3276720" cy="609480"/>
          </a:xfrm>
          <a:prstGeom prst="wedgeRoundRectCallout">
            <a:avLst>
              <a:gd name="adj1" fmla="val -107750"/>
              <a:gd name="adj2" fmla="val 316407"/>
              <a:gd name="adj3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03120" y="14619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Arial"/>
              </a:rPr>
              <a:t>Enaka sila – različen raztez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621240" y="251460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400" spc="-1" strike="noStrike" baseline="-25000">
                <a:solidFill>
                  <a:srgbClr val="cc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01336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145120" y="32767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Ugotovit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vzmet1"/>
          <p:cNvPicPr/>
          <p:nvPr/>
        </p:nvPicPr>
        <p:blipFill>
          <a:blip r:embed="rId1"/>
          <a:stretch/>
        </p:blipFill>
        <p:spPr>
          <a:xfrm>
            <a:off x="423720" y="1760400"/>
            <a:ext cx="6510600" cy="43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Oval 4"/>
          <p:cNvSpPr/>
          <p:nvPr/>
        </p:nvSpPr>
        <p:spPr>
          <a:xfrm>
            <a:off x="3841920" y="297180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1555920" y="496872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5297400" y="31687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451520" y="45705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096520" y="27907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61480" y="2590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5867280" y="1143000"/>
            <a:ext cx="3048120" cy="1371600"/>
          </a:xfrm>
          <a:prstGeom prst="wedgeRoundRectCallout">
            <a:avLst>
              <a:gd name="adj1" fmla="val -97398"/>
              <a:gd name="adj2" fmla="val 54745"/>
              <a:gd name="adj3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2 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= 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  <a:ea typeface="Arial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  <a:ea typeface="Arial"/>
              </a:rPr>
              <a:t>F 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  <a:ea typeface="Arial"/>
              </a:rPr>
              <a:t>/ 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2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 = (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3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 – 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) / (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3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 – 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2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 = 1 N/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1508040" y="301140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1508040" y="32083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5326200" y="3252960"/>
            <a:ext cx="15840" cy="183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 flipH="1">
            <a:off x="3862440" y="3048120"/>
            <a:ext cx="15840" cy="2057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5943600" y="3581280"/>
            <a:ext cx="3124080" cy="1371600"/>
          </a:xfrm>
          <a:prstGeom prst="wedgeRoundRectCallout">
            <a:avLst>
              <a:gd name="adj1" fmla="val -60925"/>
              <a:gd name="adj2" fmla="val -81134"/>
              <a:gd name="adj3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F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) /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= 0,6 N/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9900"/>
                </a:solidFill>
                <a:latin typeface="Calibri"/>
              </a:rPr>
              <a:t>Hvala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571480" cy="423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a50021"/>
                </a:solidFill>
                <a:latin typeface="Calibri"/>
              </a:rPr>
              <a:t>Prosojnice so </a:t>
            </a:r>
            <a:r>
              <a:rPr b="1" lang="sl-SI" sz="4000" spc="-1" strike="noStrike">
                <a:solidFill>
                  <a:srgbClr val="a50021"/>
                </a:solidFill>
                <a:latin typeface="Calibri"/>
              </a:rPr>
              <a:t>podporno</a:t>
            </a:r>
            <a:r>
              <a:rPr b="0" lang="sl-SI" sz="4000" spc="-1" strike="noStrike">
                <a:solidFill>
                  <a:srgbClr val="a50021"/>
                </a:solidFill>
                <a:latin typeface="Calibri"/>
              </a:rPr>
              <a:t> vizualno sred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6477120" y="2590920"/>
            <a:ext cx="2285280" cy="1828440"/>
            <a:chOff x="6477120" y="2590920"/>
            <a:chExt cx="2285280" cy="1828440"/>
          </a:xfrm>
        </p:grpSpPr>
        <p:grpSp>
          <p:nvGrpSpPr>
            <p:cNvPr id="46" name="Group 7"/>
            <p:cNvGrpSpPr/>
            <p:nvPr/>
          </p:nvGrpSpPr>
          <p:grpSpPr>
            <a:xfrm>
              <a:off x="7263000" y="2590920"/>
              <a:ext cx="1499400" cy="1828440"/>
              <a:chOff x="7263000" y="2590920"/>
              <a:chExt cx="1499400" cy="1828440"/>
            </a:xfrm>
          </p:grpSpPr>
          <p:sp>
            <p:nvSpPr>
              <p:cNvPr id="47" name="Film"/>
              <p:cNvSpPr/>
              <p:nvPr/>
            </p:nvSpPr>
            <p:spPr>
              <a:xfrm>
                <a:off x="7263000" y="3056760"/>
                <a:ext cx="625680" cy="1362600"/>
              </a:xfrm>
              <a:custGeom>
                <a:avLst/>
                <a:gdLst>
                  <a:gd name="textAreaLeft" fmla="*/ 144000 w 625680"/>
                  <a:gd name="textAreaRight" fmla="*/ 494640 w 625680"/>
                  <a:gd name="textAreaTop" fmla="*/ 513000 h 1362600"/>
                  <a:gd name="textAreaBottom" fmla="*/ 847080 h 136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  <a:path w="21600" h="21600">
                    <a:moveTo>
                      <a:pt x="3014" y="21600"/>
                    </a:moveTo>
                    <a:lnTo>
                      <a:pt x="3014" y="0"/>
                    </a:lnTo>
                    <a:lnTo>
                      <a:pt x="0" y="0"/>
                    </a:lnTo>
                    <a:lnTo>
                      <a:pt x="0" y="21600"/>
                    </a:lnTo>
                    <a:lnTo>
                      <a:pt x="3014" y="21600"/>
                    </a:lnTo>
                    <a:close/>
                  </a:path>
                  <a:path w="21600" h="21600">
                    <a:moveTo>
                      <a:pt x="21600" y="21600"/>
                    </a:moveTo>
                    <a:lnTo>
                      <a:pt x="21600" y="0"/>
                    </a:lnTo>
                    <a:lnTo>
                      <a:pt x="18586" y="0"/>
                    </a:lnTo>
                    <a:lnTo>
                      <a:pt x="18586" y="21600"/>
                    </a:lnTo>
                    <a:lnTo>
                      <a:pt x="21600" y="21600"/>
                    </a:lnTo>
                    <a:close/>
                  </a:path>
                  <a:path w="21600" h="21600">
                    <a:moveTo>
                      <a:pt x="6028" y="6574"/>
                    </a:moveTo>
                    <a:lnTo>
                      <a:pt x="15572" y="6574"/>
                    </a:lnTo>
                    <a:lnTo>
                      <a:pt x="16074" y="6574"/>
                    </a:lnTo>
                    <a:lnTo>
                      <a:pt x="16326" y="6457"/>
                    </a:lnTo>
                    <a:lnTo>
                      <a:pt x="16577" y="6339"/>
                    </a:lnTo>
                    <a:lnTo>
                      <a:pt x="16828" y="6222"/>
                    </a:lnTo>
                    <a:lnTo>
                      <a:pt x="17079" y="6222"/>
                    </a:lnTo>
                    <a:lnTo>
                      <a:pt x="17330" y="5987"/>
                    </a:lnTo>
                    <a:lnTo>
                      <a:pt x="17330" y="5870"/>
                    </a:lnTo>
                    <a:lnTo>
                      <a:pt x="17581" y="5635"/>
                    </a:lnTo>
                    <a:lnTo>
                      <a:pt x="17581" y="1526"/>
                    </a:lnTo>
                    <a:lnTo>
                      <a:pt x="17330" y="1291"/>
                    </a:lnTo>
                    <a:lnTo>
                      <a:pt x="17330" y="1174"/>
                    </a:lnTo>
                    <a:lnTo>
                      <a:pt x="17079" y="1057"/>
                    </a:lnTo>
                    <a:lnTo>
                      <a:pt x="16828" y="939"/>
                    </a:lnTo>
                    <a:lnTo>
                      <a:pt x="16577" y="822"/>
                    </a:lnTo>
                    <a:lnTo>
                      <a:pt x="16326" y="704"/>
                    </a:lnTo>
                    <a:lnTo>
                      <a:pt x="16074" y="704"/>
                    </a:lnTo>
                    <a:lnTo>
                      <a:pt x="15572" y="587"/>
                    </a:lnTo>
                    <a:lnTo>
                      <a:pt x="6028" y="587"/>
                    </a:lnTo>
                    <a:lnTo>
                      <a:pt x="5526" y="704"/>
                    </a:lnTo>
                    <a:lnTo>
                      <a:pt x="5274" y="704"/>
                    </a:lnTo>
                    <a:lnTo>
                      <a:pt x="5023" y="822"/>
                    </a:lnTo>
                    <a:lnTo>
                      <a:pt x="4772" y="939"/>
                    </a:lnTo>
                    <a:lnTo>
                      <a:pt x="4521" y="1057"/>
                    </a:lnTo>
                    <a:lnTo>
                      <a:pt x="4270" y="1174"/>
                    </a:lnTo>
                    <a:lnTo>
                      <a:pt x="4270" y="1291"/>
                    </a:lnTo>
                    <a:lnTo>
                      <a:pt x="4019" y="1526"/>
                    </a:lnTo>
                    <a:lnTo>
                      <a:pt x="4019" y="5635"/>
                    </a:lnTo>
                    <a:lnTo>
                      <a:pt x="4270" y="5870"/>
                    </a:lnTo>
                    <a:lnTo>
                      <a:pt x="4270" y="5987"/>
                    </a:lnTo>
                    <a:lnTo>
                      <a:pt x="4521" y="6222"/>
                    </a:lnTo>
                    <a:lnTo>
                      <a:pt x="4772" y="6222"/>
                    </a:lnTo>
                    <a:lnTo>
                      <a:pt x="5023" y="6339"/>
                    </a:lnTo>
                    <a:lnTo>
                      <a:pt x="5274" y="6457"/>
                    </a:lnTo>
                    <a:lnTo>
                      <a:pt x="5526" y="6574"/>
                    </a:lnTo>
                    <a:lnTo>
                      <a:pt x="6028" y="6574"/>
                    </a:lnTo>
                    <a:close/>
                  </a:path>
                  <a:path w="21600" h="21600">
                    <a:moveTo>
                      <a:pt x="6028" y="13617"/>
                    </a:moveTo>
                    <a:lnTo>
                      <a:pt x="15572" y="13617"/>
                    </a:lnTo>
                    <a:lnTo>
                      <a:pt x="16074" y="13617"/>
                    </a:lnTo>
                    <a:lnTo>
                      <a:pt x="16326" y="13617"/>
                    </a:lnTo>
                    <a:lnTo>
                      <a:pt x="16577" y="13500"/>
                    </a:lnTo>
                    <a:lnTo>
                      <a:pt x="16828" y="13383"/>
                    </a:lnTo>
                    <a:lnTo>
                      <a:pt x="17079" y="13265"/>
                    </a:lnTo>
                    <a:lnTo>
                      <a:pt x="17330" y="13148"/>
                    </a:lnTo>
                    <a:lnTo>
                      <a:pt x="17330" y="12913"/>
                    </a:lnTo>
                    <a:lnTo>
                      <a:pt x="17581" y="12796"/>
                    </a:lnTo>
                    <a:lnTo>
                      <a:pt x="17581" y="8687"/>
                    </a:lnTo>
                    <a:lnTo>
                      <a:pt x="17330" y="8452"/>
                    </a:lnTo>
                    <a:lnTo>
                      <a:pt x="17330" y="8335"/>
                    </a:lnTo>
                    <a:lnTo>
                      <a:pt x="17079" y="8217"/>
                    </a:lnTo>
                    <a:lnTo>
                      <a:pt x="16828" y="7983"/>
                    </a:lnTo>
                    <a:lnTo>
                      <a:pt x="16577" y="7983"/>
                    </a:lnTo>
                    <a:lnTo>
                      <a:pt x="16326" y="7865"/>
                    </a:lnTo>
                    <a:lnTo>
                      <a:pt x="16074" y="7865"/>
                    </a:lnTo>
                    <a:lnTo>
                      <a:pt x="15572" y="7748"/>
                    </a:lnTo>
                    <a:lnTo>
                      <a:pt x="6028" y="7748"/>
                    </a:lnTo>
                    <a:lnTo>
                      <a:pt x="5526" y="7865"/>
                    </a:lnTo>
                    <a:lnTo>
                      <a:pt x="5274" y="7865"/>
                    </a:lnTo>
                    <a:lnTo>
                      <a:pt x="5023" y="7983"/>
                    </a:lnTo>
                    <a:lnTo>
                      <a:pt x="4772" y="7983"/>
                    </a:lnTo>
                    <a:lnTo>
                      <a:pt x="4521" y="8217"/>
                    </a:lnTo>
                    <a:lnTo>
                      <a:pt x="4270" y="8335"/>
                    </a:lnTo>
                    <a:lnTo>
                      <a:pt x="4270" y="8452"/>
                    </a:lnTo>
                    <a:lnTo>
                      <a:pt x="4019" y="8687"/>
                    </a:lnTo>
                    <a:lnTo>
                      <a:pt x="4019" y="12796"/>
                    </a:lnTo>
                    <a:lnTo>
                      <a:pt x="4270" y="12913"/>
                    </a:lnTo>
                    <a:lnTo>
                      <a:pt x="4270" y="13148"/>
                    </a:lnTo>
                    <a:lnTo>
                      <a:pt x="4521" y="13265"/>
                    </a:lnTo>
                    <a:lnTo>
                      <a:pt x="4772" y="13383"/>
                    </a:lnTo>
                    <a:lnTo>
                      <a:pt x="5023" y="13500"/>
                    </a:lnTo>
                    <a:lnTo>
                      <a:pt x="5274" y="13617"/>
                    </a:lnTo>
                    <a:lnTo>
                      <a:pt x="5526" y="13617"/>
                    </a:lnTo>
                    <a:lnTo>
                      <a:pt x="6028" y="13617"/>
                    </a:lnTo>
                    <a:close/>
                  </a:path>
                  <a:path w="21600" h="21600">
                    <a:moveTo>
                      <a:pt x="6028" y="20778"/>
                    </a:moveTo>
                    <a:lnTo>
                      <a:pt x="15572" y="20778"/>
                    </a:lnTo>
                    <a:lnTo>
                      <a:pt x="16074" y="20778"/>
                    </a:lnTo>
                    <a:lnTo>
                      <a:pt x="16326" y="20661"/>
                    </a:lnTo>
                    <a:lnTo>
                      <a:pt x="16577" y="20661"/>
                    </a:lnTo>
                    <a:lnTo>
                      <a:pt x="16828" y="20543"/>
                    </a:lnTo>
                    <a:lnTo>
                      <a:pt x="17079" y="20426"/>
                    </a:lnTo>
                    <a:lnTo>
                      <a:pt x="17330" y="20309"/>
                    </a:lnTo>
                    <a:lnTo>
                      <a:pt x="17330" y="20074"/>
                    </a:lnTo>
                    <a:lnTo>
                      <a:pt x="17581" y="19957"/>
                    </a:lnTo>
                    <a:lnTo>
                      <a:pt x="17581" y="15730"/>
                    </a:lnTo>
                    <a:lnTo>
                      <a:pt x="17330" y="15613"/>
                    </a:lnTo>
                    <a:lnTo>
                      <a:pt x="17330" y="15378"/>
                    </a:lnTo>
                    <a:lnTo>
                      <a:pt x="17079" y="15378"/>
                    </a:lnTo>
                    <a:lnTo>
                      <a:pt x="16828" y="15143"/>
                    </a:lnTo>
                    <a:lnTo>
                      <a:pt x="16577" y="15026"/>
                    </a:lnTo>
                    <a:lnTo>
                      <a:pt x="16326" y="15026"/>
                    </a:lnTo>
                    <a:lnTo>
                      <a:pt x="16074" y="15026"/>
                    </a:lnTo>
                    <a:lnTo>
                      <a:pt x="15572" y="14909"/>
                    </a:lnTo>
                    <a:lnTo>
                      <a:pt x="6028" y="14909"/>
                    </a:lnTo>
                    <a:lnTo>
                      <a:pt x="5526" y="15026"/>
                    </a:lnTo>
                    <a:lnTo>
                      <a:pt x="5274" y="15026"/>
                    </a:lnTo>
                    <a:lnTo>
                      <a:pt x="5023" y="15026"/>
                    </a:lnTo>
                    <a:lnTo>
                      <a:pt x="4772" y="15143"/>
                    </a:lnTo>
                    <a:lnTo>
                      <a:pt x="4521" y="15378"/>
                    </a:lnTo>
                    <a:lnTo>
                      <a:pt x="4270" y="15378"/>
                    </a:lnTo>
                    <a:lnTo>
                      <a:pt x="4270" y="15613"/>
                    </a:lnTo>
                    <a:lnTo>
                      <a:pt x="4019" y="15730"/>
                    </a:lnTo>
                    <a:lnTo>
                      <a:pt x="4019" y="19957"/>
                    </a:lnTo>
                    <a:lnTo>
                      <a:pt x="4270" y="20074"/>
                    </a:lnTo>
                    <a:lnTo>
                      <a:pt x="4270" y="20309"/>
                    </a:lnTo>
                    <a:lnTo>
                      <a:pt x="4521" y="20426"/>
                    </a:lnTo>
                    <a:lnTo>
                      <a:pt x="4772" y="20543"/>
                    </a:lnTo>
                    <a:lnTo>
                      <a:pt x="5023" y="20661"/>
                    </a:lnTo>
                    <a:lnTo>
                      <a:pt x="5274" y="20661"/>
                    </a:lnTo>
                    <a:lnTo>
                      <a:pt x="5526" y="20778"/>
                    </a:lnTo>
                    <a:lnTo>
                      <a:pt x="6028" y="20778"/>
                    </a:lnTo>
                    <a:close/>
                  </a:path>
                  <a:path w="21600" h="21600">
                    <a:moveTo>
                      <a:pt x="753" y="1291"/>
                    </a:moveTo>
                    <a:lnTo>
                      <a:pt x="2260" y="1291"/>
                    </a:lnTo>
                    <a:lnTo>
                      <a:pt x="2260" y="235"/>
                    </a:lnTo>
                    <a:lnTo>
                      <a:pt x="753" y="235"/>
                    </a:lnTo>
                    <a:lnTo>
                      <a:pt x="753" y="1291"/>
                    </a:lnTo>
                    <a:close/>
                  </a:path>
                  <a:path w="21600" h="21600">
                    <a:moveTo>
                      <a:pt x="753" y="2700"/>
                    </a:moveTo>
                    <a:lnTo>
                      <a:pt x="2260" y="2700"/>
                    </a:lnTo>
                    <a:lnTo>
                      <a:pt x="2260" y="1643"/>
                    </a:lnTo>
                    <a:lnTo>
                      <a:pt x="753" y="1643"/>
                    </a:lnTo>
                    <a:lnTo>
                      <a:pt x="753" y="2700"/>
                    </a:lnTo>
                    <a:close/>
                  </a:path>
                  <a:path w="21600" h="21600">
                    <a:moveTo>
                      <a:pt x="753" y="4109"/>
                    </a:moveTo>
                    <a:lnTo>
                      <a:pt x="2260" y="4109"/>
                    </a:lnTo>
                    <a:lnTo>
                      <a:pt x="2260" y="3052"/>
                    </a:lnTo>
                    <a:lnTo>
                      <a:pt x="753" y="3052"/>
                    </a:lnTo>
                    <a:lnTo>
                      <a:pt x="753" y="4109"/>
                    </a:lnTo>
                    <a:close/>
                  </a:path>
                  <a:path w="21600" h="21600">
                    <a:moveTo>
                      <a:pt x="753" y="5517"/>
                    </a:moveTo>
                    <a:lnTo>
                      <a:pt x="2260" y="5517"/>
                    </a:lnTo>
                    <a:lnTo>
                      <a:pt x="2260" y="4461"/>
                    </a:lnTo>
                    <a:lnTo>
                      <a:pt x="753" y="4461"/>
                    </a:lnTo>
                    <a:lnTo>
                      <a:pt x="753" y="5517"/>
                    </a:lnTo>
                    <a:close/>
                  </a:path>
                  <a:path w="21600" h="21600">
                    <a:moveTo>
                      <a:pt x="753" y="6926"/>
                    </a:moveTo>
                    <a:lnTo>
                      <a:pt x="2260" y="6926"/>
                    </a:lnTo>
                    <a:lnTo>
                      <a:pt x="2260" y="5870"/>
                    </a:lnTo>
                    <a:lnTo>
                      <a:pt x="753" y="5870"/>
                    </a:lnTo>
                    <a:lnTo>
                      <a:pt x="753" y="6926"/>
                    </a:lnTo>
                    <a:close/>
                  </a:path>
                  <a:path w="21600" h="21600">
                    <a:moveTo>
                      <a:pt x="753" y="8335"/>
                    </a:moveTo>
                    <a:lnTo>
                      <a:pt x="2260" y="8335"/>
                    </a:lnTo>
                    <a:lnTo>
                      <a:pt x="2260" y="7278"/>
                    </a:lnTo>
                    <a:lnTo>
                      <a:pt x="753" y="7278"/>
                    </a:lnTo>
                    <a:lnTo>
                      <a:pt x="753" y="8335"/>
                    </a:lnTo>
                    <a:close/>
                  </a:path>
                  <a:path w="21600" h="21600">
                    <a:moveTo>
                      <a:pt x="753" y="9743"/>
                    </a:moveTo>
                    <a:lnTo>
                      <a:pt x="2260" y="9743"/>
                    </a:lnTo>
                    <a:lnTo>
                      <a:pt x="2260" y="8687"/>
                    </a:lnTo>
                    <a:lnTo>
                      <a:pt x="753" y="8687"/>
                    </a:lnTo>
                    <a:lnTo>
                      <a:pt x="753" y="9743"/>
                    </a:lnTo>
                    <a:close/>
                  </a:path>
                  <a:path w="21600" h="21600">
                    <a:moveTo>
                      <a:pt x="753" y="11152"/>
                    </a:moveTo>
                    <a:lnTo>
                      <a:pt x="2260" y="11152"/>
                    </a:lnTo>
                    <a:lnTo>
                      <a:pt x="2260" y="10096"/>
                    </a:lnTo>
                    <a:lnTo>
                      <a:pt x="753" y="10096"/>
                    </a:lnTo>
                    <a:lnTo>
                      <a:pt x="753" y="11152"/>
                    </a:lnTo>
                    <a:close/>
                  </a:path>
                  <a:path w="21600" h="21600">
                    <a:moveTo>
                      <a:pt x="753" y="12561"/>
                    </a:moveTo>
                    <a:lnTo>
                      <a:pt x="2260" y="12561"/>
                    </a:lnTo>
                    <a:lnTo>
                      <a:pt x="2260" y="11504"/>
                    </a:lnTo>
                    <a:lnTo>
                      <a:pt x="753" y="11504"/>
                    </a:lnTo>
                    <a:lnTo>
                      <a:pt x="753" y="12561"/>
                    </a:lnTo>
                    <a:close/>
                  </a:path>
                  <a:path w="21600" h="21600">
                    <a:moveTo>
                      <a:pt x="753" y="13970"/>
                    </a:moveTo>
                    <a:lnTo>
                      <a:pt x="2260" y="13970"/>
                    </a:lnTo>
                    <a:lnTo>
                      <a:pt x="2260" y="12913"/>
                    </a:lnTo>
                    <a:lnTo>
                      <a:pt x="753" y="12913"/>
                    </a:lnTo>
                    <a:lnTo>
                      <a:pt x="753" y="13970"/>
                    </a:lnTo>
                    <a:close/>
                  </a:path>
                  <a:path w="21600" h="21600">
                    <a:moveTo>
                      <a:pt x="753" y="15378"/>
                    </a:moveTo>
                    <a:lnTo>
                      <a:pt x="2260" y="15378"/>
                    </a:lnTo>
                    <a:lnTo>
                      <a:pt x="2260" y="14322"/>
                    </a:lnTo>
                    <a:lnTo>
                      <a:pt x="753" y="14322"/>
                    </a:lnTo>
                    <a:lnTo>
                      <a:pt x="753" y="15378"/>
                    </a:lnTo>
                    <a:close/>
                  </a:path>
                  <a:path w="21600" h="21600">
                    <a:moveTo>
                      <a:pt x="753" y="16787"/>
                    </a:moveTo>
                    <a:lnTo>
                      <a:pt x="2260" y="16787"/>
                    </a:lnTo>
                    <a:lnTo>
                      <a:pt x="2260" y="15730"/>
                    </a:lnTo>
                    <a:lnTo>
                      <a:pt x="753" y="15730"/>
                    </a:lnTo>
                    <a:lnTo>
                      <a:pt x="753" y="16787"/>
                    </a:lnTo>
                    <a:close/>
                  </a:path>
                  <a:path w="21600" h="21600">
                    <a:moveTo>
                      <a:pt x="753" y="18196"/>
                    </a:moveTo>
                    <a:lnTo>
                      <a:pt x="2260" y="18196"/>
                    </a:lnTo>
                    <a:lnTo>
                      <a:pt x="2260" y="17139"/>
                    </a:lnTo>
                    <a:lnTo>
                      <a:pt x="753" y="17139"/>
                    </a:lnTo>
                    <a:lnTo>
                      <a:pt x="753" y="18196"/>
                    </a:lnTo>
                    <a:close/>
                  </a:path>
                  <a:path w="21600" h="21600">
                    <a:moveTo>
                      <a:pt x="753" y="19604"/>
                    </a:moveTo>
                    <a:lnTo>
                      <a:pt x="2260" y="19604"/>
                    </a:lnTo>
                    <a:lnTo>
                      <a:pt x="2260" y="18548"/>
                    </a:lnTo>
                    <a:lnTo>
                      <a:pt x="753" y="18548"/>
                    </a:lnTo>
                    <a:lnTo>
                      <a:pt x="753" y="19604"/>
                    </a:lnTo>
                    <a:close/>
                  </a:path>
                  <a:path w="21600" h="21600">
                    <a:moveTo>
                      <a:pt x="753" y="21013"/>
                    </a:moveTo>
                    <a:lnTo>
                      <a:pt x="2260" y="21013"/>
                    </a:lnTo>
                    <a:lnTo>
                      <a:pt x="2260" y="19957"/>
                    </a:lnTo>
                    <a:lnTo>
                      <a:pt x="753" y="19957"/>
                    </a:lnTo>
                    <a:lnTo>
                      <a:pt x="753" y="21013"/>
                    </a:lnTo>
                    <a:close/>
                  </a:path>
                  <a:path w="21600" h="21600">
                    <a:moveTo>
                      <a:pt x="19340" y="1409"/>
                    </a:moveTo>
                    <a:lnTo>
                      <a:pt x="20595" y="1409"/>
                    </a:lnTo>
                    <a:lnTo>
                      <a:pt x="20595" y="352"/>
                    </a:lnTo>
                    <a:lnTo>
                      <a:pt x="19340" y="352"/>
                    </a:lnTo>
                    <a:lnTo>
                      <a:pt x="19340" y="1409"/>
                    </a:lnTo>
                    <a:close/>
                  </a:path>
                  <a:path w="21600" h="21600">
                    <a:moveTo>
                      <a:pt x="19340" y="2700"/>
                    </a:moveTo>
                    <a:lnTo>
                      <a:pt x="20595" y="2700"/>
                    </a:lnTo>
                    <a:lnTo>
                      <a:pt x="20595" y="1643"/>
                    </a:lnTo>
                    <a:lnTo>
                      <a:pt x="19340" y="1643"/>
                    </a:lnTo>
                    <a:lnTo>
                      <a:pt x="19340" y="2700"/>
                    </a:lnTo>
                    <a:close/>
                  </a:path>
                  <a:path w="21600" h="21600">
                    <a:moveTo>
                      <a:pt x="19340" y="4109"/>
                    </a:moveTo>
                    <a:lnTo>
                      <a:pt x="20595" y="4109"/>
                    </a:lnTo>
                    <a:lnTo>
                      <a:pt x="20595" y="3052"/>
                    </a:lnTo>
                    <a:lnTo>
                      <a:pt x="19340" y="3052"/>
                    </a:lnTo>
                    <a:lnTo>
                      <a:pt x="19340" y="4109"/>
                    </a:lnTo>
                    <a:close/>
                  </a:path>
                  <a:path w="21600" h="21600">
                    <a:moveTo>
                      <a:pt x="19340" y="5517"/>
                    </a:moveTo>
                    <a:lnTo>
                      <a:pt x="20595" y="5517"/>
                    </a:lnTo>
                    <a:lnTo>
                      <a:pt x="20595" y="4461"/>
                    </a:lnTo>
                    <a:lnTo>
                      <a:pt x="19340" y="4461"/>
                    </a:lnTo>
                    <a:lnTo>
                      <a:pt x="19340" y="5517"/>
                    </a:lnTo>
                    <a:close/>
                  </a:path>
                  <a:path w="21600" h="21600">
                    <a:moveTo>
                      <a:pt x="19340" y="6926"/>
                    </a:moveTo>
                    <a:lnTo>
                      <a:pt x="20595" y="6926"/>
                    </a:lnTo>
                    <a:lnTo>
                      <a:pt x="20595" y="5870"/>
                    </a:lnTo>
                    <a:lnTo>
                      <a:pt x="19340" y="5870"/>
                    </a:lnTo>
                    <a:lnTo>
                      <a:pt x="19340" y="6926"/>
                    </a:lnTo>
                    <a:close/>
                  </a:path>
                  <a:path w="21600" h="21600">
                    <a:moveTo>
                      <a:pt x="19340" y="8335"/>
                    </a:moveTo>
                    <a:lnTo>
                      <a:pt x="20595" y="8335"/>
                    </a:lnTo>
                    <a:lnTo>
                      <a:pt x="20595" y="7278"/>
                    </a:lnTo>
                    <a:lnTo>
                      <a:pt x="19340" y="7278"/>
                    </a:lnTo>
                    <a:lnTo>
                      <a:pt x="19340" y="8335"/>
                    </a:lnTo>
                    <a:close/>
                  </a:path>
                  <a:path w="21600" h="21600">
                    <a:moveTo>
                      <a:pt x="19340" y="9743"/>
                    </a:moveTo>
                    <a:lnTo>
                      <a:pt x="20595" y="9743"/>
                    </a:lnTo>
                    <a:lnTo>
                      <a:pt x="20595" y="8687"/>
                    </a:lnTo>
                    <a:lnTo>
                      <a:pt x="19340" y="8687"/>
                    </a:lnTo>
                    <a:lnTo>
                      <a:pt x="19340" y="9743"/>
                    </a:lnTo>
                    <a:close/>
                  </a:path>
                  <a:path w="21600" h="21600">
                    <a:moveTo>
                      <a:pt x="19340" y="11152"/>
                    </a:moveTo>
                    <a:lnTo>
                      <a:pt x="20595" y="11152"/>
                    </a:lnTo>
                    <a:lnTo>
                      <a:pt x="20595" y="10096"/>
                    </a:lnTo>
                    <a:lnTo>
                      <a:pt x="19340" y="10096"/>
                    </a:lnTo>
                    <a:lnTo>
                      <a:pt x="19340" y="11152"/>
                    </a:lnTo>
                    <a:close/>
                  </a:path>
                  <a:path w="21600" h="21600">
                    <a:moveTo>
                      <a:pt x="19340" y="12561"/>
                    </a:moveTo>
                    <a:lnTo>
                      <a:pt x="20595" y="12561"/>
                    </a:lnTo>
                    <a:lnTo>
                      <a:pt x="20595" y="11504"/>
                    </a:lnTo>
                    <a:lnTo>
                      <a:pt x="19340" y="11504"/>
                    </a:lnTo>
                    <a:lnTo>
                      <a:pt x="19340" y="12561"/>
                    </a:lnTo>
                    <a:close/>
                  </a:path>
                  <a:path w="21600" h="21600">
                    <a:moveTo>
                      <a:pt x="19340" y="13970"/>
                    </a:moveTo>
                    <a:lnTo>
                      <a:pt x="20595" y="13970"/>
                    </a:lnTo>
                    <a:lnTo>
                      <a:pt x="20595" y="12913"/>
                    </a:lnTo>
                    <a:lnTo>
                      <a:pt x="19340" y="12913"/>
                    </a:lnTo>
                    <a:lnTo>
                      <a:pt x="19340" y="13970"/>
                    </a:lnTo>
                    <a:close/>
                  </a:path>
                  <a:path w="21600" h="21600">
                    <a:moveTo>
                      <a:pt x="19340" y="15378"/>
                    </a:moveTo>
                    <a:lnTo>
                      <a:pt x="20595" y="15378"/>
                    </a:lnTo>
                    <a:lnTo>
                      <a:pt x="20595" y="14322"/>
                    </a:lnTo>
                    <a:lnTo>
                      <a:pt x="19340" y="14322"/>
                    </a:lnTo>
                    <a:lnTo>
                      <a:pt x="19340" y="15378"/>
                    </a:lnTo>
                    <a:close/>
                  </a:path>
                  <a:path w="21600" h="21600">
                    <a:moveTo>
                      <a:pt x="19340" y="16787"/>
                    </a:moveTo>
                    <a:lnTo>
                      <a:pt x="20595" y="16787"/>
                    </a:lnTo>
                    <a:lnTo>
                      <a:pt x="20595" y="15730"/>
                    </a:lnTo>
                    <a:lnTo>
                      <a:pt x="19340" y="15730"/>
                    </a:lnTo>
                    <a:lnTo>
                      <a:pt x="19340" y="16787"/>
                    </a:lnTo>
                    <a:close/>
                  </a:path>
                  <a:path w="21600" h="21600">
                    <a:moveTo>
                      <a:pt x="19340" y="18196"/>
                    </a:moveTo>
                    <a:lnTo>
                      <a:pt x="20595" y="18196"/>
                    </a:lnTo>
                    <a:lnTo>
                      <a:pt x="20595" y="17139"/>
                    </a:lnTo>
                    <a:lnTo>
                      <a:pt x="19340" y="17139"/>
                    </a:lnTo>
                    <a:lnTo>
                      <a:pt x="19340" y="18196"/>
                    </a:lnTo>
                    <a:close/>
                  </a:path>
                  <a:path w="21600" h="21600">
                    <a:moveTo>
                      <a:pt x="19340" y="19604"/>
                    </a:moveTo>
                    <a:lnTo>
                      <a:pt x="20595" y="19604"/>
                    </a:lnTo>
                    <a:lnTo>
                      <a:pt x="20595" y="18548"/>
                    </a:lnTo>
                    <a:lnTo>
                      <a:pt x="19340" y="18548"/>
                    </a:lnTo>
                    <a:lnTo>
                      <a:pt x="19340" y="19604"/>
                    </a:lnTo>
                    <a:close/>
                  </a:path>
                  <a:path w="21600" h="21600">
                    <a:moveTo>
                      <a:pt x="19340" y="21013"/>
                    </a:moveTo>
                    <a:lnTo>
                      <a:pt x="20595" y="21013"/>
                    </a:lnTo>
                    <a:lnTo>
                      <a:pt x="20595" y="19957"/>
                    </a:lnTo>
                    <a:lnTo>
                      <a:pt x="19340" y="19957"/>
                    </a:lnTo>
                    <a:lnTo>
                      <a:pt x="19340" y="210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Sound"/>
              <p:cNvSpPr/>
              <p:nvPr/>
            </p:nvSpPr>
            <p:spPr>
              <a:xfrm>
                <a:off x="7624800" y="2590920"/>
                <a:ext cx="868680" cy="903600"/>
              </a:xfrm>
              <a:custGeom>
                <a:avLst/>
                <a:gdLst>
                  <a:gd name="textAreaLeft" fmla="*/ 9360 w 868680"/>
                  <a:gd name="textAreaRight" fmla="*/ 432720 w 868680"/>
                  <a:gd name="textAreaTop" fmla="*/ 317520 h 903600"/>
                  <a:gd name="textAreaBottom" fmla="*/ 567000 h 90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Photo"/>
              <p:cNvSpPr/>
              <p:nvPr/>
            </p:nvSpPr>
            <p:spPr>
              <a:xfrm>
                <a:off x="7955640" y="3127320"/>
                <a:ext cx="806760" cy="818640"/>
              </a:xfrm>
              <a:custGeom>
                <a:avLst/>
                <a:gdLst>
                  <a:gd name="textAreaLeft" fmla="*/ 290520 w 806760"/>
                  <a:gd name="textAreaRight" fmla="*/ 513720 w 806760"/>
                  <a:gd name="textAreaTop" fmla="*/ 311760 h 818640"/>
                  <a:gd name="textAreaBottom" fmla="*/ 640080 h 81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3085"/>
                    </a:lnTo>
                    <a:lnTo>
                      <a:pt x="1542" y="3085"/>
                    </a:lnTo>
                    <a:lnTo>
                      <a:pt x="1542" y="1028"/>
                    </a:lnTo>
                    <a:lnTo>
                      <a:pt x="3857" y="1028"/>
                    </a:lnTo>
                    <a:lnTo>
                      <a:pt x="3857" y="3085"/>
                    </a:lnTo>
                    <a:lnTo>
                      <a:pt x="5400" y="3085"/>
                    </a:lnTo>
                    <a:lnTo>
                      <a:pt x="6942" y="0"/>
                    </a:lnTo>
                    <a:lnTo>
                      <a:pt x="14657" y="0"/>
                    </a:lnTo>
                    <a:lnTo>
                      <a:pt x="16200" y="3085"/>
                    </a:lnTo>
                    <a:lnTo>
                      <a:pt x="21600" y="3085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0" y="3085"/>
                    </a:moveTo>
                    <a:lnTo>
                      <a:pt x="21600" y="3085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3085"/>
                    </a:lnTo>
                    <a:close/>
                  </a:path>
                  <a:path w="21600" h="21600">
                    <a:moveTo>
                      <a:pt x="10800" y="4800"/>
                    </a:moveTo>
                    <a:lnTo>
                      <a:pt x="11925" y="4971"/>
                    </a:lnTo>
                    <a:lnTo>
                      <a:pt x="13017" y="5442"/>
                    </a:lnTo>
                    <a:lnTo>
                      <a:pt x="14046" y="6128"/>
                    </a:lnTo>
                    <a:lnTo>
                      <a:pt x="14914" y="7071"/>
                    </a:lnTo>
                    <a:lnTo>
                      <a:pt x="15621" y="8271"/>
                    </a:lnTo>
                    <a:lnTo>
                      <a:pt x="16167" y="9514"/>
                    </a:lnTo>
                    <a:lnTo>
                      <a:pt x="16425" y="11014"/>
                    </a:lnTo>
                    <a:lnTo>
                      <a:pt x="16585" y="12471"/>
                    </a:lnTo>
                    <a:lnTo>
                      <a:pt x="16489" y="14014"/>
                    </a:lnTo>
                    <a:lnTo>
                      <a:pt x="16135" y="15471"/>
                    </a:lnTo>
                    <a:lnTo>
                      <a:pt x="15621" y="16800"/>
                    </a:lnTo>
                    <a:lnTo>
                      <a:pt x="14914" y="18000"/>
                    </a:lnTo>
                    <a:lnTo>
                      <a:pt x="14046" y="18942"/>
                    </a:lnTo>
                    <a:lnTo>
                      <a:pt x="13050" y="19671"/>
                    </a:lnTo>
                    <a:lnTo>
                      <a:pt x="11925" y="20057"/>
                    </a:lnTo>
                    <a:lnTo>
                      <a:pt x="10832" y="20185"/>
                    </a:lnTo>
                    <a:lnTo>
                      <a:pt x="9675" y="20142"/>
                    </a:lnTo>
                    <a:lnTo>
                      <a:pt x="8582" y="19628"/>
                    </a:lnTo>
                    <a:lnTo>
                      <a:pt x="7553" y="18942"/>
                    </a:lnTo>
                    <a:lnTo>
                      <a:pt x="6717" y="17957"/>
                    </a:lnTo>
                    <a:lnTo>
                      <a:pt x="5946" y="16842"/>
                    </a:lnTo>
                    <a:lnTo>
                      <a:pt x="5464" y="15514"/>
                    </a:lnTo>
                    <a:lnTo>
                      <a:pt x="5078" y="14014"/>
                    </a:lnTo>
                    <a:lnTo>
                      <a:pt x="5014" y="12514"/>
                    </a:lnTo>
                    <a:lnTo>
                      <a:pt x="5110" y="11014"/>
                    </a:lnTo>
                    <a:lnTo>
                      <a:pt x="5528" y="9557"/>
                    </a:lnTo>
                    <a:lnTo>
                      <a:pt x="6010" y="8228"/>
                    </a:lnTo>
                    <a:lnTo>
                      <a:pt x="6750" y="7114"/>
                    </a:lnTo>
                    <a:lnTo>
                      <a:pt x="7650" y="6085"/>
                    </a:lnTo>
                    <a:lnTo>
                      <a:pt x="8614" y="5400"/>
                    </a:lnTo>
                    <a:lnTo>
                      <a:pt x="9707" y="4971"/>
                    </a:lnTo>
                    <a:lnTo>
                      <a:pt x="10800" y="4800"/>
                    </a:lnTo>
                    <a:close/>
                  </a:path>
                  <a:path w="21600" h="21600">
                    <a:moveTo>
                      <a:pt x="8003" y="8057"/>
                    </a:moveTo>
                    <a:lnTo>
                      <a:pt x="8807" y="7371"/>
                    </a:lnTo>
                    <a:lnTo>
                      <a:pt x="9546" y="6985"/>
                    </a:lnTo>
                    <a:lnTo>
                      <a:pt x="10446" y="6771"/>
                    </a:lnTo>
                    <a:lnTo>
                      <a:pt x="11217" y="6771"/>
                    </a:lnTo>
                    <a:lnTo>
                      <a:pt x="12053" y="7028"/>
                    </a:lnTo>
                    <a:lnTo>
                      <a:pt x="12889" y="7457"/>
                    </a:lnTo>
                    <a:lnTo>
                      <a:pt x="13628" y="8100"/>
                    </a:lnTo>
                    <a:lnTo>
                      <a:pt x="14175" y="8871"/>
                    </a:lnTo>
                    <a:lnTo>
                      <a:pt x="14625" y="9814"/>
                    </a:lnTo>
                    <a:lnTo>
                      <a:pt x="14978" y="10885"/>
                    </a:lnTo>
                    <a:lnTo>
                      <a:pt x="15171" y="12042"/>
                    </a:lnTo>
                    <a:lnTo>
                      <a:pt x="15107" y="13114"/>
                    </a:lnTo>
                    <a:lnTo>
                      <a:pt x="15042" y="14228"/>
                    </a:lnTo>
                    <a:lnTo>
                      <a:pt x="14689" y="15257"/>
                    </a:lnTo>
                    <a:lnTo>
                      <a:pt x="14207" y="16285"/>
                    </a:lnTo>
                    <a:lnTo>
                      <a:pt x="13596" y="17057"/>
                    </a:lnTo>
                    <a:lnTo>
                      <a:pt x="12889" y="17657"/>
                    </a:lnTo>
                    <a:lnTo>
                      <a:pt x="12053" y="18085"/>
                    </a:lnTo>
                    <a:lnTo>
                      <a:pt x="11185" y="18257"/>
                    </a:lnTo>
                    <a:lnTo>
                      <a:pt x="10414" y="18214"/>
                    </a:lnTo>
                    <a:lnTo>
                      <a:pt x="9546" y="18042"/>
                    </a:lnTo>
                    <a:lnTo>
                      <a:pt x="8742" y="17614"/>
                    </a:lnTo>
                    <a:lnTo>
                      <a:pt x="8003" y="17014"/>
                    </a:lnTo>
                    <a:lnTo>
                      <a:pt x="7457" y="16242"/>
                    </a:lnTo>
                    <a:lnTo>
                      <a:pt x="6975" y="15257"/>
                    </a:lnTo>
                    <a:lnTo>
                      <a:pt x="6653" y="14142"/>
                    </a:lnTo>
                    <a:lnTo>
                      <a:pt x="6492" y="13114"/>
                    </a:lnTo>
                    <a:lnTo>
                      <a:pt x="6525" y="11914"/>
                    </a:lnTo>
                    <a:lnTo>
                      <a:pt x="6621" y="10842"/>
                    </a:lnTo>
                    <a:lnTo>
                      <a:pt x="6942" y="9771"/>
                    </a:lnTo>
                    <a:lnTo>
                      <a:pt x="7457" y="8785"/>
                    </a:lnTo>
                    <a:lnTo>
                      <a:pt x="8003" y="805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Music"/>
              <p:cNvSpPr/>
              <p:nvPr/>
            </p:nvSpPr>
            <p:spPr>
              <a:xfrm>
                <a:off x="8048880" y="3607200"/>
                <a:ext cx="661680" cy="790560"/>
              </a:xfrm>
              <a:custGeom>
                <a:avLst/>
                <a:gdLst>
                  <a:gd name="textAreaLeft" fmla="*/ 244800 w 661680"/>
                  <a:gd name="textAreaRight" fmla="*/ 641160 w 661680"/>
                  <a:gd name="textAreaTop" fmla="*/ 33840 h 790560"/>
                  <a:gd name="textAreaBottom" fmla="*/ 196200 h 7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352" y="46"/>
                    </a:moveTo>
                    <a:lnTo>
                      <a:pt x="7373" y="9900"/>
                    </a:lnTo>
                    <a:lnTo>
                      <a:pt x="7352" y="16107"/>
                    </a:lnTo>
                    <a:lnTo>
                      <a:pt x="7103" y="15969"/>
                    </a:lnTo>
                    <a:lnTo>
                      <a:pt x="6729" y="15692"/>
                    </a:lnTo>
                    <a:lnTo>
                      <a:pt x="6355" y="15553"/>
                    </a:lnTo>
                    <a:lnTo>
                      <a:pt x="5981" y="15415"/>
                    </a:lnTo>
                    <a:lnTo>
                      <a:pt x="5607" y="15276"/>
                    </a:lnTo>
                    <a:lnTo>
                      <a:pt x="5109" y="15138"/>
                    </a:lnTo>
                    <a:lnTo>
                      <a:pt x="4735" y="15138"/>
                    </a:lnTo>
                    <a:lnTo>
                      <a:pt x="4236" y="15138"/>
                    </a:lnTo>
                    <a:lnTo>
                      <a:pt x="3364" y="15138"/>
                    </a:lnTo>
                    <a:lnTo>
                      <a:pt x="2616" y="15276"/>
                    </a:lnTo>
                    <a:lnTo>
                      <a:pt x="1869" y="15692"/>
                    </a:lnTo>
                    <a:lnTo>
                      <a:pt x="1246" y="15969"/>
                    </a:lnTo>
                    <a:lnTo>
                      <a:pt x="747" y="16523"/>
                    </a:lnTo>
                    <a:lnTo>
                      <a:pt x="373" y="17076"/>
                    </a:lnTo>
                    <a:lnTo>
                      <a:pt x="124" y="17630"/>
                    </a:lnTo>
                    <a:lnTo>
                      <a:pt x="0" y="18323"/>
                    </a:lnTo>
                    <a:lnTo>
                      <a:pt x="124" y="19015"/>
                    </a:lnTo>
                    <a:lnTo>
                      <a:pt x="373" y="19569"/>
                    </a:lnTo>
                    <a:lnTo>
                      <a:pt x="747" y="20123"/>
                    </a:lnTo>
                    <a:lnTo>
                      <a:pt x="1246" y="20676"/>
                    </a:lnTo>
                    <a:lnTo>
                      <a:pt x="1869" y="21092"/>
                    </a:lnTo>
                    <a:lnTo>
                      <a:pt x="2616" y="21369"/>
                    </a:lnTo>
                    <a:lnTo>
                      <a:pt x="3364" y="21507"/>
                    </a:lnTo>
                    <a:lnTo>
                      <a:pt x="4236" y="21646"/>
                    </a:lnTo>
                    <a:lnTo>
                      <a:pt x="5109" y="21507"/>
                    </a:lnTo>
                    <a:lnTo>
                      <a:pt x="5856" y="21369"/>
                    </a:lnTo>
                    <a:lnTo>
                      <a:pt x="6604" y="21092"/>
                    </a:lnTo>
                    <a:lnTo>
                      <a:pt x="7227" y="20676"/>
                    </a:lnTo>
                    <a:lnTo>
                      <a:pt x="7726" y="20123"/>
                    </a:lnTo>
                    <a:lnTo>
                      <a:pt x="8100" y="19569"/>
                    </a:lnTo>
                    <a:lnTo>
                      <a:pt x="8349" y="19015"/>
                    </a:lnTo>
                    <a:lnTo>
                      <a:pt x="8473" y="18323"/>
                    </a:lnTo>
                    <a:lnTo>
                      <a:pt x="8473" y="6276"/>
                    </a:lnTo>
                    <a:lnTo>
                      <a:pt x="20561" y="6276"/>
                    </a:lnTo>
                    <a:lnTo>
                      <a:pt x="20561" y="16107"/>
                    </a:lnTo>
                    <a:lnTo>
                      <a:pt x="20187" y="15830"/>
                    </a:lnTo>
                    <a:lnTo>
                      <a:pt x="19938" y="15692"/>
                    </a:lnTo>
                    <a:lnTo>
                      <a:pt x="19564" y="15553"/>
                    </a:lnTo>
                    <a:lnTo>
                      <a:pt x="19190" y="15415"/>
                    </a:lnTo>
                    <a:lnTo>
                      <a:pt x="18692" y="15276"/>
                    </a:lnTo>
                    <a:lnTo>
                      <a:pt x="18318" y="15138"/>
                    </a:lnTo>
                    <a:lnTo>
                      <a:pt x="17944" y="15138"/>
                    </a:lnTo>
                    <a:lnTo>
                      <a:pt x="17446" y="15138"/>
                    </a:lnTo>
                    <a:lnTo>
                      <a:pt x="16573" y="15138"/>
                    </a:lnTo>
                    <a:lnTo>
                      <a:pt x="15826" y="15276"/>
                    </a:lnTo>
                    <a:lnTo>
                      <a:pt x="15078" y="15692"/>
                    </a:lnTo>
                    <a:lnTo>
                      <a:pt x="14455" y="15969"/>
                    </a:lnTo>
                    <a:lnTo>
                      <a:pt x="13956" y="16523"/>
                    </a:lnTo>
                    <a:lnTo>
                      <a:pt x="13583" y="17076"/>
                    </a:lnTo>
                    <a:lnTo>
                      <a:pt x="13333" y="17630"/>
                    </a:lnTo>
                    <a:lnTo>
                      <a:pt x="13209" y="18323"/>
                    </a:lnTo>
                    <a:lnTo>
                      <a:pt x="13333" y="19015"/>
                    </a:lnTo>
                    <a:lnTo>
                      <a:pt x="13583" y="19569"/>
                    </a:lnTo>
                    <a:lnTo>
                      <a:pt x="13956" y="20123"/>
                    </a:lnTo>
                    <a:lnTo>
                      <a:pt x="14455" y="20676"/>
                    </a:lnTo>
                    <a:lnTo>
                      <a:pt x="15078" y="21092"/>
                    </a:lnTo>
                    <a:lnTo>
                      <a:pt x="15826" y="21369"/>
                    </a:lnTo>
                    <a:lnTo>
                      <a:pt x="16573" y="21507"/>
                    </a:lnTo>
                    <a:lnTo>
                      <a:pt x="17446" y="21646"/>
                    </a:lnTo>
                    <a:lnTo>
                      <a:pt x="18318" y="21507"/>
                    </a:lnTo>
                    <a:lnTo>
                      <a:pt x="19066" y="21369"/>
                    </a:lnTo>
                    <a:lnTo>
                      <a:pt x="19813" y="21092"/>
                    </a:lnTo>
                    <a:lnTo>
                      <a:pt x="20436" y="20676"/>
                    </a:lnTo>
                    <a:lnTo>
                      <a:pt x="20935" y="20123"/>
                    </a:lnTo>
                    <a:lnTo>
                      <a:pt x="21309" y="19569"/>
                    </a:lnTo>
                    <a:lnTo>
                      <a:pt x="21558" y="19015"/>
                    </a:lnTo>
                    <a:lnTo>
                      <a:pt x="21683" y="18323"/>
                    </a:lnTo>
                    <a:lnTo>
                      <a:pt x="21683" y="10061"/>
                    </a:lnTo>
                    <a:lnTo>
                      <a:pt x="21683" y="46"/>
                    </a:lnTo>
                    <a:lnTo>
                      <a:pt x="7352" y="4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computr3"/>
            <p:cNvSpPr/>
            <p:nvPr/>
          </p:nvSpPr>
          <p:spPr>
            <a:xfrm>
              <a:off x="6477120" y="3200040"/>
              <a:ext cx="1339200" cy="1219320"/>
            </a:xfrm>
            <a:custGeom>
              <a:avLst/>
              <a:gdLst>
                <a:gd name="textAreaLeft" fmla="*/ 483480 w 1339200"/>
                <a:gd name="textAreaRight" fmla="*/ 1014840 w 1339200"/>
                <a:gd name="textAreaTop" fmla="*/ 145080 h 1219320"/>
                <a:gd name="textAreaBottom" fmla="*/ 66420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250" y="17743"/>
                  </a:moveTo>
                  <a:lnTo>
                    <a:pt x="17557" y="16971"/>
                  </a:lnTo>
                  <a:lnTo>
                    <a:pt x="5429" y="16971"/>
                  </a:lnTo>
                  <a:lnTo>
                    <a:pt x="4736" y="17743"/>
                  </a:lnTo>
                  <a:lnTo>
                    <a:pt x="18250" y="17743"/>
                  </a:lnTo>
                  <a:close/>
                </a:path>
                <a:path w="21600" h="21600">
                  <a:moveTo>
                    <a:pt x="18250" y="17743"/>
                  </a:moveTo>
                  <a:moveTo>
                    <a:pt x="19405" y="19131"/>
                  </a:moveTo>
                  <a:lnTo>
                    <a:pt x="18712" y="18360"/>
                  </a:lnTo>
                  <a:lnTo>
                    <a:pt x="4274" y="18360"/>
                  </a:lnTo>
                  <a:lnTo>
                    <a:pt x="3581" y="19131"/>
                  </a:lnTo>
                  <a:lnTo>
                    <a:pt x="19405" y="19131"/>
                  </a:lnTo>
                  <a:close/>
                </a:path>
                <a:path w="21600" h="21600">
                  <a:moveTo>
                    <a:pt x="19405" y="19131"/>
                  </a:moveTo>
                  <a:moveTo>
                    <a:pt x="20560" y="20520"/>
                  </a:moveTo>
                  <a:lnTo>
                    <a:pt x="19867" y="19749"/>
                  </a:lnTo>
                  <a:lnTo>
                    <a:pt x="3119" y="19749"/>
                  </a:lnTo>
                  <a:lnTo>
                    <a:pt x="2426" y="20520"/>
                  </a:lnTo>
                  <a:lnTo>
                    <a:pt x="20560" y="20520"/>
                  </a:lnTo>
                  <a:close/>
                </a:path>
                <a:path w="21600" h="21600">
                  <a:moveTo>
                    <a:pt x="20560" y="20520"/>
                  </a:moveTo>
                  <a:moveTo>
                    <a:pt x="4620" y="16971"/>
                  </a:moveTo>
                  <a:lnTo>
                    <a:pt x="5313" y="16200"/>
                  </a:lnTo>
                  <a:lnTo>
                    <a:pt x="7624" y="16200"/>
                  </a:lnTo>
                  <a:lnTo>
                    <a:pt x="7624" y="14194"/>
                  </a:lnTo>
                  <a:lnTo>
                    <a:pt x="5891" y="14194"/>
                  </a:lnTo>
                  <a:lnTo>
                    <a:pt x="5891" y="0"/>
                  </a:lnTo>
                  <a:lnTo>
                    <a:pt x="12013" y="0"/>
                  </a:lnTo>
                  <a:lnTo>
                    <a:pt x="18135" y="0"/>
                  </a:lnTo>
                  <a:lnTo>
                    <a:pt x="18135" y="10800"/>
                  </a:lnTo>
                  <a:lnTo>
                    <a:pt x="18135" y="14194"/>
                  </a:lnTo>
                  <a:lnTo>
                    <a:pt x="16402" y="14194"/>
                  </a:lnTo>
                  <a:lnTo>
                    <a:pt x="16402" y="16200"/>
                  </a:lnTo>
                  <a:lnTo>
                    <a:pt x="17788" y="16200"/>
                  </a:lnTo>
                  <a:lnTo>
                    <a:pt x="19059" y="17743"/>
                  </a:lnTo>
                  <a:lnTo>
                    <a:pt x="21022" y="19903"/>
                  </a:lnTo>
                  <a:lnTo>
                    <a:pt x="21253" y="20057"/>
                  </a:lnTo>
                  <a:lnTo>
                    <a:pt x="21369" y="20366"/>
                  </a:lnTo>
                  <a:lnTo>
                    <a:pt x="21600" y="20674"/>
                  </a:lnTo>
                  <a:lnTo>
                    <a:pt x="21600" y="20829"/>
                  </a:lnTo>
                  <a:lnTo>
                    <a:pt x="21600" y="20983"/>
                  </a:lnTo>
                  <a:lnTo>
                    <a:pt x="21600" y="21137"/>
                  </a:lnTo>
                  <a:lnTo>
                    <a:pt x="21600" y="21291"/>
                  </a:lnTo>
                  <a:lnTo>
                    <a:pt x="21484" y="21446"/>
                  </a:lnTo>
                  <a:lnTo>
                    <a:pt x="21369" y="21446"/>
                  </a:lnTo>
                  <a:lnTo>
                    <a:pt x="21138" y="21600"/>
                  </a:lnTo>
                  <a:lnTo>
                    <a:pt x="21022" y="21600"/>
                  </a:lnTo>
                  <a:lnTo>
                    <a:pt x="10973" y="21600"/>
                  </a:lnTo>
                  <a:lnTo>
                    <a:pt x="2079" y="21600"/>
                  </a:lnTo>
                  <a:lnTo>
                    <a:pt x="1848" y="21600"/>
                  </a:lnTo>
                  <a:lnTo>
                    <a:pt x="1733" y="21446"/>
                  </a:lnTo>
                  <a:lnTo>
                    <a:pt x="1617" y="21446"/>
                  </a:lnTo>
                  <a:lnTo>
                    <a:pt x="1502" y="21291"/>
                  </a:lnTo>
                  <a:lnTo>
                    <a:pt x="1386" y="21291"/>
                  </a:lnTo>
                  <a:lnTo>
                    <a:pt x="1386" y="21137"/>
                  </a:lnTo>
                  <a:lnTo>
                    <a:pt x="1386" y="20983"/>
                  </a:lnTo>
                  <a:lnTo>
                    <a:pt x="1386" y="20829"/>
                  </a:lnTo>
                  <a:lnTo>
                    <a:pt x="1502" y="20674"/>
                  </a:lnTo>
                  <a:lnTo>
                    <a:pt x="1617" y="20366"/>
                  </a:lnTo>
                  <a:lnTo>
                    <a:pt x="1733" y="20057"/>
                  </a:lnTo>
                  <a:lnTo>
                    <a:pt x="1964" y="19903"/>
                  </a:lnTo>
                  <a:lnTo>
                    <a:pt x="0" y="19903"/>
                  </a:lnTo>
                  <a:lnTo>
                    <a:pt x="0" y="10800"/>
                  </a:lnTo>
                  <a:lnTo>
                    <a:pt x="0" y="2777"/>
                  </a:lnTo>
                  <a:lnTo>
                    <a:pt x="4620" y="2777"/>
                  </a:lnTo>
                  <a:lnTo>
                    <a:pt x="4620" y="16971"/>
                  </a:lnTo>
                  <a:moveTo>
                    <a:pt x="4620" y="16971"/>
                  </a:moveTo>
                  <a:moveTo>
                    <a:pt x="4620" y="16971"/>
                  </a:moveTo>
                  <a:lnTo>
                    <a:pt x="4158" y="17434"/>
                  </a:lnTo>
                  <a:lnTo>
                    <a:pt x="2541" y="19286"/>
                  </a:lnTo>
                  <a:lnTo>
                    <a:pt x="1964" y="19903"/>
                  </a:lnTo>
                  <a:lnTo>
                    <a:pt x="4620" y="16971"/>
                  </a:lnTo>
                  <a:close/>
                </a:path>
                <a:path w="21600" h="21600">
                  <a:moveTo>
                    <a:pt x="7624" y="2314"/>
                  </a:moveTo>
                  <a:moveTo>
                    <a:pt x="16402" y="2314"/>
                  </a:moveTo>
                  <a:lnTo>
                    <a:pt x="16402" y="11880"/>
                  </a:lnTo>
                  <a:lnTo>
                    <a:pt x="7624" y="11880"/>
                  </a:lnTo>
                  <a:lnTo>
                    <a:pt x="7624" y="2314"/>
                  </a:lnTo>
                  <a:lnTo>
                    <a:pt x="16402" y="2314"/>
                  </a:lnTo>
                  <a:close/>
                </a:path>
                <a:path w="21600" h="21600">
                  <a:moveTo>
                    <a:pt x="578" y="4011"/>
                  </a:moveTo>
                  <a:moveTo>
                    <a:pt x="4043" y="4011"/>
                  </a:moveTo>
                  <a:lnTo>
                    <a:pt x="4043" y="4320"/>
                  </a:lnTo>
                  <a:lnTo>
                    <a:pt x="578" y="4320"/>
                  </a:lnTo>
                  <a:lnTo>
                    <a:pt x="578" y="4011"/>
                  </a:lnTo>
                  <a:lnTo>
                    <a:pt x="4043" y="4011"/>
                  </a:lnTo>
                  <a:close/>
                  <a:moveTo>
                    <a:pt x="7624" y="14194"/>
                  </a:moveTo>
                  <a:lnTo>
                    <a:pt x="16402" y="14194"/>
                  </a:lnTo>
                  <a:lnTo>
                    <a:pt x="16402" y="16200"/>
                  </a:lnTo>
                  <a:lnTo>
                    <a:pt x="7624" y="162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457200" y="4419720"/>
            <a:ext cx="8229240" cy="1447200"/>
            <a:chOff x="457200" y="4419720"/>
            <a:chExt cx="8229240" cy="1447200"/>
          </a:xfrm>
        </p:grpSpPr>
        <p:sp>
          <p:nvSpPr>
            <p:cNvPr id="53" name="Rectangle 12"/>
            <p:cNvSpPr/>
            <p:nvPr/>
          </p:nvSpPr>
          <p:spPr>
            <a:xfrm>
              <a:off x="457200" y="4419720"/>
              <a:ext cx="8229240" cy="10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3"/>
            <p:cNvSpPr/>
            <p:nvPr/>
          </p:nvSpPr>
          <p:spPr>
            <a:xfrm>
              <a:off x="4375440" y="4522680"/>
              <a:ext cx="395640" cy="13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8" descr=""/>
          <p:cNvPicPr/>
          <p:nvPr/>
        </p:nvPicPr>
        <p:blipFill>
          <a:blip r:embed="rId1"/>
          <a:srcRect l="0" t="0" r="0" b="2563"/>
          <a:stretch/>
        </p:blipFill>
        <p:spPr>
          <a:xfrm>
            <a:off x="685800" y="2286000"/>
            <a:ext cx="1865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2"/>
          <p:cNvSpPr/>
          <p:nvPr/>
        </p:nvSpPr>
        <p:spPr>
          <a:xfrm>
            <a:off x="7162920" y="3352680"/>
            <a:ext cx="1600200" cy="1219320"/>
          </a:xfrm>
          <a:prstGeom prst="rect">
            <a:avLst/>
          </a:prstGeom>
          <a:solidFill>
            <a:srgbClr val="0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7162920" y="5181480"/>
            <a:ext cx="1600200" cy="1219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Barvna kompozicija predstavit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152280" y="2057040"/>
            <a:ext cx="3809880" cy="3278160"/>
            <a:chOff x="152280" y="2057040"/>
            <a:chExt cx="3809880" cy="3278160"/>
          </a:xfrm>
        </p:grpSpPr>
        <p:sp>
          <p:nvSpPr>
            <p:cNvPr id="60" name="AutoShape 5"/>
            <p:cNvSpPr/>
            <p:nvPr/>
          </p:nvSpPr>
          <p:spPr>
            <a:xfrm>
              <a:off x="1104480" y="3701520"/>
              <a:ext cx="1899000" cy="16326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6"/>
            <p:cNvSpPr/>
            <p:nvPr/>
          </p:nvSpPr>
          <p:spPr>
            <a:xfrm flipH="1" flipV="1">
              <a:off x="1103400" y="2056680"/>
              <a:ext cx="1899000" cy="1632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7"/>
            <p:cNvSpPr/>
            <p:nvPr/>
          </p:nvSpPr>
          <p:spPr>
            <a:xfrm rot="3599400">
              <a:off x="394200" y="3285720"/>
              <a:ext cx="1887480" cy="1642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8"/>
            <p:cNvSpPr/>
            <p:nvPr/>
          </p:nvSpPr>
          <p:spPr>
            <a:xfrm>
              <a:off x="152280" y="2057400"/>
              <a:ext cx="1899360" cy="1632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9"/>
            <p:cNvSpPr/>
            <p:nvPr/>
          </p:nvSpPr>
          <p:spPr>
            <a:xfrm>
              <a:off x="2062800" y="2057400"/>
              <a:ext cx="1899360" cy="1632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flipH="1" rot="18000600">
              <a:off x="1827720" y="3285720"/>
              <a:ext cx="1887480" cy="16426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1"/>
          <p:cNvSpPr/>
          <p:nvPr/>
        </p:nvSpPr>
        <p:spPr>
          <a:xfrm>
            <a:off x="4876920" y="1523880"/>
            <a:ext cx="1600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6600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7238880" y="1523880"/>
            <a:ext cx="17528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cc00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2"/>
          <p:cNvGrpSpPr/>
          <p:nvPr/>
        </p:nvGrpSpPr>
        <p:grpSpPr>
          <a:xfrm>
            <a:off x="4876920" y="5105520"/>
            <a:ext cx="1600200" cy="1352160"/>
            <a:chOff x="4876920" y="5105520"/>
            <a:chExt cx="1600200" cy="1352160"/>
          </a:xfrm>
        </p:grpSpPr>
        <p:sp>
          <p:nvSpPr>
            <p:cNvPr id="69" name="Rectangle 30"/>
            <p:cNvSpPr/>
            <p:nvPr/>
          </p:nvSpPr>
          <p:spPr>
            <a:xfrm>
              <a:off x="4876920" y="5181480"/>
              <a:ext cx="1600200" cy="1219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4876920" y="5105520"/>
              <a:ext cx="1600200" cy="13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4000" spc="-1" strike="noStrike">
                  <a:solidFill>
                    <a:srgbClr val="006600"/>
                  </a:solidFill>
                  <a:latin typeface="Calibri"/>
                </a:rPr>
                <a:t>Naslo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0099cc"/>
                  </a:solidFill>
                  <a:latin typeface="Calibri"/>
                </a:rPr>
                <a:t>besedi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4"/>
          <p:cNvSpPr/>
          <p:nvPr/>
        </p:nvSpPr>
        <p:spPr>
          <a:xfrm>
            <a:off x="7162920" y="5105520"/>
            <a:ext cx="17524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cc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00ff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172200" y="2361960"/>
            <a:ext cx="579600" cy="609840"/>
            <a:chOff x="6172200" y="2361960"/>
            <a:chExt cx="579600" cy="609840"/>
          </a:xfrm>
        </p:grpSpPr>
        <p:sp>
          <p:nvSpPr>
            <p:cNvPr id="73" name="Line 16"/>
            <p:cNvSpPr/>
            <p:nvPr/>
          </p:nvSpPr>
          <p:spPr>
            <a:xfrm>
              <a:off x="6172200" y="2819520"/>
              <a:ext cx="22860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 flipV="1">
              <a:off x="6400800" y="2361960"/>
              <a:ext cx="351000" cy="609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8"/>
          <p:cNvGrpSpPr/>
          <p:nvPr/>
        </p:nvGrpSpPr>
        <p:grpSpPr>
          <a:xfrm>
            <a:off x="7162920" y="1523880"/>
            <a:ext cx="1828800" cy="1371600"/>
            <a:chOff x="7162920" y="1523880"/>
            <a:chExt cx="1828800" cy="1371600"/>
          </a:xfrm>
        </p:grpSpPr>
        <p:sp>
          <p:nvSpPr>
            <p:cNvPr id="76" name="Line 19"/>
            <p:cNvSpPr/>
            <p:nvPr/>
          </p:nvSpPr>
          <p:spPr>
            <a:xfrm>
              <a:off x="7162920" y="1523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 flipH="1">
              <a:off x="7162920" y="1523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4"/>
          <p:cNvGrpSpPr/>
          <p:nvPr/>
        </p:nvGrpSpPr>
        <p:grpSpPr>
          <a:xfrm>
            <a:off x="7010280" y="5105520"/>
            <a:ext cx="1828800" cy="1371600"/>
            <a:chOff x="7010280" y="5105520"/>
            <a:chExt cx="1828800" cy="1371600"/>
          </a:xfrm>
        </p:grpSpPr>
        <p:sp>
          <p:nvSpPr>
            <p:cNvPr id="79" name="Line 25"/>
            <p:cNvSpPr/>
            <p:nvPr/>
          </p:nvSpPr>
          <p:spPr>
            <a:xfrm>
              <a:off x="7010280" y="510552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6"/>
            <p:cNvSpPr/>
            <p:nvPr/>
          </p:nvSpPr>
          <p:spPr>
            <a:xfrm flipH="1">
              <a:off x="7010280" y="510552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7"/>
          <p:cNvGrpSpPr/>
          <p:nvPr/>
        </p:nvGrpSpPr>
        <p:grpSpPr>
          <a:xfrm>
            <a:off x="6172200" y="6019560"/>
            <a:ext cx="579600" cy="609840"/>
            <a:chOff x="6172200" y="6019560"/>
            <a:chExt cx="579600" cy="609840"/>
          </a:xfrm>
        </p:grpSpPr>
        <p:sp>
          <p:nvSpPr>
            <p:cNvPr id="82" name="Line 28"/>
            <p:cNvSpPr/>
            <p:nvPr/>
          </p:nvSpPr>
          <p:spPr>
            <a:xfrm>
              <a:off x="6172200" y="6477120"/>
              <a:ext cx="22860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 flipV="1">
              <a:off x="6400800" y="6019560"/>
              <a:ext cx="351000" cy="609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1"/>
          <p:cNvSpPr/>
          <p:nvPr/>
        </p:nvSpPr>
        <p:spPr>
          <a:xfrm>
            <a:off x="7162920" y="3276720"/>
            <a:ext cx="1600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ff33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3"/>
          <p:cNvGrpSpPr/>
          <p:nvPr/>
        </p:nvGrpSpPr>
        <p:grpSpPr>
          <a:xfrm>
            <a:off x="8381880" y="4266720"/>
            <a:ext cx="579600" cy="609840"/>
            <a:chOff x="8381880" y="4266720"/>
            <a:chExt cx="579600" cy="609840"/>
          </a:xfrm>
        </p:grpSpPr>
        <p:sp>
          <p:nvSpPr>
            <p:cNvPr id="86" name="Line 34"/>
            <p:cNvSpPr/>
            <p:nvPr/>
          </p:nvSpPr>
          <p:spPr>
            <a:xfrm>
              <a:off x="8381880" y="4724280"/>
              <a:ext cx="22860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5"/>
            <p:cNvSpPr/>
            <p:nvPr/>
          </p:nvSpPr>
          <p:spPr>
            <a:xfrm flipV="1">
              <a:off x="8610480" y="4266720"/>
              <a:ext cx="351000" cy="609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1"/>
          <p:cNvGrpSpPr/>
          <p:nvPr/>
        </p:nvGrpSpPr>
        <p:grpSpPr>
          <a:xfrm>
            <a:off x="4800600" y="3276720"/>
            <a:ext cx="1828800" cy="1371600"/>
            <a:chOff x="4800600" y="3276720"/>
            <a:chExt cx="1828800" cy="1371600"/>
          </a:xfrm>
        </p:grpSpPr>
        <p:sp>
          <p:nvSpPr>
            <p:cNvPr id="89" name="Rectangle 36"/>
            <p:cNvSpPr/>
            <p:nvPr/>
          </p:nvSpPr>
          <p:spPr>
            <a:xfrm>
              <a:off x="4876920" y="3352680"/>
              <a:ext cx="1600200" cy="1219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7"/>
            <p:cNvSpPr/>
            <p:nvPr/>
          </p:nvSpPr>
          <p:spPr>
            <a:xfrm>
              <a:off x="4876920" y="3276720"/>
              <a:ext cx="1600200" cy="13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4000" spc="-1" strike="noStrike">
                  <a:solidFill>
                    <a:srgbClr val="ff9900"/>
                  </a:solidFill>
                  <a:latin typeface="Calibri"/>
                </a:rPr>
                <a:t>Naslo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99ff66"/>
                  </a:solidFill>
                  <a:latin typeface="Calibri"/>
                </a:rPr>
                <a:t>besedi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8"/>
            <p:cNvGrpSpPr/>
            <p:nvPr/>
          </p:nvGrpSpPr>
          <p:grpSpPr>
            <a:xfrm>
              <a:off x="4800600" y="3276720"/>
              <a:ext cx="1828800" cy="1371600"/>
              <a:chOff x="4800600" y="3276720"/>
              <a:chExt cx="1828800" cy="1371600"/>
            </a:xfrm>
          </p:grpSpPr>
          <p:sp>
            <p:nvSpPr>
              <p:cNvPr id="92" name="Line 39"/>
              <p:cNvSpPr/>
              <p:nvPr/>
            </p:nvSpPr>
            <p:spPr>
              <a:xfrm>
                <a:off x="4800600" y="3276720"/>
                <a:ext cx="1828800" cy="1371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4800600" y="3276720"/>
                <a:ext cx="1828800" cy="1371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990000"/>
                </a:solidFill>
                <a:latin typeface="Calibri"/>
              </a:rPr>
              <a:t>Oblika dobre prosoj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Velikost črk: naslovi 36 – 40, besedilo 24 – 2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Dobre pisave: Calibri, </a:t>
            </a:r>
            <a:r>
              <a:rPr b="0" lang="sl-SI" sz="2600" spc="-1" strike="noStrike">
                <a:solidFill>
                  <a:srgbClr val="ea5f00"/>
                </a:solidFill>
                <a:latin typeface="Tahoma"/>
              </a:rPr>
              <a:t>Tahom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Verdana"/>
              </a:rPr>
              <a:t>Verdan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Trebuchet MS"/>
              </a:rPr>
              <a:t>Trebuchet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Manj primerne pisave: </a:t>
            </a:r>
            <a:r>
              <a:rPr b="0" lang="sl-SI" sz="2600" spc="-1" strike="noStrike">
                <a:solidFill>
                  <a:srgbClr val="ea5f00"/>
                </a:solidFill>
                <a:latin typeface="Times New Roman"/>
              </a:rPr>
              <a:t>Times New Roman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Arial"/>
              </a:rPr>
              <a:t>Arial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300" spc="-1" strike="noStrike">
                <a:solidFill>
                  <a:srgbClr val="ea5f00"/>
                </a:solidFill>
                <a:latin typeface="Ravie"/>
              </a:rPr>
              <a:t>Ravie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Harrington"/>
              </a:rPr>
              <a:t>Harrington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Palatino"/>
              </a:rPr>
              <a:t>Palatino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ff0000"/>
                </a:solidFill>
                <a:latin typeface="Calibri"/>
              </a:rPr>
              <a:t>Krepka pisav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 – izjemo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600" spc="-1" strike="noStrike">
                <a:solidFill>
                  <a:srgbClr val="ff0000"/>
                </a:solidFill>
                <a:latin typeface="Calibri"/>
              </a:rPr>
              <a:t>Poševna pisav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 – razlikovanje pojmov, citati, novi izrazi, fizikalne količ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Število alinej na stran – 6 do 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a50021"/>
                </a:solidFill>
                <a:latin typeface="Calibri"/>
              </a:rPr>
              <a:t>Postavitev slik in fotograf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Laser_in_fibre"/>
          <p:cNvPicPr/>
          <p:nvPr/>
        </p:nvPicPr>
        <p:blipFill>
          <a:blip r:embed="rId1"/>
          <a:srcRect l="0" t="14059" r="7216" b="15652"/>
          <a:stretch/>
        </p:blipFill>
        <p:spPr>
          <a:xfrm>
            <a:off x="838080" y="2014560"/>
            <a:ext cx="4114800" cy="29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312408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Picture 7" descr=""/>
          <p:cNvPicPr/>
          <p:nvPr/>
        </p:nvPicPr>
        <p:blipFill>
          <a:blip r:embed="rId3"/>
          <a:srcRect l="0" t="8882" r="0" b="9701"/>
          <a:stretch/>
        </p:blipFill>
        <p:spPr>
          <a:xfrm>
            <a:off x="6095880" y="1295280"/>
            <a:ext cx="228600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Struktura predstavit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uvodnik – napove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zastavitev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za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točka pre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raz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sklep in zahv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57200" y="5410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0000"/>
                </a:solidFill>
                <a:latin typeface="Calibri"/>
              </a:rPr>
              <a:t>Časovna razporeditev: cca. 1 – 2 prosojnici /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9900"/>
                </a:solidFill>
                <a:latin typeface="Calibri"/>
              </a:rPr>
              <a:t>Primer predstavitve – preverjanje Hookovega zak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"/>
          <p:cNvPicPr/>
          <p:nvPr/>
        </p:nvPicPr>
        <p:blipFill>
          <a:blip r:embed="rId1"/>
          <a:srcRect l="0" t="0" r="0" b="4163"/>
          <a:stretch/>
        </p:blipFill>
        <p:spPr>
          <a:xfrm>
            <a:off x="6400800" y="1523880"/>
            <a:ext cx="233856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05" name="Group 67"/>
          <p:cNvGrpSpPr/>
          <p:nvPr/>
        </p:nvGrpSpPr>
        <p:grpSpPr>
          <a:xfrm>
            <a:off x="990720" y="1752480"/>
            <a:ext cx="3962160" cy="4648320"/>
            <a:chOff x="990720" y="1752480"/>
            <a:chExt cx="3962160" cy="4648320"/>
          </a:xfrm>
        </p:grpSpPr>
        <p:sp>
          <p:nvSpPr>
            <p:cNvPr id="106" name="Rectangle 7"/>
            <p:cNvSpPr/>
            <p:nvPr/>
          </p:nvSpPr>
          <p:spPr>
            <a:xfrm>
              <a:off x="990720" y="1752480"/>
              <a:ext cx="3962160" cy="76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3"/>
            <p:cNvGrpSpPr/>
            <p:nvPr/>
          </p:nvGrpSpPr>
          <p:grpSpPr>
            <a:xfrm>
              <a:off x="1447920" y="1828800"/>
              <a:ext cx="380880" cy="1218960"/>
              <a:chOff x="1447920" y="1828800"/>
              <a:chExt cx="380880" cy="1218960"/>
            </a:xfrm>
          </p:grpSpPr>
          <p:grpSp>
            <p:nvGrpSpPr>
              <p:cNvPr id="108" name="Group 10"/>
              <p:cNvGrpSpPr/>
              <p:nvPr/>
            </p:nvGrpSpPr>
            <p:grpSpPr>
              <a:xfrm>
                <a:off x="1447920" y="2072520"/>
                <a:ext cx="380880" cy="243720"/>
                <a:chOff x="1447920" y="2072520"/>
                <a:chExt cx="380880" cy="243720"/>
              </a:xfrm>
            </p:grpSpPr>
            <p:sp>
              <p:nvSpPr>
                <p:cNvPr id="109" name="Line 8"/>
                <p:cNvSpPr/>
                <p:nvPr/>
              </p:nvSpPr>
              <p:spPr>
                <a:xfrm flipH="1">
                  <a:off x="1447920" y="207252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1447920" y="219420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11"/>
              <p:cNvGrpSpPr/>
              <p:nvPr/>
            </p:nvGrpSpPr>
            <p:grpSpPr>
              <a:xfrm>
                <a:off x="1447920" y="2316240"/>
                <a:ext cx="380880" cy="243720"/>
                <a:chOff x="1447920" y="2316240"/>
                <a:chExt cx="380880" cy="243720"/>
              </a:xfrm>
            </p:grpSpPr>
            <p:sp>
              <p:nvSpPr>
                <p:cNvPr id="112" name="Line 12"/>
                <p:cNvSpPr/>
                <p:nvPr/>
              </p:nvSpPr>
              <p:spPr>
                <a:xfrm flipH="1">
                  <a:off x="1447920" y="231624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1447920" y="243792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4"/>
              <p:cNvGrpSpPr/>
              <p:nvPr/>
            </p:nvGrpSpPr>
            <p:grpSpPr>
              <a:xfrm>
                <a:off x="1447920" y="2559960"/>
                <a:ext cx="380880" cy="243720"/>
                <a:chOff x="1447920" y="2559960"/>
                <a:chExt cx="380880" cy="243720"/>
              </a:xfrm>
            </p:grpSpPr>
            <p:sp>
              <p:nvSpPr>
                <p:cNvPr id="115" name="Line 15"/>
                <p:cNvSpPr/>
                <p:nvPr/>
              </p:nvSpPr>
              <p:spPr>
                <a:xfrm flipH="1">
                  <a:off x="1447920" y="255996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1447920" y="268164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7"/>
              <p:cNvGrpSpPr/>
              <p:nvPr/>
            </p:nvGrpSpPr>
            <p:grpSpPr>
              <a:xfrm>
                <a:off x="1447920" y="2804040"/>
                <a:ext cx="380880" cy="243720"/>
                <a:chOff x="1447920" y="2804040"/>
                <a:chExt cx="380880" cy="243720"/>
              </a:xfrm>
            </p:grpSpPr>
            <p:sp>
              <p:nvSpPr>
                <p:cNvPr id="118" name="Line 18"/>
                <p:cNvSpPr/>
                <p:nvPr/>
              </p:nvSpPr>
              <p:spPr>
                <a:xfrm flipH="1">
                  <a:off x="1447920" y="280404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1447920" y="292572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0"/>
              <p:cNvGrpSpPr/>
              <p:nvPr/>
            </p:nvGrpSpPr>
            <p:grpSpPr>
              <a:xfrm>
                <a:off x="1447920" y="1828800"/>
                <a:ext cx="380880" cy="243720"/>
                <a:chOff x="1447920" y="1828800"/>
                <a:chExt cx="380880" cy="243720"/>
              </a:xfrm>
            </p:grpSpPr>
            <p:sp>
              <p:nvSpPr>
                <p:cNvPr id="121" name="Line 21"/>
                <p:cNvSpPr/>
                <p:nvPr/>
              </p:nvSpPr>
              <p:spPr>
                <a:xfrm flipH="1">
                  <a:off x="1447920" y="182880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1447920" y="195048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24"/>
            <p:cNvGrpSpPr/>
            <p:nvPr/>
          </p:nvGrpSpPr>
          <p:grpSpPr>
            <a:xfrm>
              <a:off x="2743200" y="1828800"/>
              <a:ext cx="380880" cy="2361240"/>
              <a:chOff x="2743200" y="1828800"/>
              <a:chExt cx="380880" cy="2361240"/>
            </a:xfrm>
          </p:grpSpPr>
          <p:grpSp>
            <p:nvGrpSpPr>
              <p:cNvPr id="124" name="Group 25"/>
              <p:cNvGrpSpPr/>
              <p:nvPr/>
            </p:nvGrpSpPr>
            <p:grpSpPr>
              <a:xfrm>
                <a:off x="2743200" y="2301120"/>
                <a:ext cx="380880" cy="471960"/>
                <a:chOff x="2743200" y="2301120"/>
                <a:chExt cx="380880" cy="471960"/>
              </a:xfrm>
            </p:grpSpPr>
            <p:sp>
              <p:nvSpPr>
                <p:cNvPr id="125" name="Line 26"/>
                <p:cNvSpPr/>
                <p:nvPr/>
              </p:nvSpPr>
              <p:spPr>
                <a:xfrm flipH="1">
                  <a:off x="2743200" y="230112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7"/>
                <p:cNvSpPr/>
                <p:nvPr/>
              </p:nvSpPr>
              <p:spPr>
                <a:xfrm>
                  <a:off x="2743200" y="253692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28"/>
              <p:cNvGrpSpPr/>
              <p:nvPr/>
            </p:nvGrpSpPr>
            <p:grpSpPr>
              <a:xfrm>
                <a:off x="2743200" y="2773440"/>
                <a:ext cx="380880" cy="471960"/>
                <a:chOff x="2743200" y="2773440"/>
                <a:chExt cx="380880" cy="471960"/>
              </a:xfrm>
            </p:grpSpPr>
            <p:sp>
              <p:nvSpPr>
                <p:cNvPr id="128" name="Line 29"/>
                <p:cNvSpPr/>
                <p:nvPr/>
              </p:nvSpPr>
              <p:spPr>
                <a:xfrm flipH="1">
                  <a:off x="2743200" y="277344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30"/>
                <p:cNvSpPr/>
                <p:nvPr/>
              </p:nvSpPr>
              <p:spPr>
                <a:xfrm>
                  <a:off x="2743200" y="300924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31"/>
              <p:cNvGrpSpPr/>
              <p:nvPr/>
            </p:nvGrpSpPr>
            <p:grpSpPr>
              <a:xfrm>
                <a:off x="2743200" y="3245760"/>
                <a:ext cx="380880" cy="471960"/>
                <a:chOff x="2743200" y="3245760"/>
                <a:chExt cx="380880" cy="471960"/>
              </a:xfrm>
            </p:grpSpPr>
            <p:sp>
              <p:nvSpPr>
                <p:cNvPr id="131" name="Line 32"/>
                <p:cNvSpPr/>
                <p:nvPr/>
              </p:nvSpPr>
              <p:spPr>
                <a:xfrm flipH="1">
                  <a:off x="2743200" y="324576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3"/>
                <p:cNvSpPr/>
                <p:nvPr/>
              </p:nvSpPr>
              <p:spPr>
                <a:xfrm>
                  <a:off x="2743200" y="348156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34"/>
              <p:cNvGrpSpPr/>
              <p:nvPr/>
            </p:nvGrpSpPr>
            <p:grpSpPr>
              <a:xfrm>
                <a:off x="2743200" y="3718080"/>
                <a:ext cx="380880" cy="471960"/>
                <a:chOff x="2743200" y="3718080"/>
                <a:chExt cx="380880" cy="471960"/>
              </a:xfrm>
            </p:grpSpPr>
            <p:sp>
              <p:nvSpPr>
                <p:cNvPr id="134" name="Line 35"/>
                <p:cNvSpPr/>
                <p:nvPr/>
              </p:nvSpPr>
              <p:spPr>
                <a:xfrm flipH="1">
                  <a:off x="2743200" y="371808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6"/>
                <p:cNvSpPr/>
                <p:nvPr/>
              </p:nvSpPr>
              <p:spPr>
                <a:xfrm>
                  <a:off x="2743200" y="395388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37"/>
              <p:cNvGrpSpPr/>
              <p:nvPr/>
            </p:nvGrpSpPr>
            <p:grpSpPr>
              <a:xfrm>
                <a:off x="2743200" y="1828800"/>
                <a:ext cx="380880" cy="471960"/>
                <a:chOff x="2743200" y="1828800"/>
                <a:chExt cx="380880" cy="471960"/>
              </a:xfrm>
            </p:grpSpPr>
            <p:sp>
              <p:nvSpPr>
                <p:cNvPr id="137" name="Line 38"/>
                <p:cNvSpPr/>
                <p:nvPr/>
              </p:nvSpPr>
              <p:spPr>
                <a:xfrm flipH="1">
                  <a:off x="2743200" y="182880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9"/>
                <p:cNvSpPr/>
                <p:nvPr/>
              </p:nvSpPr>
              <p:spPr>
                <a:xfrm>
                  <a:off x="2743200" y="206460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40"/>
            <p:cNvGrpSpPr/>
            <p:nvPr/>
          </p:nvGrpSpPr>
          <p:grpSpPr>
            <a:xfrm>
              <a:off x="4114800" y="1828800"/>
              <a:ext cx="380880" cy="3428640"/>
              <a:chOff x="4114800" y="1828800"/>
              <a:chExt cx="380880" cy="3428640"/>
            </a:xfrm>
          </p:grpSpPr>
          <p:grpSp>
            <p:nvGrpSpPr>
              <p:cNvPr id="140" name="Group 41"/>
              <p:cNvGrpSpPr/>
              <p:nvPr/>
            </p:nvGrpSpPr>
            <p:grpSpPr>
              <a:xfrm>
                <a:off x="4114800" y="2514600"/>
                <a:ext cx="380880" cy="685800"/>
                <a:chOff x="4114800" y="2514600"/>
                <a:chExt cx="380880" cy="685800"/>
              </a:xfrm>
            </p:grpSpPr>
            <p:sp>
              <p:nvSpPr>
                <p:cNvPr id="141" name="Line 42"/>
                <p:cNvSpPr/>
                <p:nvPr/>
              </p:nvSpPr>
              <p:spPr>
                <a:xfrm flipH="1">
                  <a:off x="4114800" y="251460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3"/>
                <p:cNvSpPr/>
                <p:nvPr/>
              </p:nvSpPr>
              <p:spPr>
                <a:xfrm>
                  <a:off x="4114800" y="285732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44"/>
              <p:cNvGrpSpPr/>
              <p:nvPr/>
            </p:nvGrpSpPr>
            <p:grpSpPr>
              <a:xfrm>
                <a:off x="4114800" y="3200400"/>
                <a:ext cx="380880" cy="685080"/>
                <a:chOff x="4114800" y="3200400"/>
                <a:chExt cx="380880" cy="685080"/>
              </a:xfrm>
            </p:grpSpPr>
            <p:sp>
              <p:nvSpPr>
                <p:cNvPr id="144" name="Line 45"/>
                <p:cNvSpPr/>
                <p:nvPr/>
              </p:nvSpPr>
              <p:spPr>
                <a:xfrm flipH="1">
                  <a:off x="4114800" y="3200400"/>
                  <a:ext cx="380880" cy="3423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46"/>
                <p:cNvSpPr/>
                <p:nvPr/>
              </p:nvSpPr>
              <p:spPr>
                <a:xfrm>
                  <a:off x="4114800" y="354276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47"/>
              <p:cNvGrpSpPr/>
              <p:nvPr/>
            </p:nvGrpSpPr>
            <p:grpSpPr>
              <a:xfrm>
                <a:off x="4114800" y="3885840"/>
                <a:ext cx="380880" cy="685800"/>
                <a:chOff x="4114800" y="3885840"/>
                <a:chExt cx="380880" cy="685800"/>
              </a:xfrm>
            </p:grpSpPr>
            <p:sp>
              <p:nvSpPr>
                <p:cNvPr id="147" name="Line 48"/>
                <p:cNvSpPr/>
                <p:nvPr/>
              </p:nvSpPr>
              <p:spPr>
                <a:xfrm flipH="1">
                  <a:off x="4114800" y="388584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9"/>
                <p:cNvSpPr/>
                <p:nvPr/>
              </p:nvSpPr>
              <p:spPr>
                <a:xfrm>
                  <a:off x="4114800" y="422856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50"/>
              <p:cNvGrpSpPr/>
              <p:nvPr/>
            </p:nvGrpSpPr>
            <p:grpSpPr>
              <a:xfrm>
                <a:off x="4114800" y="4571640"/>
                <a:ext cx="380880" cy="685800"/>
                <a:chOff x="4114800" y="4571640"/>
                <a:chExt cx="380880" cy="685800"/>
              </a:xfrm>
            </p:grpSpPr>
            <p:sp>
              <p:nvSpPr>
                <p:cNvPr id="150" name="Line 51"/>
                <p:cNvSpPr/>
                <p:nvPr/>
              </p:nvSpPr>
              <p:spPr>
                <a:xfrm flipH="1">
                  <a:off x="4114800" y="457164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2"/>
                <p:cNvSpPr/>
                <p:nvPr/>
              </p:nvSpPr>
              <p:spPr>
                <a:xfrm>
                  <a:off x="4114800" y="491436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53"/>
              <p:cNvGrpSpPr/>
              <p:nvPr/>
            </p:nvGrpSpPr>
            <p:grpSpPr>
              <a:xfrm>
                <a:off x="4114800" y="1828800"/>
                <a:ext cx="380880" cy="685800"/>
                <a:chOff x="4114800" y="1828800"/>
                <a:chExt cx="380880" cy="685800"/>
              </a:xfrm>
            </p:grpSpPr>
            <p:sp>
              <p:nvSpPr>
                <p:cNvPr id="153" name="Line 54"/>
                <p:cNvSpPr/>
                <p:nvPr/>
              </p:nvSpPr>
              <p:spPr>
                <a:xfrm flipH="1">
                  <a:off x="4114800" y="182880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5"/>
                <p:cNvSpPr/>
                <p:nvPr/>
              </p:nvSpPr>
              <p:spPr>
                <a:xfrm>
                  <a:off x="4114800" y="217152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Line 56"/>
            <p:cNvSpPr/>
            <p:nvPr/>
          </p:nvSpPr>
          <p:spPr>
            <a:xfrm flipH="1">
              <a:off x="2895120" y="4190760"/>
              <a:ext cx="22860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 flipH="1">
              <a:off x="1599840" y="3047760"/>
              <a:ext cx="228600" cy="76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 flipH="1">
              <a:off x="4266720" y="5257800"/>
              <a:ext cx="22860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 flipV="1">
              <a:off x="4307040" y="5866920"/>
              <a:ext cx="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66"/>
            <p:cNvGrpSpPr/>
            <p:nvPr/>
          </p:nvGrpSpPr>
          <p:grpSpPr>
            <a:xfrm>
              <a:off x="2666880" y="4343400"/>
              <a:ext cx="1981440" cy="2057400"/>
              <a:chOff x="2666880" y="4343400"/>
              <a:chExt cx="1981440" cy="2057400"/>
            </a:xfrm>
          </p:grpSpPr>
          <p:sp>
            <p:nvSpPr>
              <p:cNvPr id="160" name="Rectangle 59"/>
              <p:cNvSpPr/>
              <p:nvPr/>
            </p:nvSpPr>
            <p:spPr>
              <a:xfrm>
                <a:off x="2666880" y="434340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4038480" y="548640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4038480" y="6019560"/>
                <a:ext cx="533520" cy="381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63"/>
              <p:cNvSpPr/>
              <p:nvPr/>
            </p:nvSpPr>
            <p:spPr>
              <a:xfrm>
                <a:off x="2743200" y="43434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l-SI" sz="1800" spc="-1" strike="noStrike">
                    <a:solidFill>
                      <a:srgbClr val="000000"/>
                    </a:solidFill>
                    <a:latin typeface="Calibri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64"/>
              <p:cNvSpPr/>
              <p:nvPr/>
            </p:nvSpPr>
            <p:spPr>
              <a:xfrm>
                <a:off x="4114800" y="60195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l-SI" sz="1800" spc="-1" strike="noStrike">
                    <a:solidFill>
                      <a:srgbClr val="000000"/>
                    </a:solidFill>
                    <a:latin typeface="Calibri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5"/>
              <p:cNvSpPr/>
              <p:nvPr/>
            </p:nvSpPr>
            <p:spPr>
              <a:xfrm>
                <a:off x="4114800" y="54864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l-SI" sz="1800" spc="-1" strike="noStrike">
                    <a:solidFill>
                      <a:srgbClr val="000000"/>
                    </a:solidFill>
                    <a:latin typeface="Calibri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Line 68"/>
          <p:cNvSpPr/>
          <p:nvPr/>
        </p:nvSpPr>
        <p:spPr>
          <a:xfrm flipH="1">
            <a:off x="990360" y="3139920"/>
            <a:ext cx="388620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9"/>
          <p:cNvSpPr/>
          <p:nvPr/>
        </p:nvSpPr>
        <p:spPr>
          <a:xfrm flipH="1">
            <a:off x="990360" y="4335480"/>
            <a:ext cx="388620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0"/>
          <p:cNvSpPr/>
          <p:nvPr/>
        </p:nvSpPr>
        <p:spPr>
          <a:xfrm flipH="1">
            <a:off x="990360" y="5486400"/>
            <a:ext cx="388620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4"/>
          <p:cNvGrpSpPr/>
          <p:nvPr/>
        </p:nvGrpSpPr>
        <p:grpSpPr>
          <a:xfrm>
            <a:off x="774720" y="3124080"/>
            <a:ext cx="685800" cy="1219320"/>
            <a:chOff x="774720" y="3124080"/>
            <a:chExt cx="685800" cy="1219320"/>
          </a:xfrm>
        </p:grpSpPr>
        <p:sp>
          <p:nvSpPr>
            <p:cNvPr id="170" name="Line 71"/>
            <p:cNvSpPr/>
            <p:nvPr/>
          </p:nvSpPr>
          <p:spPr>
            <a:xfrm flipV="1">
              <a:off x="990720" y="3124080"/>
              <a:ext cx="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990720" y="3886200"/>
              <a:ext cx="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3"/>
            <p:cNvSpPr/>
            <p:nvPr/>
          </p:nvSpPr>
          <p:spPr>
            <a:xfrm>
              <a:off x="774720" y="3529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Δ</a:t>
              </a:r>
              <a:r>
                <a:rPr b="0" i="1" lang="sl-SI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9"/>
          <p:cNvGrpSpPr/>
          <p:nvPr/>
        </p:nvGrpSpPr>
        <p:grpSpPr>
          <a:xfrm>
            <a:off x="762120" y="4343040"/>
            <a:ext cx="685800" cy="1143360"/>
            <a:chOff x="762120" y="4343040"/>
            <a:chExt cx="685800" cy="1143360"/>
          </a:xfrm>
        </p:grpSpPr>
        <p:sp>
          <p:nvSpPr>
            <p:cNvPr id="174" name="Line 76"/>
            <p:cNvSpPr/>
            <p:nvPr/>
          </p:nvSpPr>
          <p:spPr>
            <a:xfrm flipV="1">
              <a:off x="985680" y="4343040"/>
              <a:ext cx="0" cy="4287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7"/>
            <p:cNvSpPr/>
            <p:nvPr/>
          </p:nvSpPr>
          <p:spPr>
            <a:xfrm flipH="1">
              <a:off x="985680" y="5105520"/>
              <a:ext cx="5040" cy="380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8"/>
            <p:cNvSpPr/>
            <p:nvPr/>
          </p:nvSpPr>
          <p:spPr>
            <a:xfrm>
              <a:off x="762120" y="47228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Δ</a:t>
              </a:r>
              <a:r>
                <a:rPr b="0" i="1" lang="sl-SI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Potek posk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a1"/>
          <p:cNvPicPr/>
          <p:nvPr/>
        </p:nvPicPr>
        <p:blipFill>
          <a:blip r:embed="rId1"/>
          <a:stretch/>
        </p:blipFill>
        <p:spPr>
          <a:xfrm>
            <a:off x="152280" y="1447920"/>
            <a:ext cx="2519640" cy="336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9" name="Picture 6" descr="a2"/>
          <p:cNvPicPr/>
          <p:nvPr/>
        </p:nvPicPr>
        <p:blipFill>
          <a:blip r:embed="rId2"/>
          <a:stretch/>
        </p:blipFill>
        <p:spPr>
          <a:xfrm>
            <a:off x="3276720" y="2273400"/>
            <a:ext cx="2519280" cy="336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0" name="Picture 7" descr="a3"/>
          <p:cNvPicPr/>
          <p:nvPr/>
        </p:nvPicPr>
        <p:blipFill>
          <a:blip r:embed="rId3"/>
          <a:stretch/>
        </p:blipFill>
        <p:spPr>
          <a:xfrm>
            <a:off x="6400800" y="3263760"/>
            <a:ext cx="2519280" cy="336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Rez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1981080"/>
          <a:ext cx="2743200" cy="365760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F</a:t>
                      </a: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Δ</a:t>
                      </a:r>
                      <a:r>
                        <a:rPr b="0" i="1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5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8.8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0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8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7.1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36.1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29200" y="1981080"/>
          <a:ext cx="2895480" cy="37339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F</a:t>
                      </a: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[N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Δ</a:t>
                      </a:r>
                      <a:r>
                        <a:rPr b="0" i="1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x</a:t>
                      </a: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[cm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4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9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</a:tr>
            </a:tbl>
          </a:graphicData>
        </a:graphic>
      </p:graphicFrame>
      <p:sp>
        <p:nvSpPr>
          <p:cNvPr id="184" name="Text Box 274"/>
          <p:cNvSpPr/>
          <p:nvPr/>
        </p:nvSpPr>
        <p:spPr>
          <a:xfrm>
            <a:off x="914400" y="1371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Calibri"/>
              </a:rPr>
              <a:t>Vzme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75"/>
          <p:cNvSpPr/>
          <p:nvPr/>
        </p:nvSpPr>
        <p:spPr>
          <a:xfrm>
            <a:off x="5029200" y="1371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Calibri"/>
              </a:rPr>
              <a:t>Vzme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6"/>
          <p:cNvSpPr/>
          <p:nvPr/>
        </p:nvSpPr>
        <p:spPr>
          <a:xfrm>
            <a:off x="2895480" y="5791320"/>
            <a:ext cx="228600" cy="380880"/>
          </a:xfrm>
          <a:prstGeom prst="line">
            <a:avLst/>
          </a:prstGeom>
          <a:ln w="158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7"/>
          <p:cNvSpPr/>
          <p:nvPr/>
        </p:nvSpPr>
        <p:spPr>
          <a:xfrm>
            <a:off x="2209680" y="624852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9900"/>
                </a:solidFill>
                <a:latin typeface="Calibri"/>
              </a:rPr>
              <a:t>Manj primeren prik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78"/>
          <p:cNvSpPr/>
          <p:nvPr/>
        </p:nvSpPr>
        <p:spPr>
          <a:xfrm>
            <a:off x="6705720" y="5867280"/>
            <a:ext cx="75960" cy="381240"/>
          </a:xfrm>
          <a:prstGeom prst="line">
            <a:avLst/>
          </a:prstGeom>
          <a:ln w="158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9"/>
          <p:cNvSpPr/>
          <p:nvPr/>
        </p:nvSpPr>
        <p:spPr>
          <a:xfrm>
            <a:off x="6019920" y="6248520"/>
            <a:ext cx="281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9900"/>
                </a:solidFill>
                <a:latin typeface="Calibri"/>
              </a:rPr>
              <a:t>Dober prik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lan</cp:lastModifiedBy>
  <dcterms:modified xsi:type="dcterms:W3CDTF">2011-07-07T08:45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