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16.png" ContentType="image/png"/>
  <Override PartName="/ppt/media/image7.jpeg" ContentType="image/jpeg"/>
  <Override PartName="/ppt/media/image4.png" ContentType="image/png"/>
  <Override PartName="/ppt/media/image1.gif" ContentType="image/gif"/>
  <Override PartName="/ppt/media/image28.jpeg" ContentType="image/jpeg"/>
  <Override PartName="/ppt/media/image11.jpeg" ContentType="image/jpeg"/>
  <Override PartName="/ppt/media/image24.png" ContentType="image/png"/>
  <Override PartName="/ppt/media/image27.png" ContentType="image/png"/>
  <Override PartName="/ppt/media/image55.jpeg" ContentType="image/jpeg"/>
  <Override PartName="/ppt/media/image2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41.jpeg" ContentType="image/jpeg"/>
  <Override PartName="/ppt/media/image14.jpeg" ContentType="image/jpeg"/>
  <Override PartName="/ppt/media/image60.png" ContentType="image/png"/>
  <Override PartName="/ppt/media/image19.png" ContentType="image/png"/>
  <Override PartName="/ppt/media/image61.png" ContentType="image/png"/>
  <Override PartName="/ppt/media/image20.jpeg" ContentType="image/jpeg"/>
  <Override PartName="/ppt/media/image25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26.jpeg" ContentType="image/jpeg"/>
  <Override PartName="/ppt/media/image32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33.wmf" ContentType="image/x-wmf"/>
  <Override PartName="/ppt/media/image5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wmf" ContentType="image/x-wmf"/>
  <Override PartName="/ppt/media/image44.jpeg" ContentType="image/jpeg"/>
  <Override PartName="/ppt/media/image4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49.png" ContentType="image/png"/>
  <Override PartName="/ppt/media/image50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4.jpeg" ContentType="image/jpeg"/>
  <Override PartName="/ppt/media/image57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FD5A-E4EB-4E6E-99D1-3D487767BA6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F5D-F325-4E7C-BCB6-A1EF0F7258E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BC21-5EA3-4A58-8E80-E355005E5FE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A913-E7A0-4B75-8314-FF0C6725A65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B05-9DCB-4AFA-92C2-A82C9AE566C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2F21-D052-4FF6-AC3D-53206F20618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3EED-50E4-463A-B89F-ACD8D9AD7F1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96B7-162C-4409-A469-727968D434D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7824-C04D-49F1-BBF7-D6446802184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9FE6-B81B-4A54-A9FA-30F038C4F3C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FE9-04A1-486D-BA4F-9FBB9BC41BE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4814-1A4C-4B6A-9F25-40AED8DB718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8833-036B-4B17-93CC-D83D86A9697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97C3-0971-4C2A-8D39-F1A76713A0C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61CC-EF59-4C34-8DCD-47B6A24F922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6515-D06D-4D6B-A2A4-D2828583880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079-3671-449E-A5D1-FCE22135BE0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6A7-326E-4731-88E4-3A465BCF1AA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1A4B-DE33-4AF7-90B9-F30F1DC4B42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1369-2BD7-487F-AAB4-02684EC62C5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8E84-5CC4-4B41-A3F6-3FE3B42211B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3D6B-78AC-4F6B-8D76-6641804BE0C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3386-FA65-41E8-90D6-952E2309FDA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F117-6112-4DBD-A401-AB1E44F2080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4D68-A09B-45E8-BAB0-5E96F608F07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A661-76FC-4449-91BD-9E5536CA4E8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674-6CA3-49BD-8806-04F7154FFA7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672B-4221-4996-AEAA-F2FED428A33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A44E-CF89-4F56-94E9-F621D034F33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46E8-2164-485F-913D-3D1EC7D48E6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FA0C-A503-46B9-9595-A47A3F62D4B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502-99FD-4CBA-8699-C7395E55231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80F1-3F7E-400E-A31F-53E82785615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960-CD81-4E16-A998-8BCB2CFCA7C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4222-5085-4802-AEC4-227E5FB0CC0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EAAE-417A-44B9-BAD3-26A020D5662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8F23-8962-4CA9-945F-91870C2B191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BB9A-1623-4198-AB66-5678D0C47E1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F34A-9C30-4053-BD59-86B9074EADF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AF53-7E2C-4B72-94A3-FA1A2290904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D4BB-0BFA-45A8-AB10-D51913B7FB9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3497-1C67-498D-A4F4-86004F02974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3E66-672E-41B9-BC5F-57994E1588D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203-C780-4116-9FE1-D9378F76607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CCB1-4B35-4A9A-ABED-5AE6EA1F88D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E2BF-AA02-4DA4-9B70-07D5453E08A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2009-613B-4392-84BC-EA500774F9C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9415-C17D-497B-8887-9A736D9112B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6965-6F02-4C60-B9F1-9AE5E06394F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51F7-04B2-4D15-80CB-A3F4A8CFC07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080A-5603-458B-8288-F6644D5A34C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9CE-50D9-4D12-94F7-1F19B05A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A8E-F20E-4FC8-81BC-2413D566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316-69A9-4469-9426-F1C1C02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384-0613-4212-97C8-9FF61F64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4D4-A0D4-4B46-B08B-EB658AAD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BBB-D0D3-4E42-8C8D-45D07ADB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9C0-5132-4EB5-9A78-F9595395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1B0-6029-44E8-B0DF-7DF5F079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53A-9D5C-4C7F-A3AC-56560C3A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C2D-5E4F-49D6-937F-96BFFB05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B32-51A0-48EB-96CA-825969BA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EA2-CDEA-4467-8A2E-DBF8925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F952-26D0-434A-9032-25ECD2C590F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" name="Picture 4" descr="modern atom[1]"/>
          <p:cNvPicPr/>
          <p:nvPr/>
        </p:nvPicPr>
        <p:blipFill>
          <a:blip r:embed="rId1"/>
          <a:stretch/>
        </p:blipFill>
        <p:spPr>
          <a:xfrm>
            <a:off x="3638520" y="242100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imbol za radioaktivnost"/>
          <p:cNvPicPr/>
          <p:nvPr/>
        </p:nvPicPr>
        <p:blipFill>
          <a:blip r:embed="rId2"/>
          <a:stretch/>
        </p:blipFill>
        <p:spPr>
          <a:xfrm>
            <a:off x="2881440" y="6276960"/>
            <a:ext cx="19044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ionirja na področju radioaktiv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a bila pred dobrimi sto le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. Becquerrel in Marie Cu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stabilne izotope pa znajo znanstveniki narediti tudi v laboratori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vi (?) uspešen alkimist na svetu: Ernest Rutherford.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00px-Mariecurie"/>
          <p:cNvPicPr/>
          <p:nvPr/>
        </p:nvPicPr>
        <p:blipFill>
          <a:blip r:embed="rId1"/>
          <a:stretch/>
        </p:blipFill>
        <p:spPr>
          <a:xfrm>
            <a:off x="7599240" y="404640"/>
            <a:ext cx="1220760" cy="142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znamka - rutherford"/>
          <p:cNvPicPr/>
          <p:nvPr/>
        </p:nvPicPr>
        <p:blipFill>
          <a:blip r:embed="rId2"/>
          <a:stretch/>
        </p:blipFill>
        <p:spPr>
          <a:xfrm>
            <a:off x="971640" y="4437000"/>
            <a:ext cx="2933640" cy="1790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5364000" y="4983120"/>
                <a:ext cx="2587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1" name="Picture 8" descr="becquerel"/>
          <p:cNvPicPr/>
          <p:nvPr/>
        </p:nvPicPr>
        <p:blipFill>
          <a:blip r:embed="rId3"/>
          <a:stretch/>
        </p:blipFill>
        <p:spPr>
          <a:xfrm>
            <a:off x="6265800" y="403200"/>
            <a:ext cx="10288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Cern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HC (Large Hadron Collider): 100 m pod zemljo, 27 km v premer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va curka subatomskih delcev hadronov (protonov ali pa svinčevih ionov) z veliko energijo čelno trči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čakovanja: veliko novih subatomskih delcev, supersimetrija, Higgsov bozon – ultimativni delec, ki je bil že teoretično napovedan v Standardnem mod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ern4.jpg"/>
          <p:cNvPicPr/>
          <p:nvPr/>
        </p:nvPicPr>
        <p:blipFill>
          <a:blip r:embed="rId1"/>
          <a:stretch/>
        </p:blipFill>
        <p:spPr>
          <a:xfrm>
            <a:off x="3222720" y="219240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ern 6.jpg"/>
          <p:cNvPicPr/>
          <p:nvPr/>
        </p:nvPicPr>
        <p:blipFill>
          <a:blip r:embed="rId2"/>
          <a:stretch/>
        </p:blipFill>
        <p:spPr>
          <a:xfrm>
            <a:off x="6429240" y="285840"/>
            <a:ext cx="14288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iggsov bozon: je delec ali delci, ki dajejo drugim maso. Ti delci so verjeten odgovor na vprašanje, odkod delcem m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eter Higgs (1960): vesolje je napolnjeno z neko vrsto mreže (Higgsovo polje), ki vpliva na delce, ki se premikajo po njem; tak delec ustvari v polju majhno popačenje, kar mu da mas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ttp://www.exploratorium.edu/origins/cern/ideas/higg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ttp://www.phy.uct.ac.za/courses/phy400w/particle/higg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3" descr="higgs3_small.gif"/>
          <p:cNvPicPr/>
          <p:nvPr/>
        </p:nvPicPr>
        <p:blipFill>
          <a:blip r:embed="rId1"/>
          <a:stretch/>
        </p:blipFill>
        <p:spPr>
          <a:xfrm>
            <a:off x="3395520" y="2492280"/>
            <a:ext cx="23529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rste radioaktivneg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emitiranih delce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ločimo alf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n bet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radioaktivno se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mljajoč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valo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a imenujemo gam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sevanje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žar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elektromagnetni spekter"/>
          <p:cNvPicPr/>
          <p:nvPr/>
        </p:nvPicPr>
        <p:blipFill>
          <a:blip r:embed="rId1"/>
          <a:stretch/>
        </p:blipFill>
        <p:spPr>
          <a:xfrm>
            <a:off x="2905200" y="3740040"/>
            <a:ext cx="33336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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otop emitira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el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ran v naravi: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val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tarševski izoto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hčerinski izo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poraba: detektorji d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3995640" y="1585800"/>
                <a:ext cx="6048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3449520" y="2781360"/>
                <a:ext cx="2490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Line 14"/>
          <p:cNvSpPr/>
          <p:nvPr/>
        </p:nvSpPr>
        <p:spPr>
          <a:xfrm flipV="1">
            <a:off x="3060720" y="328464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H="1" flipV="1">
            <a:off x="5003280" y="3284280"/>
            <a:ext cx="28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3276720" y="5380200"/>
                <a:ext cx="2485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4" name="Picture 20" descr="Ionization_Smoke_Detector___Smoke_Alarm"/>
          <p:cNvPicPr/>
          <p:nvPr/>
        </p:nvPicPr>
        <p:blipFill>
          <a:blip r:embed="rId1"/>
          <a:stretch/>
        </p:blipFill>
        <p:spPr>
          <a:xfrm>
            <a:off x="6819840" y="465300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alfa slika1"/>
          <p:cNvPicPr/>
          <p:nvPr/>
        </p:nvPicPr>
        <p:blipFill>
          <a:blip r:embed="rId2"/>
          <a:stretch/>
        </p:blipFill>
        <p:spPr>
          <a:xfrm>
            <a:off x="4975200" y="189000"/>
            <a:ext cx="41338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va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To sevanje je nevarno predvsem v primeru zaužitja snovi, ki se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320 ton osiromašenega urana je bilo “izgubljenih” samo v prvi zalivski vojni (tudi U - 238 je alfa sevale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Žrtev tega sevanja je bil zaradi zastrupit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 polonijem leta 2006 tudi Rus A. Litvinenk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lonij je močan α sevalec; na sekundo odda 4000 krat več α delcev kot ista masa na primer izotopa radija, ki je tudi sam zelo radioaktiven, in razpade do plina rad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2124000" y="3832200"/>
                <a:ext cx="2911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Picture 6" descr="simbol za radioaktivnost"/>
          <p:cNvPicPr/>
          <p:nvPr/>
        </p:nvPicPr>
        <p:blipFill>
          <a:blip r:embed="rId1"/>
          <a:stretch/>
        </p:blipFill>
        <p:spPr>
          <a:xfrm>
            <a:off x="6934320" y="426960"/>
            <a:ext cx="950760" cy="833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AlexanderLitvinenkoHospital"/>
          <p:cNvPicPr/>
          <p:nvPr/>
        </p:nvPicPr>
        <p:blipFill>
          <a:blip r:embed="rId2"/>
          <a:stretch/>
        </p:blipFill>
        <p:spPr>
          <a:xfrm>
            <a:off x="6227640" y="3078000"/>
            <a:ext cx="2286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stavljajo ga elektroni z visoko energijo, ki nastanejo pri razpadu nevtronov v jed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stane pri razpadu nekaterih radioaktivnih snovi v naravi in odpadnih produktov v jedrskih reaktorj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atiranje s pomočjo izotopa oglj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rjenje z AMS (Accelerator Mass Spectrometry);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80 000 let nazaj (14 razpolovnih časov), ko je navzočih le še 0,006% začetne količine izotopa oglj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635280" y="2060640"/>
                <a:ext cx="1957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2124000" y="4653000"/>
                <a:ext cx="2281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8" name="Picture 13" descr="divje babe 2"/>
          <p:cNvPicPr/>
          <p:nvPr/>
        </p:nvPicPr>
        <p:blipFill>
          <a:blip r:embed="rId1"/>
          <a:stretch/>
        </p:blipFill>
        <p:spPr>
          <a:xfrm>
            <a:off x="5770440" y="4076640"/>
            <a:ext cx="2689200" cy="1301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Beta sevanje"/>
          <p:cNvPicPr/>
          <p:nvPr/>
        </p:nvPicPr>
        <p:blipFill>
          <a:blip r:embed="rId2"/>
          <a:stretch/>
        </p:blipFill>
        <p:spPr>
          <a:xfrm>
            <a:off x="4226040" y="-100080"/>
            <a:ext cx="17143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Uporaba </a:t>
            </a: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sevalc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16200"/>
            <a:ext cx="82184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medicini za zdravljenje očesnih bolezni in kostnega ra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dravljenje bolezni ščitn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ricij       pri proučevanju telesnega metabolizma in varnosti novih zdra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stiranje puščanja ce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35120" y="2090880"/>
                <a:ext cx="633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4597560" y="2881440"/>
                <a:ext cx="550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604880" y="3673440"/>
                <a:ext cx="482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4356000" y="4811760"/>
                <a:ext cx="8128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va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nevarnejša je izpostavljenost z vdihavanjem, ali zaužitje sevalca;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evanje je prodornejše od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irektna izpostavljenost je tudi nevarna (pordečenje kože, opekli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od – 131 se akumulira v ščitn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cij – 90 se akumulira v kosteh in zobe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simbol za radioaktivnost"/>
          <p:cNvPicPr/>
          <p:nvPr/>
        </p:nvPicPr>
        <p:blipFill>
          <a:blip r:embed="rId1"/>
          <a:stretch/>
        </p:blipFill>
        <p:spPr>
          <a:xfrm>
            <a:off x="6141960" y="282600"/>
            <a:ext cx="9511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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vanje je elektromagnetno valovanje z valovno dolžino pod 124 pm, ki spremlja α in β radioaktivni razpad nekaterih izotopov; primer:           je vzbujeni izo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vanje je najprodornejše; zadržijo ga le debele plasti svinca, betona (6 krat debelejša plast) ali v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 fotoni imajo 10 000 krat višjo energijo kot fotoni iz vidnega dela elektromagnetnega spek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Gamma_Decay_svg"/>
          <p:cNvPicPr/>
          <p:nvPr/>
        </p:nvPicPr>
        <p:blipFill>
          <a:blip r:embed="rId1"/>
          <a:stretch/>
        </p:blipFill>
        <p:spPr>
          <a:xfrm>
            <a:off x="4729320" y="250920"/>
            <a:ext cx="1714320" cy="1162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346040" y="3068640"/>
                <a:ext cx="272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p/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330200" y="3789360"/>
                <a:ext cx="237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p/>
                    </m:sSup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572000" y="2463840"/>
                <a:ext cx="781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 okrog 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357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 Go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Fakulteta za kemijo in kemijsko tehnolog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Univerza v Ljublj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.godec@fkkt.uni-lj.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Uporaba </a:t>
            </a: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sevalc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pogosteje se uporabljajo         ,            in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balt – 60: sterilizacija medicinske opreme v bolnišnicah, hrane v živilski industriji in pošte; zdravljenje raka, kontrola materialov v industriji (npr. debeline, defekt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hnecij – 99: najpogostejši izotop za diagnostiko v jedrski medicini (kontrastno sredstvo pri tomografij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4716360" y="1467000"/>
                <a:ext cx="7048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5591160" y="1467000"/>
                <a:ext cx="781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6804000" y="1468440"/>
                <a:ext cx="6843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Picture 11" descr="simbol za sterilizirano hrano"/>
          <p:cNvPicPr/>
          <p:nvPr/>
        </p:nvPicPr>
        <p:blipFill>
          <a:blip r:embed="rId1"/>
          <a:stretch/>
        </p:blipFill>
        <p:spPr>
          <a:xfrm>
            <a:off x="2286000" y="333360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AT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214960" y="3571920"/>
            <a:ext cx="2286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va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pogostejša je direktna zunanja izpostavljenost, naprimer naravnim radionuklidom, ki so gama sevalci: kalij – 40 (zemlja, voda, meso, banane ...), radij itd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postavljenost sevalcem kot posledica uporabe v medicini in industr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radi svoje prodornosti so gama žarki zelo nevarni (radiacijska bolezen: izpostavljenost velik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zam v kratkem času, pri čemer povzroč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ama sevanje največ šk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imbol za radioaktivnost"/>
          <p:cNvPicPr/>
          <p:nvPr/>
        </p:nvPicPr>
        <p:blipFill>
          <a:blip r:embed="rId1"/>
          <a:stretch/>
        </p:blipFill>
        <p:spPr>
          <a:xfrm>
            <a:off x="5708520" y="282600"/>
            <a:ext cx="951120" cy="833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Radiation_burns_on_a_Japanese_woman_after_a_nuclear_explosion_in_1945"/>
          <p:cNvPicPr/>
          <p:nvPr/>
        </p:nvPicPr>
        <p:blipFill>
          <a:blip r:embed="rId2"/>
          <a:stretch/>
        </p:blipFill>
        <p:spPr>
          <a:xfrm>
            <a:off x="7308720" y="5013360"/>
            <a:ext cx="824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odornost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ist pap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uminijasta fol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300px-Alfa_beta_gamma_radiation_svg"/>
          <p:cNvPicPr/>
          <p:nvPr/>
        </p:nvPicPr>
        <p:blipFill>
          <a:blip r:embed="rId1"/>
          <a:stretch/>
        </p:blipFill>
        <p:spPr>
          <a:xfrm>
            <a:off x="1476360" y="1673280"/>
            <a:ext cx="2857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količina ionizirajočega sevanja, ki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ejme te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merilo za energijo, ki se pri sevan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bsorbira v tel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za dozo j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gray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(Gy)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ki je en jo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 kilogram: 1 Gy = 1 J / kg sno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ičajno: mGy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enota rad: 1Gy = 100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elo Cosmicman"/>
          <p:cNvPicPr/>
          <p:nvPr/>
        </p:nvPicPr>
        <p:blipFill>
          <a:blip r:embed="rId1"/>
          <a:stretch/>
        </p:blipFill>
        <p:spPr>
          <a:xfrm>
            <a:off x="7327800" y="849240"/>
            <a:ext cx="106056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Efektivna 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sievert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Sv): en sievert se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vzroči enak biološki efekt na telo, 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sevanja. Običaj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porabljamo enoto milisievert m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ravno ozadje kjerkoli na našem planetu pomeni efektivno dozo okrog 2 do 3 mSv/leto. Rekord: Ramsar (Iran), kjer je efektivna doza tudi do 260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voljena efektivna doza zaradi umetnih virov sevanja je 1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bližno velja: doza sevanja 1 mGy ustreza biološkemu vplivu na telo 1,14 mSv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Telo TheLadyOfShallot by J"/>
          <p:cNvPicPr/>
          <p:nvPr/>
        </p:nvPicPr>
        <p:blipFill>
          <a:blip r:embed="rId1"/>
          <a:stretch/>
        </p:blipFill>
        <p:spPr>
          <a:xfrm>
            <a:off x="6300720" y="1332000"/>
            <a:ext cx="22860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03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et z letalom, Paris – Los Ange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krog 48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y (višina 11 km, 11 u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ziroma cca. 55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akodnevno gledanje TV ali d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 računalnikom: 0,01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pična efektivna doza sevanja 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metnih virov v medicini: 0,06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mSv/leto: sevanje naravnega ozad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 mSv/leto: rudarji v dnevnih kopih u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etalo1"/>
          <p:cNvPicPr/>
          <p:nvPr/>
        </p:nvPicPr>
        <p:blipFill>
          <a:blip r:embed="rId1"/>
          <a:stretch/>
        </p:blipFill>
        <p:spPr>
          <a:xfrm>
            <a:off x="6531120" y="981000"/>
            <a:ext cx="1209600" cy="9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gama kamera"/>
          <p:cNvPicPr/>
          <p:nvPr/>
        </p:nvPicPr>
        <p:blipFill>
          <a:blip r:embed="rId2"/>
          <a:stretch/>
        </p:blipFill>
        <p:spPr>
          <a:xfrm>
            <a:off x="6588000" y="3024360"/>
            <a:ext cx="1770120" cy="1268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ranium mine across colorado river"/>
          <p:cNvPicPr/>
          <p:nvPr/>
        </p:nvPicPr>
        <p:blipFill>
          <a:blip r:embed="rId3"/>
          <a:stretch/>
        </p:blipFill>
        <p:spPr>
          <a:xfrm>
            <a:off x="6948360" y="4651200"/>
            <a:ext cx="1278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Izpostavljenost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516720" y="36450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cc00"/>
                </a:solidFill>
                <a:latin typeface="Arial"/>
              </a:rPr>
              <a:t>NARAV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cc00"/>
                </a:solidFill>
                <a:latin typeface="Arial"/>
              </a:rPr>
              <a:t>OZAD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28440" y="1413000"/>
          <a:ext cx="627228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413000"/>
                    <a:ext cx="6272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AutoShape 5"/>
          <p:cNvSpPr/>
          <p:nvPr/>
        </p:nvSpPr>
        <p:spPr>
          <a:xfrm>
            <a:off x="6300720" y="3357720"/>
            <a:ext cx="216000" cy="1323720"/>
          </a:xfrm>
          <a:custGeom>
            <a:avLst/>
            <a:gdLst>
              <a:gd name="textAreaLeft" fmla="*/ 0 w 216000"/>
              <a:gd name="textAreaRight" fmla="*/ 78120 w 216000"/>
              <a:gd name="textAreaTop" fmla="*/ 20160 h 1323720"/>
              <a:gd name="textAreaBottom" fmla="*/ 1303560 h 13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0"/>
                  <a:pt x="10800" y="1059"/>
                </a:cubicBezTo>
                <a:lnTo>
                  <a:pt x="10800" y="9741"/>
                </a:lnTo>
                <a:cubicBezTo>
                  <a:pt x="10800" y="10271"/>
                  <a:pt x="16200" y="10800"/>
                  <a:pt x="21600" y="10800"/>
                </a:cubicBezTo>
                <a:cubicBezTo>
                  <a:pt x="16200" y="10800"/>
                  <a:pt x="10800" y="11330"/>
                  <a:pt x="10800" y="11859"/>
                </a:cubicBezTo>
                <a:lnTo>
                  <a:pt x="10800" y="20541"/>
                </a:lnTo>
                <a:cubicBezTo>
                  <a:pt x="10800" y="210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Letna efektivna doza za prebivalce Slovenije /</a:t>
            </a:r>
            <a:r>
              <a:rPr b="0" lang="sl-SI" sz="28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Sv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(vir: ARAO, 2006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5640" y="1592280"/>
          <a:ext cx="7715160" cy="4479840"/>
        </p:xfrm>
        <a:graphic>
          <a:graphicData uri="http://schemas.openxmlformats.org/drawingml/2006/table">
            <a:tbl>
              <a:tblPr/>
              <a:tblGrid>
                <a:gridCol w="3683160"/>
                <a:gridCol w="1803240"/>
                <a:gridCol w="222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r sevanj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vprečna vred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ksimalna vredno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mično sevanj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mogeni radionuklid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eljsko gama sevanj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nuklidi v organizm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acija Rn-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acija Rn-2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estija Rn-22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(zaokrože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Efektivne doze po svetu (brez radona), mSv/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evanje ozadja v svetu"/>
          <p:cNvPicPr/>
          <p:nvPr/>
        </p:nvPicPr>
        <p:blipFill>
          <a:blip r:embed="rId1"/>
          <a:stretch/>
        </p:blipFill>
        <p:spPr>
          <a:xfrm>
            <a:off x="611280" y="1700280"/>
            <a:ext cx="76975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je je me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0 mSv/leto: zgornja dovoljena meja za delavce v jedrski industriji, medicini in v rudnik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0 mSv/leto je najnižja efektivna doza, pri kateri so opazili nastanek raka pri odrasl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00 mSv: radiacijska bolezen, vendar ne nujn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 000 mSv: smrt v nekaj ted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niž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viš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Radio_waves_hazard_symbol_svg.pn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21337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Radioactive_svg.png"/>
          <p:cNvPicPr/>
          <p:nvPr/>
        </p:nvPicPr>
        <p:blipFill>
          <a:blip r:embed="rId2"/>
          <a:stretch/>
        </p:blipFill>
        <p:spPr>
          <a:xfrm>
            <a:off x="4500720" y="4071960"/>
            <a:ext cx="1152360" cy="101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New_radiation_symbol_ISO_21482_svg.png"/>
          <p:cNvPicPr/>
          <p:nvPr/>
        </p:nvPicPr>
        <p:blipFill>
          <a:blip r:embed="rId3"/>
          <a:stretch/>
        </p:blipFill>
        <p:spPr>
          <a:xfrm>
            <a:off x="6956280" y="4118040"/>
            <a:ext cx="115092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00"/>
                </a:solidFill>
                <a:latin typeface="Arial"/>
              </a:rPr>
              <a:t>Aktivnost radioaktivnih snovi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19480"/>
            <a:ext cx="822960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Aktivnos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radioaktivne snovi: enota je 1 becquerel (Bq), ki znaša 1 razpad na sek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 Bq = 1 s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je bila enota Curie: 1 Bq = 27 x 10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rjenje: Geiger - Millerjev štev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01916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drasel človek (70 kg): 7000 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 kg kave: 1000 B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orovničev sok: 30 Bq/d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doza 0,35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ceani: 4,0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Bq (uran); 1,4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kalij); 1,33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Bq (rubidij – 87); 6,7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ogljik – 14); 7,4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trici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človek"/>
          <p:cNvPicPr/>
          <p:nvPr/>
        </p:nvPicPr>
        <p:blipFill>
          <a:blip r:embed="rId1"/>
          <a:stretch/>
        </p:blipFill>
        <p:spPr>
          <a:xfrm>
            <a:off x="5338800" y="189000"/>
            <a:ext cx="283356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ivan cankar"/>
          <p:cNvPicPr/>
          <p:nvPr/>
        </p:nvPicPr>
        <p:blipFill>
          <a:blip r:embed="rId2"/>
          <a:stretch/>
        </p:blipFill>
        <p:spPr>
          <a:xfrm>
            <a:off x="7164360" y="164304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skodelica kave"/>
          <p:cNvPicPr/>
          <p:nvPr/>
        </p:nvPicPr>
        <p:blipFill>
          <a:blip r:embed="rId3"/>
          <a:stretch/>
        </p:blipFill>
        <p:spPr>
          <a:xfrm>
            <a:off x="5724360" y="1773360"/>
            <a:ext cx="1144800" cy="785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oceans"/>
          <p:cNvPicPr/>
          <p:nvPr/>
        </p:nvPicPr>
        <p:blipFill>
          <a:blip r:embed="rId4"/>
          <a:stretch/>
        </p:blipFill>
        <p:spPr>
          <a:xfrm>
            <a:off x="7104240" y="4292640"/>
            <a:ext cx="1428480" cy="960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borovnice"/>
          <p:cNvPicPr/>
          <p:nvPr/>
        </p:nvPicPr>
        <p:blipFill>
          <a:blip r:embed="rId5"/>
          <a:stretch/>
        </p:blipFill>
        <p:spPr>
          <a:xfrm>
            <a:off x="4713120" y="3429000"/>
            <a:ext cx="10112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houses_3"/>
          <p:cNvPicPr/>
          <p:nvPr/>
        </p:nvPicPr>
        <p:blipFill>
          <a:blip r:embed="rId1"/>
          <a:stretch/>
        </p:blipFill>
        <p:spPr>
          <a:xfrm>
            <a:off x="7164360" y="404640"/>
            <a:ext cx="1716120" cy="12099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rak v povprečni evropski hiši (radon): 30 000 B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ioizotopi za diagnostiko v medicin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600 MBq oziroma 3 m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npr. scintigram kosti, izotop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hnecijev – 99 difosfonat; pokažejo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roče točke”, kjer je infekcija ali tum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ran v naravi: 50 MBq/kg. Sestav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99,27 % uran – 238 (aktivnost 12 MBq/kg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0,72 % uran – 235 (aktivnost 78 MBq/kg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 pet stotink promila uran – 23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180px-Ranger_Uranium_Mine_in_Kakadu_National_Park"/>
          <p:cNvPicPr/>
          <p:nvPr/>
        </p:nvPicPr>
        <p:blipFill>
          <a:blip r:embed="rId2"/>
          <a:stretch/>
        </p:blipFill>
        <p:spPr>
          <a:xfrm>
            <a:off x="6985080" y="4743360"/>
            <a:ext cx="1619280" cy="990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bone scintigram"/>
          <p:cNvPicPr/>
          <p:nvPr/>
        </p:nvPicPr>
        <p:blipFill>
          <a:blip r:embed="rId3"/>
          <a:stretch/>
        </p:blipFill>
        <p:spPr>
          <a:xfrm>
            <a:off x="7556400" y="2205000"/>
            <a:ext cx="903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000"/>
                            </p:stCondLst>
                            <p:childTnLst>
                              <p:par>
                                <p:cTn id="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5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Specifična aktivnost nuklidov v mleku v okolici Ljubljane; vir: AR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539640" y="1487520"/>
          <a:ext cx="805824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7520"/>
                    <a:ext cx="8058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Zakonod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rana: v EU je bila po Černobilu določena nova najvišja dovoljena aktivnost izotopa Cs – 137, in sic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2,5 kBq / kg suhe 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ze: 20 mSv letno za izpostavljene delavce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letno za posameznike iz prebivalstva 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za nerojenega otroka noseče ženske v času do konca noseč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zdravniških pregledih in zdravljenju se uporabljata načeli upravičenosti in optimiz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Radon v Sloveniji (leto 2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Velenje 18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zraka; Kočevje do 4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povišano naravno ozadje, bivši rudnik premoga); največ: K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prti prostori do 6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dopustno do 2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kord: termalna voda, toplice Snovik v Tuhinjski dolini (do 63 0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n Dolenjske Toplice (51 0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ladišče za nizko in srednje radioaktivne odpadke v Brinju (zdravstvo, industrija, šolstvo, znanost): 63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slovenija"/>
          <p:cNvPicPr/>
          <p:nvPr/>
        </p:nvPicPr>
        <p:blipFill>
          <a:blip r:embed="rId1"/>
          <a:stretch/>
        </p:blipFill>
        <p:spPr>
          <a:xfrm>
            <a:off x="6948360" y="11592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4400" spc="-1" strike="noStrike" baseline="-25000">
                <a:solidFill>
                  <a:srgbClr val="ff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ioaktivni razpadi so vsi prvega r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Arial"/>
              </a:rPr>
              <a:t>1/2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je čas, v katerem se koncentracija zmanjša na polovico začet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6311880" y="2060640"/>
                <a:ext cx="150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6337440" y="4008600"/>
                <a:ext cx="1374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3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RAZPOLOVNICAS"/>
          <p:cNvPicPr/>
          <p:nvPr/>
        </p:nvPicPr>
        <p:blipFill>
          <a:blip r:embed="rId1"/>
          <a:stretch/>
        </p:blipFill>
        <p:spPr>
          <a:xfrm>
            <a:off x="1325520" y="1600200"/>
            <a:ext cx="649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oliko časa do pol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ran – 238: razpolovni čas je 4,5 x 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sečna plača: razpolovni čas 15 dni (če se le da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metni vir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cezij – 137 (jedrske eksplozije, Černobil): 30 l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tehnecij – 99: 6 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jod – 131: 8 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metni radioaktivni vir je nenevaren takrat, ko je njegova aktivnost podobna tisti v naravnem ozad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500"/>
                            </p:stCondLst>
                            <p:childTnLst>
                              <p:par>
                                <p:cTn id="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34718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epitev jeder v reaktorju - močno eksotermna reak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41: prva nadzorovana verižna reakcija (Enrico Ferm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54: prva jedrska elektrarna (Obninsk, SSS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Jedrs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gorivni elementi"/>
          <p:cNvPicPr/>
          <p:nvPr/>
        </p:nvPicPr>
        <p:blipFill>
          <a:blip r:embed="rId1"/>
          <a:stretch/>
        </p:blipFill>
        <p:spPr>
          <a:xfrm>
            <a:off x="3963960" y="1406520"/>
            <a:ext cx="1184400" cy="1806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Enrico Fermi"/>
          <p:cNvPicPr/>
          <p:nvPr/>
        </p:nvPicPr>
        <p:blipFill>
          <a:blip r:embed="rId2"/>
          <a:stretch/>
        </p:blipFill>
        <p:spPr>
          <a:xfrm>
            <a:off x="2994120" y="4653000"/>
            <a:ext cx="857160" cy="1058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Obninsk_plant"/>
          <p:cNvPicPr/>
          <p:nvPr/>
        </p:nvPicPr>
        <p:blipFill>
          <a:blip r:embed="rId3"/>
          <a:stretch/>
        </p:blipFill>
        <p:spPr>
          <a:xfrm>
            <a:off x="6156360" y="4581360"/>
            <a:ext cx="1716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2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graf sevanje1.gif"/>
          <p:cNvPicPr/>
          <p:nvPr/>
        </p:nvPicPr>
        <p:blipFill>
          <a:blip r:embed="rId1"/>
          <a:stretch/>
        </p:blipFill>
        <p:spPr>
          <a:xfrm>
            <a:off x="1300320" y="1700280"/>
            <a:ext cx="654336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erižne rea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dzorovana jedrska verižna reakcij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razne možnost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900000" y="2895480"/>
                <a:ext cx="456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X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4" name="Picture 9" descr="250px-Nuclear_fission_svg"/>
          <p:cNvPicPr/>
          <p:nvPr/>
        </p:nvPicPr>
        <p:blipFill>
          <a:blip r:embed="rId1"/>
          <a:stretch/>
        </p:blipFill>
        <p:spPr>
          <a:xfrm>
            <a:off x="6438960" y="2522520"/>
            <a:ext cx="2381040" cy="37148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965160" y="4408560"/>
                <a:ext cx="4470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604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K (700 M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drsko gorivo: 95% uran – 238 in 5% uran – 235 (jedrsko orožje: 90% urana – 23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orivne palice iz cirkonija vsebujejo gorivo v obliki UO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: 121 gorivnih elementov, vsak ima 235 gorivnih palic, skupaj 50 ton u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gorivni_elementi v NEK"/>
          <p:cNvPicPr/>
          <p:nvPr/>
        </p:nvPicPr>
        <p:blipFill>
          <a:blip r:embed="rId1"/>
          <a:stretch/>
        </p:blipFill>
        <p:spPr>
          <a:xfrm>
            <a:off x="5003640" y="530064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Nek"/>
          <p:cNvPicPr/>
          <p:nvPr/>
        </p:nvPicPr>
        <p:blipFill>
          <a:blip r:embed="rId2"/>
          <a:stretch/>
        </p:blipFill>
        <p:spPr>
          <a:xfrm>
            <a:off x="5576760" y="1159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bsorpcija nevtronov: bor (H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v hladilni vodi ali regulacijske palice iz srebra, indija in kadm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derator nevtronov: hladilna voda (jih upočas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drska energija (toplota) </a:t>
            </a:r>
            <a:r>
              <a:rPr b="0" lang="sl-SI" sz="24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uparevanje vode  </a:t>
            </a:r>
            <a:r>
              <a:rPr b="0" lang="sl-SI" sz="24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parne turbine  </a:t>
            </a:r>
            <a:r>
              <a:rPr b="0" lang="sl-SI" sz="24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električni generator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oplotni izkoristek: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hladilna voda"/>
          <p:cNvPicPr/>
          <p:nvPr/>
        </p:nvPicPr>
        <p:blipFill>
          <a:blip r:embed="rId1"/>
          <a:stretch/>
        </p:blipFill>
        <p:spPr>
          <a:xfrm>
            <a:off x="3276720" y="3141720"/>
            <a:ext cx="19033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500"/>
                            </p:stCondLst>
                            <p:childTnLst>
                              <p:par>
                                <p:cTn id="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50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epitveni produkti so prav tako radioaktivni; predstavljajo del radioaktivnih odpadkov iz jedrskih elektrarn, zato jih je treba pravilno skladiščiti. Z njimi je povezanih večina ekoloških problemov v zvezi s pridobivanjem energije iz jedrskih elektr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nec leta 2004 v elektrarni: 2289 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odpadkov (nizko in srednje radioaktivni, to so taki, ki po 300 letih niso več radioaktivni), skupna aktivnost 19 TB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odlagalisce1"/>
          <p:cNvPicPr/>
          <p:nvPr/>
        </p:nvPicPr>
        <p:blipFill>
          <a:blip r:embed="rId1"/>
          <a:stretch/>
        </p:blipFill>
        <p:spPr>
          <a:xfrm>
            <a:off x="5132520" y="3357720"/>
            <a:ext cx="952200" cy="1276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istilna_naprava01"/>
          <p:cNvPicPr/>
          <p:nvPr/>
        </p:nvPicPr>
        <p:blipFill>
          <a:blip r:embed="rId2"/>
          <a:stretch/>
        </p:blipFill>
        <p:spPr>
          <a:xfrm>
            <a:off x="1476360" y="3429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5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smotrna uporaba jedrske en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tomska bomba: nekontrolirana jedrska verižna reak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meričani so avgusta 1945 na japonski mesti Hirošimo in Nagasaki odvrgli atomski bombi moči 13 kiloton TNT (60 kg urana – 235, Hirošima) in 21 kiloton TNT (6,4 kg plutonija – 239, Nagasaki). Posledice bombardiranja: okrog 200 000 ubitih civilistov in še večje število obolel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250px-Hiroshima_aftermath"/>
          <p:cNvPicPr/>
          <p:nvPr/>
        </p:nvPicPr>
        <p:blipFill>
          <a:blip r:embed="rId1"/>
          <a:stretch/>
        </p:blipFill>
        <p:spPr>
          <a:xfrm>
            <a:off x="4710240" y="4365720"/>
            <a:ext cx="3174840" cy="1727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250px-Nagasakibomb"/>
          <p:cNvPicPr/>
          <p:nvPr/>
        </p:nvPicPr>
        <p:blipFill>
          <a:blip r:embed="rId2"/>
          <a:stretch/>
        </p:blipFill>
        <p:spPr>
          <a:xfrm>
            <a:off x="1465200" y="4102200"/>
            <a:ext cx="1666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NT je okrajšava za klasično eksplozivo 2,4,6 - trinitrotoluen. Moč jedrske eksplozije je izražena s pomočjo mase v kilotonah TNT, ki bi morala eksplodirati za podoben učinek. Energija pri eksploziji 1 kilotone TNT znaša 4,184·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J. Toliko energije nastane na primer pri zgorevanju okrog 143 ton premo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anes: atomske bombe z močjo 500 kilo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Atomska bomba Fat_man"/>
          <p:cNvPicPr/>
          <p:nvPr/>
        </p:nvPicPr>
        <p:blipFill>
          <a:blip r:embed="rId1"/>
          <a:stretch/>
        </p:blipFill>
        <p:spPr>
          <a:xfrm>
            <a:off x="6458040" y="3879720"/>
            <a:ext cx="17143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Fuz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once: fuzijski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zlivanje proton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zija zaenkrat: žal le kot orož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vodikova bomba: 50 megat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sonce je fuzijski reaktor"/>
          <p:cNvPicPr/>
          <p:nvPr/>
        </p:nvPicPr>
        <p:blipFill>
          <a:blip r:embed="rId1"/>
          <a:stretch/>
        </p:blipFill>
        <p:spPr>
          <a:xfrm>
            <a:off x="5589720" y="1693800"/>
            <a:ext cx="1646280" cy="1590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prva vodikova bomba"/>
          <p:cNvPicPr/>
          <p:nvPr/>
        </p:nvPicPr>
        <p:blipFill>
          <a:blip r:embed="rId2"/>
          <a:stretch/>
        </p:blipFill>
        <p:spPr>
          <a:xfrm>
            <a:off x="5838840" y="4492800"/>
            <a:ext cx="18288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ihod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etajoča fuzijska reakci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obetajoca fusijska reakcija"/>
          <p:cNvPicPr/>
          <p:nvPr/>
        </p:nvPicPr>
        <p:blipFill>
          <a:blip r:embed="rId1"/>
          <a:stretch/>
        </p:blipFill>
        <p:spPr>
          <a:xfrm>
            <a:off x="5364000" y="2421000"/>
            <a:ext cx="1905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i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.W. Atkins: Physical Chemistry, 8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Ed., Oxford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. Monk: Physical Chemistry - Understanding our Chemical World, John Wiley and 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a RS za jedrsko varnost (</a:t>
            </a:r>
            <a:r>
              <a:rPr b="0" lang="sl-SI" sz="2000" spc="-1" strike="noStrike" u="sng">
                <a:solidFill>
                  <a:srgbClr val="3366ff"/>
                </a:solidFill>
                <a:uFillTx/>
                <a:latin typeface="Arial"/>
              </a:rPr>
              <a:t>http://www.ursjv.gov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gencija za radioaktivne odpadke (</a:t>
            </a:r>
            <a:r>
              <a:rPr b="0" lang="sl-SI" sz="2000" spc="-1" strike="noStrike" u="sng">
                <a:solidFill>
                  <a:srgbClr val="3366ff"/>
                </a:solidFill>
                <a:uFillTx/>
                <a:latin typeface="Arial"/>
              </a:rPr>
              <a:t>http://www.arao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ikipedia (slike) (</a:t>
            </a:r>
            <a:r>
              <a:rPr b="0" lang="sl-SI" sz="2000" spc="-1" strike="noStrike" u="sng">
                <a:solidFill>
                  <a:srgbClr val="3366ff"/>
                </a:solidFill>
                <a:uFillTx/>
                <a:latin typeface="Arial"/>
              </a:rPr>
              <a:t>http://en.wikipedia.org/wiki/Main_Page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vironmental Protection Agency (</a:t>
            </a: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www.epa.gov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teachers.web.cern.ch/teacher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hyperphysics.phy-astr.gsu.edu/hbase/nuclear/nucno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particleadventure.org/frameless/4interaction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science.uniserve.edu.au/school/curric/stage6/phys/physapple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www.uic.com.au/nip26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www.radiation.org/reading/pubs/testimonyNJFeb20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POTRPEŽLJIVOST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modern atom[1]"/>
          <p:cNvPicPr/>
          <p:nvPr/>
        </p:nvPicPr>
        <p:blipFill>
          <a:blip r:embed="rId1"/>
          <a:stretch/>
        </p:blipFill>
        <p:spPr>
          <a:xfrm>
            <a:off x="3059280" y="189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5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8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ionizirajoče 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ližnje UV, vidno in IR elektromagnetno valovanje, mikrovalovi in radijski valov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o valovanje lahko sproži naprimer nekatere fotokemijske reakcije in pospeši radikalske reak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vzroči lahko opekline kože; večino ga zadrži že zemeljska atmosfe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ergija praviloma ni zadostna za ionizacijo atomov in molek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Geiger-Millerjev šte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Geiger Millerjev števec"/>
          <p:cNvPicPr/>
          <p:nvPr/>
        </p:nvPicPr>
        <p:blipFill>
          <a:blip r:embed="rId1"/>
          <a:stretch/>
        </p:blipFill>
        <p:spPr>
          <a:xfrm>
            <a:off x="3143160" y="2381400"/>
            <a:ext cx="2857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Ionizirajoče 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rečemo vsem delcem,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ajo zadosti energije, da ionizirajo at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 molek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šni delci izbijejo elektrone iz zunanje lupine v atom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večjih količinah lahko ionizirajoče sevanje v živih tkivih povzroči mutacije celic ali pa cel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je lah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stavljeno iz protonov, nevtron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lektronov, helijevih jeder, in 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h drugih delcev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lack hole"/>
          <p:cNvPicPr/>
          <p:nvPr/>
        </p:nvPicPr>
        <p:blipFill>
          <a:blip r:embed="rId1"/>
          <a:stretch/>
        </p:blipFill>
        <p:spPr>
          <a:xfrm>
            <a:off x="5724360" y="4797360"/>
            <a:ext cx="3173400" cy="1776600"/>
          </a:xfrm>
          <a:prstGeom prst="rect">
            <a:avLst/>
          </a:prstGeom>
          <a:ln w="0">
            <a:noFill/>
          </a:ln>
        </p:spPr>
      </p:pic>
      <p:sp>
        <p:nvSpPr>
          <p:cNvPr id="65" name="Oval 6"/>
          <p:cNvSpPr/>
          <p:nvPr/>
        </p:nvSpPr>
        <p:spPr>
          <a:xfrm>
            <a:off x="7236000" y="1579680"/>
            <a:ext cx="1058760" cy="10573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7335720" y="1677960"/>
            <a:ext cx="849600" cy="8492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7427880" y="1765440"/>
            <a:ext cx="666720" cy="666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7523280" y="1870200"/>
            <a:ext cx="447480" cy="4474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7605720" y="1943280"/>
            <a:ext cx="284040" cy="2840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7686720" y="2023920"/>
            <a:ext cx="119160" cy="119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8107200" y="236700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7939080" y="18860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7450200" y="20988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7510320" y="189396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7711920" y="1787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7616880" y="20606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7824960" y="2057400"/>
            <a:ext cx="4572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8016840" y="2093760"/>
            <a:ext cx="46080" cy="44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0"/>
          <p:cNvSpPr/>
          <p:nvPr/>
        </p:nvSpPr>
        <p:spPr>
          <a:xfrm>
            <a:off x="7935840" y="22813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1"/>
          <p:cNvSpPr/>
          <p:nvPr/>
        </p:nvSpPr>
        <p:spPr>
          <a:xfrm>
            <a:off x="7738920" y="2354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2"/>
          <p:cNvSpPr/>
          <p:nvPr/>
        </p:nvSpPr>
        <p:spPr>
          <a:xfrm>
            <a:off x="7556400" y="228456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3"/>
          <p:cNvSpPr/>
          <p:nvPr/>
        </p:nvSpPr>
        <p:spPr>
          <a:xfrm>
            <a:off x="7289640" y="220680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4"/>
          <p:cNvSpPr/>
          <p:nvPr/>
        </p:nvSpPr>
        <p:spPr>
          <a:xfrm>
            <a:off x="7923240" y="16495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Dejst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dioaktivno (ionizirajoče) sevanje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je na našem planetu stalno prisotno. Rečemo mu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ravno ozadj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ir sevanja naravnega ozadja so </a:t>
            </a:r>
            <a:r>
              <a:rPr b="0" lang="sl-SI" sz="2000" spc="-1" strike="noStrike">
                <a:solidFill>
                  <a:srgbClr val="0000cc"/>
                </a:solidFill>
                <a:latin typeface="Arial"/>
              </a:rPr>
              <a:t>kozmični žark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ddaljenega vesolja in od našega sonca, in </a:t>
            </a:r>
            <a:r>
              <a:rPr b="0" lang="sl-SI" sz="2000" spc="-1" strike="noStrike">
                <a:solidFill>
                  <a:srgbClr val="0000cc"/>
                </a:solidFill>
                <a:latin typeface="Arial"/>
              </a:rPr>
              <a:t>radioaktivne snov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v globinah našega plan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adioaktivni izotopi, ki so prisotni v večjih količinah v našem tele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7 mg/7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g/ 70 k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g/ 7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si navedeni so primarni radioizotopi, ki so navzoči že od nastanka Zemlje. Vsega skupaj je v naravi več kot 60 radioaktivnih elementov.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1258920" y="3875040"/>
                <a:ext cx="542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4"/>
              <p:cNvSpPr txBox="1"/>
              <p:nvPr/>
            </p:nvSpPr>
            <p:spPr>
              <a:xfrm>
                <a:off x="1116000" y="5214960"/>
                <a:ext cx="752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6"/>
              <p:cNvSpPr txBox="1"/>
              <p:nvPr/>
            </p:nvSpPr>
            <p:spPr>
              <a:xfrm>
                <a:off x="1187280" y="4551480"/>
                <a:ext cx="625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" name="Picture 18" descr="leonardo body"/>
          <p:cNvPicPr/>
          <p:nvPr/>
        </p:nvPicPr>
        <p:blipFill>
          <a:blip r:embed="rId1"/>
          <a:stretch/>
        </p:blipFill>
        <p:spPr>
          <a:xfrm>
            <a:off x="6099120" y="3929040"/>
            <a:ext cx="1281240" cy="1738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kladivo vojasko"/>
          <p:cNvPicPr/>
          <p:nvPr/>
        </p:nvPicPr>
        <p:blipFill>
          <a:blip r:embed="rId2"/>
          <a:stretch/>
        </p:blipFill>
        <p:spPr>
          <a:xfrm>
            <a:off x="5869080" y="189000"/>
            <a:ext cx="12240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oplota našega planeta prihaja tudi od radioaktivnega razpada           v njegovi notranjosti – uranova ser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klo (Gabon): naravni fizijski jedrski reaktor v področjih z nahajališči uranove rude, ki je deloval skoraj milijon let. Nevtronski moderator je bila voda iz podtalnice. Moč reaktorja: 100 kW. Reaktor je ugasnil pred 1,5 milijarde l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4181400" y="1865160"/>
                <a:ext cx="669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" name="Picture 6" descr="Gabon naravni fisijski reaktor"/>
          <p:cNvPicPr/>
          <p:nvPr/>
        </p:nvPicPr>
        <p:blipFill>
          <a:blip r:embed="rId1"/>
          <a:stretch/>
        </p:blipFill>
        <p:spPr>
          <a:xfrm>
            <a:off x="6588000" y="1403280"/>
            <a:ext cx="2381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Odkod sevan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 atomi niso stabilni, zato razpa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naravi so takšni predvsem izotopi težjih elementov, ki imajo dodatne nevtrone v jed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razpadu rečemo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i razpa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Nestabilni izotopi so radioaktivni, zato jim rečemo tudi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izotop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radioaktivnem razpadu se del energije atoma sprosti v obliki delcev, ki jih običajno spremlja tudi elektromagnetno valovanje z visoko energ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pojavu rečemo s skupnim imenom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o se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Sevanja radioaktivnih snovi ne moremo prekin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35:09Z</dcterms:created>
  <dc:creator>agodec</dc:creator>
  <dc:description/>
  <dc:language>en-US</dc:language>
  <cp:lastModifiedBy>Anja</cp:lastModifiedBy>
  <dcterms:modified xsi:type="dcterms:W3CDTF">2011-03-26T10:53:59Z</dcterms:modified>
  <cp:revision>146</cp:revision>
  <dc:subject/>
  <dc:title>Radioaktivnost je!</dc:title>
</cp:coreProperties>
</file>