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.gif" ContentType="image/gif"/>
  <Override PartName="/ppt/media/image28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55.jpeg" ContentType="image/jpeg"/>
  <Override PartName="/ppt/media/image2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19.png" ContentType="image/png"/>
  <Override PartName="/ppt/media/image61.png" ContentType="image/png"/>
  <Override PartName="/ppt/media/image20.jpeg" ContentType="image/jpeg"/>
  <Override PartName="/ppt/media/image25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26.jpeg" ContentType="image/jpeg"/>
  <Override PartName="/ppt/media/image32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wmf" ContentType="image/x-wmf"/>
  <Override PartName="/ppt/media/image44.jpeg" ContentType="image/jpeg"/>
  <Override PartName="/ppt/media/image4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4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F15-90A1-446F-8019-123F176DD37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E8B-485F-4602-8325-18FA5FA632C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541D-D9F0-4415-8FA5-9CA367CF30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DD2-AA75-4556-9263-CB38FB86D0F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8C4-23A6-405B-976E-CF91F61A89F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0812-6B19-4469-A204-248EA142C89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9EC7-369B-4190-B584-BE6AED70E56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851-273A-4234-9BFA-49521690D6B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9DA6-6E29-4354-A69B-E3930080C69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E78-B7CD-4958-A88B-F43E8D8C2D8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FAC-DD9D-4184-AE2B-E9D57AAE8F4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DBF-99C8-4F7E-94A2-B6C47F549BF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A74-BBB5-46EE-B7CA-0D25BB44089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E32-40EB-4601-85CF-E433C07BFC7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752-27B0-4C61-BCDC-04A847B19F7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454-4174-45C7-B935-6761E0FD7EB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567-5EAC-436D-B9F2-F0FB0A318DA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ECC-6202-4B2C-8AF7-975455830E5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FCA-DD0D-43C1-B967-998D1DDB254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26B4-9C5A-4002-ABE1-0746AE1A4FC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AB52-0E33-4730-BB80-89F7735D279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A41-C5FB-47EE-B79C-03727A39FA6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9767-5739-463C-85DA-B2637AD205B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8428-C752-4AEA-8A67-B7C4F0C439C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ED0-72B5-4B4E-B58B-6E0313ACF2E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7958-A7F5-4144-94BA-C5FC9591A0E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3CD-8B71-4270-A1A8-E845C2E9099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256C-E328-4B39-A81D-BCE0665564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EE89-33DC-45B4-97E6-19678E2F67A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010-238C-4F2E-91DF-E656A1031F2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444-6CB4-47DD-A4DB-1EC4E84A7E4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AAF4-CC89-4982-ACED-9D08C66198F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8AAB-A67F-4DD1-836F-CAD50EDF950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99A2-FA3B-4CF2-9C42-ED8881EA4AF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FA49-80E3-4742-A801-14BE0D6A811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244-D0E1-4C70-B408-34AFAF0F73A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CF80-11AA-4934-8D1B-33C21BF0758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6387-358E-42D5-BD30-6A0643D8CBC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7E1-6367-4759-BAF3-32462B9E031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D79B-326D-45DC-BF20-49863CA3A03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ADA-0F91-49BA-B1A4-2F7C798FCF7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494-074F-42B8-B533-190585D4066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2E25-90B8-46E5-889E-7582F0494DF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A11-5B18-441B-89AE-D639319C823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FB4A-D76A-47FA-811D-9033BB6653E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73F-0E4C-4049-9A88-E08D64B5E9E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2ED-279A-4193-97FE-C1F2539ECCF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1A50-0E4E-49E8-9D56-8599ECBD2E8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BCA-0EFF-4CD3-BF21-CB006581768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2E1-3435-44D2-A657-BEA8C2BB268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017B-9F92-4AAA-9E91-22855E59EDD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7C5-5CA7-4B0D-86FC-C4FC3BEF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24B-C44A-43FC-9341-FB41D5B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0BD-201F-41B1-A13A-9E4A5621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F8B-AB08-4207-AEED-9A7C18B3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581-94AC-43D8-815C-94CFD585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4D2-7F57-461C-AC07-30F443A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0D6-556F-40CC-9EDF-7E7A89F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F39-DDA8-4ABA-BE7A-AC73E598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FB9-7F16-4699-AB39-CBEE36D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A28-B477-435C-BC6D-17678F8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1AE-7CAB-4CEC-9A65-9AAF0E9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31C-E311-45DC-A58C-A88728A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98ED-D933-4962-B812-11EF743E0C0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Picture 4" descr="modern atom[1]"/>
          <p:cNvPicPr/>
          <p:nvPr/>
        </p:nvPicPr>
        <p:blipFill>
          <a:blip r:embed="rId1"/>
          <a:stretch/>
        </p:blipFill>
        <p:spPr>
          <a:xfrm>
            <a:off x="3638520" y="24210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imbol za radioaktivnost"/>
          <p:cNvPicPr/>
          <p:nvPr/>
        </p:nvPicPr>
        <p:blipFill>
          <a:blip r:embed="rId2"/>
          <a:stretch/>
        </p:blipFill>
        <p:spPr>
          <a:xfrm>
            <a:off x="2881440" y="6276960"/>
            <a:ext cx="19044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ionirja na področju radioaktiv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a bila pred dobrimi sto le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. Becquerrel in Marie Cu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stabilne izotope pa znajo znanstveniki narediti tudi v laboratori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vi (?) uspešen alkimist na svetu: Ernest Rutherford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0px-Mariecurie"/>
          <p:cNvPicPr/>
          <p:nvPr/>
        </p:nvPicPr>
        <p:blipFill>
          <a:blip r:embed="rId1"/>
          <a:stretch/>
        </p:blipFill>
        <p:spPr>
          <a:xfrm>
            <a:off x="7599240" y="404640"/>
            <a:ext cx="1220760" cy="142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znamka - rutherford"/>
          <p:cNvPicPr/>
          <p:nvPr/>
        </p:nvPicPr>
        <p:blipFill>
          <a:blip r:embed="rId2"/>
          <a:stretch/>
        </p:blipFill>
        <p:spPr>
          <a:xfrm>
            <a:off x="971640" y="4437000"/>
            <a:ext cx="2933640" cy="1790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5364000" y="4983120"/>
                <a:ext cx="2587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1" name="Picture 8" descr="becquerel"/>
          <p:cNvPicPr/>
          <p:nvPr/>
        </p:nvPicPr>
        <p:blipFill>
          <a:blip r:embed="rId3"/>
          <a:stretch/>
        </p:blipFill>
        <p:spPr>
          <a:xfrm>
            <a:off x="6265800" y="403200"/>
            <a:ext cx="1028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Cer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HC (Large Hadron Collider): 100 m pod zemljo, 27 km v preme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va curka subatomskih delcev hadronov (protonov ali pa svinčevih ionov) z veliko energijo čelno trči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čakovanja: veliko novih subatomskih delcev, supersimetrija, Higgsov bozon – ultimativni delec, ki je bil že teoretično napovedan v Standardnem mod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ern4.jpg"/>
          <p:cNvPicPr/>
          <p:nvPr/>
        </p:nvPicPr>
        <p:blipFill>
          <a:blip r:embed="rId1"/>
          <a:stretch/>
        </p:blipFill>
        <p:spPr>
          <a:xfrm>
            <a:off x="3222720" y="219240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ern 6.jpg"/>
          <p:cNvPicPr/>
          <p:nvPr/>
        </p:nvPicPr>
        <p:blipFill>
          <a:blip r:embed="rId2"/>
          <a:stretch/>
        </p:blipFill>
        <p:spPr>
          <a:xfrm>
            <a:off x="6429240" y="285840"/>
            <a:ext cx="14288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iggsov bozon: je delec ali delci, ki dajejo drugim maso. Ti delci so verjeten odgovor na vprašanje, odkod delcem m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eter Higgs (1960): vesolje je napolnjeno z neko vrsto mreže (Higgsovo polje), ki vpliva na delce, ki se premikajo po njem; tak delec ustvari v polju majhno popačenje, kar mu da mas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exploratorium.edu/origins/cern/ideas/higg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phy.uct.ac.za/courses/phy400w/particle/higg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higgs3_small.gif"/>
          <p:cNvPicPr/>
          <p:nvPr/>
        </p:nvPicPr>
        <p:blipFill>
          <a:blip r:embed="rId1"/>
          <a:stretch/>
        </p:blipFill>
        <p:spPr>
          <a:xfrm>
            <a:off x="3395520" y="2492280"/>
            <a:ext cx="23529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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otop emitira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tarševski izoto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čerinski izo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a: detektorji 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3995640" y="1585800"/>
                <a:ext cx="604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449520" y="2781360"/>
                <a:ext cx="2490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Line 14"/>
          <p:cNvSpPr/>
          <p:nvPr/>
        </p:nvSpPr>
        <p:spPr>
          <a:xfrm flipV="1">
            <a:off x="3060720" y="328464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 flipV="1">
            <a:off x="5003280" y="328428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3276720" y="5380200"/>
                <a:ext cx="2485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Picture 20" descr="Ionization_Smoke_Detector___Smoke_Alarm"/>
          <p:cNvPicPr/>
          <p:nvPr/>
        </p:nvPicPr>
        <p:blipFill>
          <a:blip r:embed="rId1"/>
          <a:stretch/>
        </p:blipFill>
        <p:spPr>
          <a:xfrm>
            <a:off x="6819840" y="465300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alfa slika1"/>
          <p:cNvPicPr/>
          <p:nvPr/>
        </p:nvPicPr>
        <p:blipFill>
          <a:blip r:embed="rId2"/>
          <a:stretch/>
        </p:blipFill>
        <p:spPr>
          <a:xfrm>
            <a:off x="4975200" y="189000"/>
            <a:ext cx="41338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o sevanje je nevarno predvsem v primeru zaužitja snovi, ki s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320 ton osiromašenega urana je bilo “izgubljenih” samo v prvi zalivski vojni (tudi U - 238 je alfa seval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Žrtev tega sevanja je bil zaradi zastrupit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 polonijem leta 2006 tudi Rus A. Litvinen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lonij je močan α sevalec; na sekundo odda 4000 krat več α delcev kot ista masa na primer izotopa radija, ki je tudi sam zelo radioaktiven, in razpade do plina rad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2124000" y="3832200"/>
                <a:ext cx="2911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Picture 6" descr="simbol za radioaktivnost"/>
          <p:cNvPicPr/>
          <p:nvPr/>
        </p:nvPicPr>
        <p:blipFill>
          <a:blip r:embed="rId1"/>
          <a:stretch/>
        </p:blipFill>
        <p:spPr>
          <a:xfrm>
            <a:off x="6934320" y="426960"/>
            <a:ext cx="950760" cy="8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lexanderLitvinenkoHospital"/>
          <p:cNvPicPr/>
          <p:nvPr/>
        </p:nvPicPr>
        <p:blipFill>
          <a:blip r:embed="rId2"/>
          <a:stretch/>
        </p:blipFill>
        <p:spPr>
          <a:xfrm>
            <a:off x="6227640" y="307800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ajo ga elektroni z visoko energijo, ki nastanejo pri razpadu nevtronov v jed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stane pri razpadu nekaterih radioaktivnih snovi v naravi in odpadnih produktov v jedrskih reaktorj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tiranje s pomočjo izotopa oglj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 z AMS (Accelerator Mass Spectrometry);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80 000 let nazaj (14 razpolovnih časov), ko je navzočih le še 0,006% začetne količine izotopa oglj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060640"/>
                <a:ext cx="1957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2124000" y="4653000"/>
                <a:ext cx="2281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8" name="Picture 13" descr="divje babe 2"/>
          <p:cNvPicPr/>
          <p:nvPr/>
        </p:nvPicPr>
        <p:blipFill>
          <a:blip r:embed="rId1"/>
          <a:stretch/>
        </p:blipFill>
        <p:spPr>
          <a:xfrm>
            <a:off x="5770440" y="4076640"/>
            <a:ext cx="2689200" cy="1301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Beta sevanje"/>
          <p:cNvPicPr/>
          <p:nvPr/>
        </p:nvPicPr>
        <p:blipFill>
          <a:blip r:embed="rId2"/>
          <a:stretch/>
        </p:blipFill>
        <p:spPr>
          <a:xfrm>
            <a:off x="4226040" y="-100080"/>
            <a:ext cx="1714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1620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medicini za zdravljenje očesnih bolezni in kostnega ra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dravljenje bolezni ščitn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ricij       pri proučevanju telesnega metabolizma in varnosti novih zdra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stiranje puščanja ce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35120" y="2090880"/>
                <a:ext cx="633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4597560" y="2881440"/>
                <a:ext cx="550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604880" y="3673440"/>
                <a:ext cx="482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356000" y="4811760"/>
                <a:ext cx="8128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nevarnejša je izpostavljenost z vdihavanjem, ali zaužitje sevalca;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vanje je prodornejše od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rektna izpostavljenost je tudi nevarna (pordečenje kože, opekl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od – 131 se akumulira v ščitn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cij – 90 se akumulira v kosteh in zobe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mbol za radioaktivnost"/>
          <p:cNvPicPr/>
          <p:nvPr/>
        </p:nvPicPr>
        <p:blipFill>
          <a:blip r:embed="rId1"/>
          <a:stretch/>
        </p:blipFill>
        <p:spPr>
          <a:xfrm>
            <a:off x="6141960" y="282600"/>
            <a:ext cx="9511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elektromagnetno valovanje z valovno dolžino pod 124 pm, ki spremlja α in β radioaktivni razpad nekaterih izotopov; primer:           je vzbujeni izo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najprodornejše; zadržijo ga le debele plasti svinca, betona (6 krat debelejša plast) ali v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 fotoni imajo 10 000 krat višjo energijo kot fotoni iz vidnega dela elektromagnetnega spek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Gamma_Decay_svg"/>
          <p:cNvPicPr/>
          <p:nvPr/>
        </p:nvPicPr>
        <p:blipFill>
          <a:blip r:embed="rId1"/>
          <a:stretch/>
        </p:blipFill>
        <p:spPr>
          <a:xfrm>
            <a:off x="4729320" y="250920"/>
            <a:ext cx="1714320" cy="1162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346040" y="3068640"/>
                <a:ext cx="272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330200" y="3789360"/>
                <a:ext cx="237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572000" y="2463840"/>
                <a:ext cx="78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 okrog 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e se uporabljajo         ,            in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balt – 60: sterilizacija medicinske opreme v bolnišnicah, hrane v živilski industriji in pošte; zdravljenje raka, kontrola materialov v industriji (npr. debeline, defekt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 – 99: najpogostejši izotop za diagnostiko v jedrski medicini (kontrastno sredstvo pri tomografij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716360" y="1467000"/>
                <a:ext cx="704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5591160" y="1467000"/>
                <a:ext cx="78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6804000" y="1468440"/>
                <a:ext cx="684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Picture 11" descr="simbol za sterilizirano hrano"/>
          <p:cNvPicPr/>
          <p:nvPr/>
        </p:nvPicPr>
        <p:blipFill>
          <a:blip r:embed="rId1"/>
          <a:stretch/>
        </p:blipFill>
        <p:spPr>
          <a:xfrm>
            <a:off x="2286000" y="33336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AT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214960" y="3571920"/>
            <a:ext cx="2286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ša je direktna zunanja izpostavljenost, naprimer naravnim radionuklidom, ki so gama sevalci: kalij – 40 (zemlja, voda, meso, banane ...), radij itd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postavljenost sevalcem kot posledica uporabe v medicini in industr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radi svoje prodornosti so gama žarki zelo nevarni (radiacijska bolezen: izpostavljenost velik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am v kratkem času, pri čemer povzroč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ama sevanje največ šk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imbol za radioaktivnost"/>
          <p:cNvPicPr/>
          <p:nvPr/>
        </p:nvPicPr>
        <p:blipFill>
          <a:blip r:embed="rId1"/>
          <a:stretch/>
        </p:blipFill>
        <p:spPr>
          <a:xfrm>
            <a:off x="5708520" y="282600"/>
            <a:ext cx="951120" cy="833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Radiation_burns_on_a_Japanese_woman_after_a_nuclear_explosion_in_1945"/>
          <p:cNvPicPr/>
          <p:nvPr/>
        </p:nvPicPr>
        <p:blipFill>
          <a:blip r:embed="rId2"/>
          <a:stretch/>
        </p:blipFill>
        <p:spPr>
          <a:xfrm>
            <a:off x="7308720" y="5013360"/>
            <a:ext cx="8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03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et z letalom, Paris – Los Ange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rog 48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 (višina 11 km, 11 u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ziroma cca. 5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akodnevno gledanje TV ali 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 računalnikom: 0,0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pična efektivna doza sevanja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h virov v medicini: 0,06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mSv/leto: sevanje naravnega ozad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mSv/leto: rudarji v dnevnih kopih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etalo1"/>
          <p:cNvPicPr/>
          <p:nvPr/>
        </p:nvPicPr>
        <p:blipFill>
          <a:blip r:embed="rId1"/>
          <a:stretch/>
        </p:blipFill>
        <p:spPr>
          <a:xfrm>
            <a:off x="6531120" y="981000"/>
            <a:ext cx="1209600" cy="9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gama kamera"/>
          <p:cNvPicPr/>
          <p:nvPr/>
        </p:nvPicPr>
        <p:blipFill>
          <a:blip r:embed="rId2"/>
          <a:stretch/>
        </p:blipFill>
        <p:spPr>
          <a:xfrm>
            <a:off x="6588000" y="3024360"/>
            <a:ext cx="1770120" cy="126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ranium mine across colorado river"/>
          <p:cNvPicPr/>
          <p:nvPr/>
        </p:nvPicPr>
        <p:blipFill>
          <a:blip r:embed="rId3"/>
          <a:stretch/>
        </p:blipFill>
        <p:spPr>
          <a:xfrm>
            <a:off x="6948360" y="4651200"/>
            <a:ext cx="1278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zpostavljenost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516720" y="36450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NARA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OZAD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28440" y="1413000"/>
          <a:ext cx="62722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413000"/>
                    <a:ext cx="6272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AutoShape 5"/>
          <p:cNvSpPr/>
          <p:nvPr/>
        </p:nvSpPr>
        <p:spPr>
          <a:xfrm>
            <a:off x="6300720" y="3357720"/>
            <a:ext cx="216000" cy="1323720"/>
          </a:xfrm>
          <a:custGeom>
            <a:avLst/>
            <a:gdLst>
              <a:gd name="textAreaLeft" fmla="*/ 0 w 216000"/>
              <a:gd name="textAreaRight" fmla="*/ 78120 w 216000"/>
              <a:gd name="textAreaTop" fmla="*/ 20160 h 1323720"/>
              <a:gd name="textAreaBottom" fmla="*/ 130356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0"/>
                  <a:pt x="10800" y="1059"/>
                </a:cubicBezTo>
                <a:lnTo>
                  <a:pt x="10800" y="9741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30"/>
                  <a:pt x="10800" y="11859"/>
                </a:cubicBezTo>
                <a:lnTo>
                  <a:pt x="10800" y="20541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Letna efektivna doza za prebivalce Slovenije /</a:t>
            </a:r>
            <a:r>
              <a:rPr b="0" lang="sl-SI" sz="28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v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(vir: ARAO, 2006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1592280"/>
          <a:ext cx="7715160" cy="4479840"/>
        </p:xfrm>
        <a:graphic>
          <a:graphicData uri="http://schemas.openxmlformats.org/drawingml/2006/table">
            <a:tbl>
              <a:tblPr/>
              <a:tblGrid>
                <a:gridCol w="3683160"/>
                <a:gridCol w="1803240"/>
                <a:gridCol w="222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 sevan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vprečna vre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ksimalna vredn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ično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ogeni radionukli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eljsko gama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nuklidi v organizm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stija Rn-2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(zaokrože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Efektivne doze po svetu (brez radona), mSv/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evanje ozadja v svetu"/>
          <p:cNvPicPr/>
          <p:nvPr/>
        </p:nvPicPr>
        <p:blipFill>
          <a:blip r:embed="rId1"/>
          <a:stretch/>
        </p:blipFill>
        <p:spPr>
          <a:xfrm>
            <a:off x="611280" y="1700280"/>
            <a:ext cx="7697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drasel človek (70 kg): 7000 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kg kave: 1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rovničev sok: 30 Bq/d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doza 0,3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ceani: 4,0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uran); 1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kalij); 1,33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rubidij – 87); 6,7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ogljik – 14); 7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trici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človek"/>
          <p:cNvPicPr/>
          <p:nvPr/>
        </p:nvPicPr>
        <p:blipFill>
          <a:blip r:embed="rId1"/>
          <a:stretch/>
        </p:blipFill>
        <p:spPr>
          <a:xfrm>
            <a:off x="5338800" y="189000"/>
            <a:ext cx="283356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ivan cankar"/>
          <p:cNvPicPr/>
          <p:nvPr/>
        </p:nvPicPr>
        <p:blipFill>
          <a:blip r:embed="rId2"/>
          <a:stretch/>
        </p:blipFill>
        <p:spPr>
          <a:xfrm>
            <a:off x="7164360" y="164304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skodelica kave"/>
          <p:cNvPicPr/>
          <p:nvPr/>
        </p:nvPicPr>
        <p:blipFill>
          <a:blip r:embed="rId3"/>
          <a:stretch/>
        </p:blipFill>
        <p:spPr>
          <a:xfrm>
            <a:off x="5724360" y="1773360"/>
            <a:ext cx="1144800" cy="78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oceans"/>
          <p:cNvPicPr/>
          <p:nvPr/>
        </p:nvPicPr>
        <p:blipFill>
          <a:blip r:embed="rId4"/>
          <a:stretch/>
        </p:blipFill>
        <p:spPr>
          <a:xfrm>
            <a:off x="7104240" y="4292640"/>
            <a:ext cx="1428480" cy="960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borovnice"/>
          <p:cNvPicPr/>
          <p:nvPr/>
        </p:nvPicPr>
        <p:blipFill>
          <a:blip r:embed="rId5"/>
          <a:stretch/>
        </p:blipFill>
        <p:spPr>
          <a:xfrm>
            <a:off x="4713120" y="3429000"/>
            <a:ext cx="1011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houses_3"/>
          <p:cNvPicPr/>
          <p:nvPr/>
        </p:nvPicPr>
        <p:blipFill>
          <a:blip r:embed="rId1"/>
          <a:stretch/>
        </p:blipFill>
        <p:spPr>
          <a:xfrm>
            <a:off x="7164360" y="404640"/>
            <a:ext cx="1716120" cy="1209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rak v povprečni evropski hiši (radon): 30 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izotopi za diagnostiko v medici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600 MBq oziroma 3 m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npr. scintigram kosti, izotop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ev – 99 difosfonat; pokažejo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roče točke”, kjer je infekcija ali tum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50 MBq/kg. Sesta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99,27 % uran – 238 (aktivnost 12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0,72 % uran – 235 (aktivnost 78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pet stotink promila uran – 2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180px-Ranger_Uranium_Mine_in_Kakadu_National_Park"/>
          <p:cNvPicPr/>
          <p:nvPr/>
        </p:nvPicPr>
        <p:blipFill>
          <a:blip r:embed="rId2"/>
          <a:stretch/>
        </p:blipFill>
        <p:spPr>
          <a:xfrm>
            <a:off x="6985080" y="4743360"/>
            <a:ext cx="1619280" cy="99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bone scintigram"/>
          <p:cNvPicPr/>
          <p:nvPr/>
        </p:nvPicPr>
        <p:blipFill>
          <a:blip r:embed="rId3"/>
          <a:stretch/>
        </p:blipFill>
        <p:spPr>
          <a:xfrm>
            <a:off x="7556400" y="2205000"/>
            <a:ext cx="90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pecifična aktivnost nuklidov v mleku v okolici Ljubljane; vir: AR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539640" y="1487520"/>
          <a:ext cx="80582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7520"/>
                    <a:ext cx="8058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Radon v Sloveniji (leto 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Velenje 18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raka; Kočevje do 4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povišano naravno ozadje, bivši rudnik premoga); največ: K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prti prostori do 6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dopustno do 2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kord: termalna voda, toplice Snovik v Tuhinjski dolini (do 63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Dolenjske Toplice (51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ladišče za nizko in srednje radioaktivne odpadke v Brinju (zdravstvo, industrija, šolstvo, znanost): 63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slovenija"/>
          <p:cNvPicPr/>
          <p:nvPr/>
        </p:nvPicPr>
        <p:blipFill>
          <a:blip r:embed="rId1"/>
          <a:stretch/>
        </p:blipFill>
        <p:spPr>
          <a:xfrm>
            <a:off x="6948360" y="11592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3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RAZPOLOVNICAS"/>
          <p:cNvPicPr/>
          <p:nvPr/>
        </p:nvPicPr>
        <p:blipFill>
          <a:blip r:embed="rId1"/>
          <a:stretch/>
        </p:blipFill>
        <p:spPr>
          <a:xfrm>
            <a:off x="1325520" y="1600200"/>
            <a:ext cx="649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oliko časa do pol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– 238: razpolovni čas je 4,5 x 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sečna plača: razpolovni čas 15 dni (če se le da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vi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cezij – 137 (jedrske eksplozije, Černobil): 30 l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tehnecij – 99: 6 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jod – 131: 8 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radioaktivni vir je nenevaren takrat, ko je njegova aktivnost podobna tisti v naravnem ozad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604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K (700 M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o gorivo: 95% uran – 238 in 5% uran – 235 (jedrsko orožje: 90% urana – 23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orivne palice iz cirkonija vsebujejo gorivo v obliki U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: 121 gorivnih elementov, vsak ima 235 gorivnih palic, skupaj 50 ton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gorivni_elementi v NEK"/>
          <p:cNvPicPr/>
          <p:nvPr/>
        </p:nvPicPr>
        <p:blipFill>
          <a:blip r:embed="rId1"/>
          <a:stretch/>
        </p:blipFill>
        <p:spPr>
          <a:xfrm>
            <a:off x="5003640" y="5300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Nek"/>
          <p:cNvPicPr/>
          <p:nvPr/>
        </p:nvPicPr>
        <p:blipFill>
          <a:blip r:embed="rId2"/>
          <a:stretch/>
        </p:blipFill>
        <p:spPr>
          <a:xfrm>
            <a:off x="5576760" y="1159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pcija nevtronov: bor (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v hladilni vodi ali regulacijske palice iz srebra, indija in kadm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derator nevtronov: hladilna voda (jih upočas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a energija (toplota)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uparevanje vod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parne turbin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električni generator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ni izkoristek: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hladilna voda"/>
          <p:cNvPicPr/>
          <p:nvPr/>
        </p:nvPicPr>
        <p:blipFill>
          <a:blip r:embed="rId1"/>
          <a:stretch/>
        </p:blipFill>
        <p:spPr>
          <a:xfrm>
            <a:off x="3276720" y="3141720"/>
            <a:ext cx="1903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veni produkti so prav tako radioaktivni; predstavljajo del radioaktivnih odpadkov iz jedrskih elektrarn, zato jih je treba pravilno skladiščiti. Z njimi je povezanih večina ekoloških problemov v zvezi s pridobivanjem energije iz jedrskih elektr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nec leta 2004 v elektrarni: 2289 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dpadkov (nizko in srednje radioaktivni, to so taki, ki po 300 letih niso več radioaktivni), skupna aktivnost 19 T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odlagalisce1"/>
          <p:cNvPicPr/>
          <p:nvPr/>
        </p:nvPicPr>
        <p:blipFill>
          <a:blip r:embed="rId1"/>
          <a:stretch/>
        </p:blipFill>
        <p:spPr>
          <a:xfrm>
            <a:off x="5132520" y="3357720"/>
            <a:ext cx="952200" cy="127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istilna_naprava01"/>
          <p:cNvPicPr/>
          <p:nvPr/>
        </p:nvPicPr>
        <p:blipFill>
          <a:blip r:embed="rId2"/>
          <a:stretch/>
        </p:blipFill>
        <p:spPr>
          <a:xfrm>
            <a:off x="1476360" y="3429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smotrna uporaba jedrske en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tomska bomba: nekontrolirana jedrska verižna re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meričani so avgusta 1945 na japonski mesti Hirošimo in Nagasaki odvrgli atomski bombi moči 13 kiloton TNT (60 kg urana – 235, Hirošima) in 21 kiloton TNT (6,4 kg plutonija – 239, Nagasaki). Posledice bombardiranja: okrog 200 000 ubitih civilistov in še večje število obole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250px-Hiroshima_aftermath"/>
          <p:cNvPicPr/>
          <p:nvPr/>
        </p:nvPicPr>
        <p:blipFill>
          <a:blip r:embed="rId1"/>
          <a:stretch/>
        </p:blipFill>
        <p:spPr>
          <a:xfrm>
            <a:off x="4710240" y="4365720"/>
            <a:ext cx="3174840" cy="172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250px-Nagasakibomb"/>
          <p:cNvPicPr/>
          <p:nvPr/>
        </p:nvPicPr>
        <p:blipFill>
          <a:blip r:embed="rId2"/>
          <a:stretch/>
        </p:blipFill>
        <p:spPr>
          <a:xfrm>
            <a:off x="1465200" y="4102200"/>
            <a:ext cx="1666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NT je okrajšava za klasično eksplozivo 2,4,6 - trinitrotoluen. Moč jedrske eksplozije je izražena s pomočjo mase v kilotonah TNT, ki bi morala eksplodirati za podoben učinek. Energija pri eksploziji 1 kilotone TNT znaša 4,184·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J. Toliko energije nastane na primer pri zgorevanju okrog 143 ton premo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nes: atomske bombe z močjo 500 kil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Atomska bomba Fat_man"/>
          <p:cNvPicPr/>
          <p:nvPr/>
        </p:nvPicPr>
        <p:blipFill>
          <a:blip r:embed="rId1"/>
          <a:stretch/>
        </p:blipFill>
        <p:spPr>
          <a:xfrm>
            <a:off x="6458040" y="3879720"/>
            <a:ext cx="17143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i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W. Atkins: Physical Chemistry, 8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Ed., Oxford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 Monk: Physical Chemistry - Understanding our Chemical World, John Wiley and 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a RS za jedrsko varnost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ursjv.gov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gencija za radioaktivne odpadke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arao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ikipedia (slike)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en.wikipedia.org/wiki/Main_Pag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vironmental Protection Agency (</a:t>
            </a: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epa.gov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teachers.web.cern.ch/teacher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hyperphysics.phy-astr.gsu.edu/hbase/nuclear/nucno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particleadventure.org/frameless/4interactio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science.uniserve.edu.au/school/curric/stage6/phys/physapple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uic.com.au/nip26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radiation.org/reading/pubs/testimonyNJFeb20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8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ližnje UV, vidno in IR elektromagnetno valovanje, mikrovalovi in radijski valov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 valovanje lahko sproži naprimer nekatere fotokemijske reakcije in pospeši radikalske rea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lahko opekline kože; večino ga zadrži že zemeljska atmosf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ergija praviloma ni zadostna za ionizacijo atomov in molek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Geiger-Millerjev šte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Geiger Millerjev števec"/>
          <p:cNvPicPr/>
          <p:nvPr/>
        </p:nvPicPr>
        <p:blipFill>
          <a:blip r:embed="rId1"/>
          <a:stretch/>
        </p:blipFill>
        <p:spPr>
          <a:xfrm>
            <a:off x="3143160" y="2381400"/>
            <a:ext cx="2857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5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ej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dioaktivno (ionizirajoče) sevanj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je na našem planetu stalno prisotno. Rečemo mu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ravno ozadj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ir sevanja naravnega ozadja so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kozmični žark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ddaljenega vesolja in od našega sonca, in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radioaktivne snov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v globinah našega plan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dioaktivni izotopi, ki so prisotni v večjih količinah v našem tel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7 mg/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si navedeni so primarni radioizotopi, ki so navzoči že od nastanka Zemlje. Vsega skupaj je v naravi več kot 60 radioaktivnih elementov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1258920" y="3875040"/>
                <a:ext cx="54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4"/>
              <p:cNvSpPr txBox="1"/>
              <p:nvPr/>
            </p:nvSpPr>
            <p:spPr>
              <a:xfrm>
                <a:off x="1116000" y="5214960"/>
                <a:ext cx="752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6"/>
              <p:cNvSpPr txBox="1"/>
              <p:nvPr/>
            </p:nvSpPr>
            <p:spPr>
              <a:xfrm>
                <a:off x="1187280" y="4551480"/>
                <a:ext cx="625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18" descr="leonardo body"/>
          <p:cNvPicPr/>
          <p:nvPr/>
        </p:nvPicPr>
        <p:blipFill>
          <a:blip r:embed="rId1"/>
          <a:stretch/>
        </p:blipFill>
        <p:spPr>
          <a:xfrm>
            <a:off x="6099120" y="3929040"/>
            <a:ext cx="1281240" cy="1738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kladivo vojasko"/>
          <p:cNvPicPr/>
          <p:nvPr/>
        </p:nvPicPr>
        <p:blipFill>
          <a:blip r:embed="rId2"/>
          <a:stretch/>
        </p:blipFill>
        <p:spPr>
          <a:xfrm>
            <a:off x="5869080" y="189000"/>
            <a:ext cx="1224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a našega planeta prihaja tudi od radioaktivnega razpada           v njegovi notranjosti – uranova ser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lo (Gabon): naravni fizijski jedrski reaktor v področjih z nahajališči uranove rude, ki je deloval skoraj milijon let. Nevtronski moderator je bila voda iz podtalnice. Moč reaktorja: 100 kW. Reaktor je ugasnil pred 1,5 milijarde l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4181400" y="1865160"/>
                <a:ext cx="669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" name="Picture 6" descr="Gabon naravni fisijski reaktor"/>
          <p:cNvPicPr/>
          <p:nvPr/>
        </p:nvPicPr>
        <p:blipFill>
          <a:blip r:embed="rId1"/>
          <a:stretch/>
        </p:blipFill>
        <p:spPr>
          <a:xfrm>
            <a:off x="6588000" y="1403280"/>
            <a:ext cx="2381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Anja</cp:lastModifiedBy>
  <dcterms:modified xsi:type="dcterms:W3CDTF">2011-03-26T10:53:59Z</dcterms:modified>
  <cp:revision>146</cp:revision>
  <dc:subject/>
  <dc:title>Radioaktivnost je!</dc:title>
</cp:coreProperties>
</file>