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C8C-73FB-414E-85E0-57732062710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DDF-442B-478C-9BA0-7EA26ACC83D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94A-698E-475A-BD8C-AC7E1793D19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F94-D6CA-410D-9AB5-5F787966192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8AB-5E26-498F-96C0-FB8A407AAFF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9BD0-DC9C-419C-9530-155BB5E31E5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608F-89A9-4339-932F-5C810C5E90A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B44-D68B-4BE3-B875-04E58DD0BD8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2BD-E909-4333-8435-3B453DB5FE5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973-B8FE-4313-BC3C-B238100888E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1CA-F8C1-4A0E-8B32-3AFBAC96570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E463-94C2-46FD-8383-801574812B7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CBB7-8BD3-4ED7-A77D-65949E3469D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AEE-9D6D-4558-BFDC-94B9483C566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5D1F-CF51-47B5-979A-C5974A83008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CDA0-AFA4-4DE3-A51A-BBD2C73766E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ECD-72D3-4DCB-8969-4FE7059AC71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60FE-52BF-409A-9565-DCA04872665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92B-6C69-4A54-BABC-EBB66A315F8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7020-7059-4095-B97F-0C9636A89A7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075-8E6C-4ED5-A803-8A84F108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78-496A-461B-82EC-0254416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537-3296-4787-B14E-7447D674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E51-8080-4C8D-B174-CECDA836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85A-DD4C-4AA3-83F0-38C14D4F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5D2-9DA8-495A-B5EB-1A59C7B1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E3D-7881-4E17-B219-552321DA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2D9-A586-41DA-80FD-25794EC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A9C-C5B0-49AA-AAF0-9D478FA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DF1-F423-42AE-BD9B-F78636D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6F5-F47E-40AE-9DA6-951145F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B5-BF7C-4B46-85A4-DB35737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7553-CBD5-4CF7-B212-FB4369E723B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dioaktivno sevanje</a:t>
            </a:r>
            <a:br>
              <a:rPr sz="4400"/>
            </a:b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(interdisciplinarno:kemija – fizika – biolog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8D5-7C70-4F1E-B543-06A2468C2E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3F5A-1226-4232-A7D4-881E447647E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3AB-D3D5-43CA-9E24-81445F459B4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690-EAE7-40CB-9AE2-A65AA444738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720-C285-4DB0-BE52-3E6576F359B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44AB-8346-4EF5-88A7-C37AFF97E8B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0618-A642-4088-8B4D-0B9DE956A9F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061-5331-432A-B04C-7875CE1E8B0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614-5125-4C30-967A-39F9394D1A1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92F1-FADE-4B7E-88BC-C381674103B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918C-AF25-4304-A801-EFC77FD8F9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 vse je dovolj del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em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gradba atoma, izotopi, kemijski procesi pri pridobivanju jedrske energije; merjenje radio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Fizik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stnosti delcev, energija delcev, sile v jed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Biolog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i na metabolizem, povezava z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medic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63EB-C3FA-4A24-A631-2D3A801E157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840-2F5A-4208-9876-D579E12C731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2E1-3ECC-444C-B15C-ABCC05C1489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6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D07-9B7D-463C-B4C7-6D7C7D751B4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8090-69FF-4512-8056-1D879BEA299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B2D-B3D7-4250-9D2F-0B48766D704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A7D9-742E-43A2-8547-25CEFFDAEF4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3D6A-1CE6-4627-8026-323422D6273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Anja</cp:lastModifiedBy>
  <dcterms:modified xsi:type="dcterms:W3CDTF">2011-03-26T10:52:43Z</dcterms:modified>
  <cp:revision>156</cp:revision>
  <dc:subject/>
  <dc:title>Radioaktivnost je!</dc:title>
</cp:coreProperties>
</file>