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17.gif" ContentType="image/gif"/>
  <Override PartName="/ppt/media/image3.png" ContentType="image/png"/>
  <Override PartName="/ppt/media/image16.png" ContentType="image/pn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4.png" ContentType="image/png"/>
  <Override PartName="/ppt/media/image5.jpeg" ContentType="image/jpeg"/>
  <Override PartName="/ppt/media/image8.jpeg" ContentType="image/jpeg"/>
  <Override PartName="/ppt/media/image10.jpeg" ContentType="image/jpe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6FBDF-C61E-42BD-B9C5-1892552CE015}" type="slidenum">
              <a:rPr b="0" lang="sl-S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4B639-60DD-4B6B-B7F6-7B6C49C8C1CC}" type="slidenum">
              <a:rPr b="0" lang="sl-S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7AE8C-6D3F-40D6-89E0-9E59BCBEA5DB}" type="slidenum">
              <a:rPr b="0" lang="sl-S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5546A-22ED-4C7D-9D09-C9FA5971764C}" type="slidenum">
              <a:rPr b="0" lang="sl-S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E577C-AB2F-4D34-93D5-257D64162FAD}" type="slidenum">
              <a:rPr b="0" lang="sl-S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6D60E-B770-42D7-809E-6277A678E359}" type="slidenum">
              <a:rPr b="0" lang="sl-S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DD32E-68DC-4FAB-9E1F-76E976B47216}" type="slidenum">
              <a:rPr b="0" lang="sl-S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2CEF4-F8B6-4639-B958-3B85B7EFA5A9}" type="slidenum">
              <a:rPr b="0" lang="sl-S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C2E1A-E64E-4CF7-B3F6-4E01F1E78F1F}" type="slidenum">
              <a:rPr b="0" lang="sl-S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14ECC-479F-4125-B980-85093F14A779}" type="slidenum">
              <a:rPr b="0" lang="sl-S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340C7-A8BA-4FB1-99F4-018F533D5EE8}" type="slidenum">
              <a:rPr b="0" lang="sl-S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A1D92-D12C-4DEA-B535-EB2AA7CFCDC0}" type="slidenum">
              <a:rPr b="0" lang="sl-S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0A7D6-8D16-43F3-ADB7-5763F7E1C78D}" type="slidenum">
              <a:rPr b="0" lang="sl-S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99A83-1E5C-4707-B3C7-7EA13264AEB0}" type="slidenum">
              <a:rPr b="0" lang="sl-S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6F46F-3A63-4495-9B8B-7964D4E9D970}" type="slidenum">
              <a:rPr b="0" lang="sl-S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699A6-A540-46DB-9060-09650BBA70D6}" type="slidenum">
              <a:rPr b="0" lang="sl-S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F3362-4665-49E2-85DE-BF3B5CF0E1E3}" type="slidenum">
              <a:rPr b="0" lang="sl-S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D1BC7-6CB9-48F3-AC6E-23F85EBBFCF8}" type="slidenum">
              <a:rPr b="0" lang="sl-S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5815D-F868-40EE-AC95-0C96C4F69C2F}" type="slidenum">
              <a:rPr b="0" lang="sl-S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5530F-1140-4EDA-AD32-B81F3A2D9C7C}" type="slidenum">
              <a:rPr b="0" lang="sl-S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1438C-3F31-4FCD-8CF8-F51BD14ED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D28F6-6ACA-457B-90FC-92DBA3875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8F93D-19C9-4EB4-9886-5E835D079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A56D6-A887-4A84-9169-154E53379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FC97A-9606-4E4F-BC78-D95AA5FA3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58DB5-467E-4F94-BE65-8A8A79F9F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11459-FBBE-44B5-B398-53A027E3A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45BEE-E2E0-40C0-BA1F-140BB2812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DE18A-BB4E-41FE-87AF-02C768C65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88B0C-FC7A-47EA-A194-DA9671EB0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03BBB-77A3-44B3-83A9-89D4CD218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AC629-1B76-459B-A572-7DCD0B7CE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0B884-F001-4E9D-B8DE-FCD7B3EF2FBE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9640" y="907920"/>
            <a:ext cx="8229600" cy="237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sl-SI" sz="4400" spc="-1" strike="noStrike">
                <a:solidFill>
                  <a:srgbClr val="ff0000"/>
                </a:solidFill>
                <a:latin typeface="Arial"/>
              </a:rPr>
              <a:t>Radioaktivno sevanje</a:t>
            </a:r>
            <a:br>
              <a:rPr sz="4400"/>
            </a:br>
            <a:r>
              <a:rPr b="0" lang="sl-SI" sz="3200" spc="-1" strike="noStrike">
                <a:solidFill>
                  <a:srgbClr val="ff0000"/>
                </a:solidFill>
                <a:latin typeface="Arial"/>
              </a:rPr>
              <a:t>(interdisciplinarno:kemija – fizika – biologij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3357720"/>
            <a:ext cx="8229600" cy="25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3366ff"/>
                </a:solidFill>
                <a:latin typeface="Arial"/>
              </a:rPr>
              <a:t>Andrej Gode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3366ff"/>
                </a:solidFill>
                <a:latin typeface="Arial"/>
              </a:rPr>
              <a:t>Fakulteta za kemijo in kemijsko tehnologij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3366ff"/>
                </a:solidFill>
                <a:latin typeface="Arial"/>
              </a:rPr>
              <a:t>Univerza v Ljublja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3366ff"/>
                </a:solidFill>
                <a:latin typeface="Arial"/>
              </a:rPr>
              <a:t>andrej.godec@fkkt.uni-lj.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90A06-ED33-4041-84FA-993FBDAC5497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ff0000"/>
                </a:solidFill>
                <a:latin typeface="Arial"/>
              </a:rPr>
              <a:t>Efektivna doza sevan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51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Enota </a:t>
            </a:r>
            <a:r>
              <a:rPr b="0" i="1" lang="sl-SI" sz="2400" spc="-1" strike="noStrike">
                <a:solidFill>
                  <a:srgbClr val="ff0000"/>
                </a:solidFill>
                <a:latin typeface="Arial"/>
              </a:rPr>
              <a:t>sievert</a:t>
            </a:r>
            <a:r>
              <a:rPr b="0" i="1" lang="sl-SI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(Sv): en sievert sevanj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povzroči enak biološki efekt na telo, 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glede na vrsto sevanja. Običajn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uporabljamo enoto milisievert mSv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Naravno ozadje kjerkoli na našem planetu pomeni efektivno dozo okrog 2 do 3 mSv/leto. Rekord: Ramsar (Iran), kjer je efektivna doza tudi do 260 mSv/le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Dovoljena efektivna doza zaradi umetnih virov sevanja je 1 mSv/le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Približno velja: doza sevanja 1 mGy ustreza biološkemu vplivu na telo 1,14 mSv.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8" descr="Telo TheLadyOfShallot by J"/>
          <p:cNvPicPr/>
          <p:nvPr/>
        </p:nvPicPr>
        <p:blipFill>
          <a:blip r:embed="rId1"/>
          <a:stretch/>
        </p:blipFill>
        <p:spPr>
          <a:xfrm>
            <a:off x="6300720" y="1332000"/>
            <a:ext cx="2286000" cy="1736640"/>
          </a:xfrm>
          <a:prstGeom prst="rect">
            <a:avLst/>
          </a:prstGeom>
          <a:ln w="0">
            <a:noFill/>
          </a:ln>
        </p:spPr>
      </p:pic>
      <p:sp>
        <p:nvSpPr>
          <p:cNvPr id="10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81F7A-EDF5-4A76-AE54-79C04ADCCBEB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0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500"/>
                            </p:stCondLst>
                            <p:childTnLst>
                              <p:par>
                                <p:cTn id="25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7" dur="50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1000"/>
                            </p:stCondLst>
                            <p:childTnLst>
                              <p:par>
                                <p:cTn id="25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500"/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0000"/>
                </a:solidFill>
                <a:latin typeface="Arial"/>
              </a:rPr>
              <a:t>Kje je mej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60560"/>
            <a:ext cx="8229600" cy="384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20 mSv/leto: zgornja dovoljena meja za delavce v jedrski industriji, medicini in v rudniki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50 mSv/leto je najnižja efektivna doza, pri kateri so opazili nastanek raka pri odrasli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1000 mSv: radiacijska bolezen, vendar ne nujno sm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10 000 mSv: smrt v nekaj tedni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60083-12D4-49C7-ACEA-CE699E3DC7FB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0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500"/>
                            </p:stCondLst>
                            <p:childTnLst>
                              <p:par>
                                <p:cTn id="27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2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1000"/>
                            </p:stCondLst>
                            <p:childTnLst>
                              <p:par>
                                <p:cTn id="2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0" dur="500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ff0000"/>
                </a:solidFill>
                <a:latin typeface="Arial"/>
              </a:rPr>
              <a:t>Aktivnost radioaktivnih snovi</a:t>
            </a: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2319480"/>
            <a:ext cx="8229600" cy="384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Arial"/>
              </a:rPr>
              <a:t>Aktivnost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radioaktivne snovi: enota je 1 becquerel (Bq), ki znaša 1 razpad na sekund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1 Bq = 1 s </a:t>
            </a:r>
            <a:r>
              <a:rPr b="0" lang="sl-SI" sz="24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Včasih je bila enota Curie: 1 Bq = 27 x 10 </a:t>
            </a:r>
            <a:r>
              <a:rPr b="0" lang="sl-SI" sz="24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C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Merjenje: Geiger - Millerjev števe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DC54A-DCD4-42BD-982F-8A801787B31A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ff0000"/>
                </a:solidFill>
                <a:latin typeface="Arial"/>
              </a:rPr>
              <a:t>Zakonoda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Hrana: v EU je bila po Černobilu določena nova najvišja dovoljena aktivnost izotopa Cs – 137, in sicer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12,5 kBq / kg suhe tež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Doze: 20 mSv letno za izpostavljene delavce; 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- 1 mSv letno za posameznike iz prebivalstva in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- 1 mSv za nerojenega otroka noseče ženske v času do konca nosečnost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Pri zdravniških pregledih in zdravljenju se uporabljata načeli upravičenosti in optimizacij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7DB6E-1F0C-43A8-872E-78061EE2447F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ff0000"/>
                </a:solidFill>
                <a:latin typeface="Arial"/>
              </a:rPr>
              <a:t>Razpolovni čas t</a:t>
            </a:r>
            <a:r>
              <a:rPr b="0" lang="sl-SI" sz="4400" spc="-1" strike="noStrike" baseline="-25000">
                <a:solidFill>
                  <a:srgbClr val="ff0000"/>
                </a:solidFill>
                <a:latin typeface="Arial"/>
              </a:rPr>
              <a:t>1/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338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Radioaktivni razpadi so vsi prvega re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Arial"/>
              </a:rPr>
              <a:t>Razpolovni čas t</a:t>
            </a:r>
            <a:r>
              <a:rPr b="0" lang="sl-SI" sz="2400" spc="-1" strike="noStrike" baseline="-25000">
                <a:solidFill>
                  <a:srgbClr val="ff0000"/>
                </a:solidFill>
                <a:latin typeface="Arial"/>
              </a:rPr>
              <a:t>1/2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: je čas, v katerem se koncentracija zmanjša na polovico začet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Object 2"/>
              <p:cNvSpPr txBox="1"/>
              <p:nvPr/>
            </p:nvSpPr>
            <p:spPr>
              <a:xfrm>
                <a:off x="6311880" y="2060640"/>
                <a:ext cx="1500120" cy="81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n</m:t>
                    </m:r>
                    <m:f>
                      <m:num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=</m:t>
                    </m:r>
                    <m:r>
                      <m:t xml:space="preserve">k</m:t>
                    </m:r>
                    <m:r>
                      <m:t xml:space="preserve">⋅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" name="Object 3"/>
              <p:cNvSpPr txBox="1"/>
              <p:nvPr/>
            </p:nvSpPr>
            <p:spPr>
              <a:xfrm>
                <a:off x="6337440" y="4008600"/>
                <a:ext cx="1374480" cy="78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k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0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DF189-8DAF-43CD-BF62-B46074029B0A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0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500"/>
                            </p:stCondLst>
                            <p:childTnLst>
                              <p:par>
                                <p:cTn id="28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1000"/>
                            </p:stCondLst>
                            <p:childTnLst>
                              <p:par>
                                <p:cTn id="2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5" dur="30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4000"/>
                            </p:stCondLst>
                            <p:childTnLst>
                              <p:par>
                                <p:cTn id="29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3471840"/>
            <a:ext cx="8229600" cy="28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Cepitev jeder v reaktorju - močno eksotermna reakcij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1941: prva nadzorovana verižna reakcija (Enrico Fermi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1954: prva jedrska elektrarna (Obninsk, SSSR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ff0000"/>
                </a:solidFill>
                <a:latin typeface="Arial"/>
              </a:rPr>
              <a:t>Jedrska energi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5" descr="gorivni elementi"/>
          <p:cNvPicPr/>
          <p:nvPr/>
        </p:nvPicPr>
        <p:blipFill>
          <a:blip r:embed="rId1"/>
          <a:stretch/>
        </p:blipFill>
        <p:spPr>
          <a:xfrm>
            <a:off x="3963960" y="1406520"/>
            <a:ext cx="1184400" cy="18064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Enrico Fermi"/>
          <p:cNvPicPr/>
          <p:nvPr/>
        </p:nvPicPr>
        <p:blipFill>
          <a:blip r:embed="rId2"/>
          <a:stretch/>
        </p:blipFill>
        <p:spPr>
          <a:xfrm>
            <a:off x="2994120" y="4653000"/>
            <a:ext cx="857160" cy="10587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7" descr="Obninsk_plant"/>
          <p:cNvPicPr/>
          <p:nvPr/>
        </p:nvPicPr>
        <p:blipFill>
          <a:blip r:embed="rId3"/>
          <a:stretch/>
        </p:blipFill>
        <p:spPr>
          <a:xfrm>
            <a:off x="6156360" y="4581360"/>
            <a:ext cx="1716120" cy="1143000"/>
          </a:xfrm>
          <a:prstGeom prst="rect">
            <a:avLst/>
          </a:prstGeom>
          <a:ln w="0">
            <a:noFill/>
          </a:ln>
        </p:spPr>
      </p:pic>
      <p:sp>
        <p:nvSpPr>
          <p:cNvPr id="126" name="Slide Number Placeholder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9FFCD-2354-49DF-9F2D-7C824BB14C31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0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6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500"/>
                            </p:stCondLst>
                            <p:childTnLst>
                              <p:par>
                                <p:cTn id="30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0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1000"/>
                            </p:stCondLst>
                            <p:childTnLst>
                              <p:par>
                                <p:cTn id="3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4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1500"/>
                            </p:stCondLst>
                            <p:childTnLst>
                              <p:par>
                                <p:cTn id="3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2000"/>
                            </p:stCondLst>
                            <p:childTnLst>
                              <p:par>
                                <p:cTn id="32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2000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4000"/>
                            </p:stCondLst>
                            <p:childTnLst>
                              <p:par>
                                <p:cTn id="324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ff0000"/>
                </a:solidFill>
                <a:latin typeface="Arial"/>
              </a:rPr>
              <a:t>Verižne reakci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nadzorovana jedrska verižna reakcija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(razne možnosti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7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" name="Object 6"/>
              <p:cNvSpPr txBox="1"/>
              <p:nvPr/>
            </p:nvSpPr>
            <p:spPr>
              <a:xfrm>
                <a:off x="900000" y="2895480"/>
                <a:ext cx="45673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Pre>
                      <m:sub>
                        <m:r>
                          <m:rPr>
                            <m:lit/>
                            <m:nor/>
                          </m:rPr>
                          <m:t xml:space="preserve">92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235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U</m:t>
                    </m:r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sPr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n</m:t>
                    </m:r>
                    <m:r>
                      <m:t xml:space="preserve">→</m:t>
                    </m:r>
                    <m:r>
                      <m:t xml:space="preserve"> </m:t>
                    </m:r>
                    <m:sPre>
                      <m:sub>
                        <m:r>
                          <m:rPr>
                            <m:lit/>
                            <m:nor/>
                          </m:rPr>
                          <m:t xml:space="preserve">54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4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rPr>
                        <m:lit/>
                        <m:nor/>
                      </m:rPr>
                      <m:t xml:space="preserve">Xe</m:t>
                    </m:r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sPre>
                      <m:sub>
                        <m:r>
                          <m:rPr>
                            <m:lit/>
                            <m:nor/>
                          </m:rPr>
                          <m:t xml:space="preserve">38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rPr>
                        <m:lit/>
                        <m:nor/>
                      </m:rPr>
                      <m:t xml:space="preserve">Sr</m:t>
                    </m:r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r>
                      <m:t xml:space="preserve">2</m:t>
                    </m:r>
                    <m:r>
                      <m:t xml:space="preserve"> </m:t>
                    </m:r>
                    <m:sPr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32" name="Picture 9" descr="250px-Nuclear_fission_svg"/>
          <p:cNvPicPr/>
          <p:nvPr/>
        </p:nvPicPr>
        <p:blipFill>
          <a:blip r:embed="rId1"/>
          <a:stretch/>
        </p:blipFill>
        <p:spPr>
          <a:xfrm>
            <a:off x="6438960" y="2522520"/>
            <a:ext cx="2381040" cy="371484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Object 10"/>
              <p:cNvSpPr txBox="1"/>
              <p:nvPr/>
            </p:nvSpPr>
            <p:spPr>
              <a:xfrm>
                <a:off x="965160" y="4408560"/>
                <a:ext cx="447048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Pre>
                      <m:sub>
                        <m:r>
                          <m:rPr>
                            <m:lit/>
                            <m:nor/>
                          </m:rPr>
                          <m:t xml:space="preserve">92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235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U</m:t>
                    </m:r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sPr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n</m:t>
                    </m:r>
                    <m:r>
                      <m:t xml:space="preserve">→</m:t>
                    </m:r>
                    <m:r>
                      <m:t xml:space="preserve"> </m:t>
                    </m:r>
                    <m:sPre>
                      <m:sub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92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rPr>
                        <m:lit/>
                        <m:nor/>
                      </m:rPr>
                      <m:t xml:space="preserve">Kr</m:t>
                    </m:r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sPre>
                      <m:sub>
                        <m:r>
                          <m:rPr>
                            <m:lit/>
                            <m:nor/>
                          </m:rPr>
                          <m:t xml:space="preserve">56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41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rPr>
                        <m:lit/>
                        <m:nor/>
                      </m:rPr>
                      <m:t xml:space="preserve">Ba</m:t>
                    </m:r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r>
                      <m:t xml:space="preserve">3</m:t>
                    </m:r>
                    <m:r>
                      <m:t xml:space="preserve"> </m:t>
                    </m:r>
                    <m:sPr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5" name="Slide Number Placeholder 10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1E4B3-E5DF-4CBC-AC51-561118BBA195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0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500"/>
                            </p:stCondLst>
                            <p:childTnLst>
                              <p:par>
                                <p:cTn id="3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1000"/>
                            </p:stCondLst>
                            <p:childTnLst>
                              <p:par>
                                <p:cTn id="3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ff0000"/>
                </a:solidFill>
                <a:latin typeface="Arial"/>
              </a:rPr>
              <a:t>Fuzi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Sonce: fuzijski reak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(zlivanje protonov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Fuzija zaenkrat: žal le kot orožj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(vodikova bomba: 50 megato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4" descr="sonce je fuzijski reaktor"/>
          <p:cNvPicPr/>
          <p:nvPr/>
        </p:nvPicPr>
        <p:blipFill>
          <a:blip r:embed="rId1"/>
          <a:stretch/>
        </p:blipFill>
        <p:spPr>
          <a:xfrm>
            <a:off x="5589720" y="1693800"/>
            <a:ext cx="1646280" cy="15908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5" descr="prva vodikova bomba"/>
          <p:cNvPicPr/>
          <p:nvPr/>
        </p:nvPicPr>
        <p:blipFill>
          <a:blip r:embed="rId2"/>
          <a:stretch/>
        </p:blipFill>
        <p:spPr>
          <a:xfrm>
            <a:off x="5838840" y="4492800"/>
            <a:ext cx="1828800" cy="1457280"/>
          </a:xfrm>
          <a:prstGeom prst="rect">
            <a:avLst/>
          </a:prstGeom>
          <a:ln w="0">
            <a:noFill/>
          </a:ln>
        </p:spPr>
      </p:pic>
      <p:sp>
        <p:nvSpPr>
          <p:cNvPr id="140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7925B-60C8-4BB7-930F-10962C554D84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0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9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500"/>
                            </p:stCondLst>
                            <p:childTnLst>
                              <p:par>
                                <p:cTn id="3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3" dur="5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2000"/>
                            </p:stCondLst>
                            <p:childTnLst>
                              <p:par>
                                <p:cTn id="36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5" dur="500"/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2500"/>
                            </p:stCondLst>
                            <p:childTnLst>
                              <p:par>
                                <p:cTn id="36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ff0000"/>
                </a:solidFill>
                <a:latin typeface="Arial"/>
              </a:rPr>
              <a:t>Prihodnos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Obetajoča fuzijska reakcija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6" descr="obetajoca fusijska reakcija"/>
          <p:cNvPicPr/>
          <p:nvPr/>
        </p:nvPicPr>
        <p:blipFill>
          <a:blip r:embed="rId1"/>
          <a:stretch/>
        </p:blipFill>
        <p:spPr>
          <a:xfrm>
            <a:off x="5364000" y="2421000"/>
            <a:ext cx="1905120" cy="2114640"/>
          </a:xfrm>
          <a:prstGeom prst="rect">
            <a:avLst/>
          </a:prstGeom>
          <a:ln w="0">
            <a:noFill/>
          </a:ln>
        </p:spPr>
      </p:pic>
      <p:sp>
        <p:nvSpPr>
          <p:cNvPr id="14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A1F01-29B7-4F3F-B885-043888F94263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0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500"/>
                            </p:stCondLst>
                            <p:childTnLst>
                              <p:par>
                                <p:cTn id="37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l-SI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8229600" cy="506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ff0000"/>
                </a:solidFill>
                <a:latin typeface="Arial"/>
              </a:rPr>
              <a:t>HVAL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ff0000"/>
                </a:solidFill>
                <a:latin typeface="Arial"/>
              </a:rPr>
              <a:t>Z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ff0000"/>
                </a:solidFill>
                <a:latin typeface="Arial"/>
              </a:rPr>
              <a:t>POTRPEŽLJIVOST</a:t>
            </a:r>
            <a:r>
              <a:rPr b="0" lang="sl-SI" sz="4400" spc="-1" strike="noStrike">
                <a:solidFill>
                  <a:srgbClr val="ff0000"/>
                </a:solidFill>
                <a:latin typeface="Arial"/>
              </a:rPr>
              <a:t>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4" descr="modern atom[1]"/>
          <p:cNvPicPr/>
          <p:nvPr/>
        </p:nvPicPr>
        <p:blipFill>
          <a:blip r:embed="rId1"/>
          <a:stretch/>
        </p:blipFill>
        <p:spPr>
          <a:xfrm>
            <a:off x="3059280" y="189000"/>
            <a:ext cx="2857320" cy="2857320"/>
          </a:xfrm>
          <a:prstGeom prst="rect">
            <a:avLst/>
          </a:prstGeom>
          <a:ln w="0">
            <a:noFill/>
          </a:ln>
        </p:spPr>
      </p:pic>
      <p:sp>
        <p:nvSpPr>
          <p:cNvPr id="14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91A30-BADE-4D9D-B009-C876F8B8C30E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0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86" dur="5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500"/>
                            </p:stCondLst>
                            <p:childTnLst>
                              <p:par>
                                <p:cTn id="388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89" dur="5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1000"/>
                            </p:stCondLst>
                            <p:childTnLst>
                              <p:par>
                                <p:cTn id="39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92" dur="500" fill="hold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1500"/>
                            </p:stCondLst>
                            <p:childTnLst>
                              <p:par>
                                <p:cTn id="39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95" dur="500" fill="hold"/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ff0000"/>
                </a:solidFill>
                <a:latin typeface="Arial"/>
              </a:rPr>
              <a:t>Za vse je dovolj dela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599840"/>
            <a:ext cx="822960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0000"/>
                </a:solidFill>
                <a:latin typeface="Arial"/>
              </a:rPr>
              <a:t>Kemija: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zgradba atoma, izotopi, kemijski procesi pri pridobivanju jedrske energije; merjenje radioaktiv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0000"/>
                </a:solidFill>
                <a:latin typeface="Arial"/>
              </a:rPr>
              <a:t>Fizika: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lastnosti delcev, energija delcev, sile v jed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0000"/>
                </a:solidFill>
                <a:latin typeface="Arial"/>
              </a:rPr>
              <a:t>Biologija: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vplivi na metabolizem, povezava z </a:t>
            </a:r>
            <a:r>
              <a:rPr b="0" lang="sl-SI" sz="3200" spc="-1" strike="noStrike">
                <a:solidFill>
                  <a:srgbClr val="ff0000"/>
                </a:solidFill>
                <a:latin typeface="Arial"/>
              </a:rPr>
              <a:t>medici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09416-2C00-4E4E-A7C6-354346937182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ff0000"/>
                </a:solidFill>
                <a:latin typeface="Arial"/>
              </a:rPr>
              <a:t>Sevan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Neionizirajoč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(nižje energij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Ionizirajoč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(višje energij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3" descr="Radio_waves_hazard_symbol_svg.png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4500720" y="2133720"/>
            <a:ext cx="1223640" cy="1224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" descr="Radioactive_svg.png"/>
          <p:cNvPicPr/>
          <p:nvPr/>
        </p:nvPicPr>
        <p:blipFill>
          <a:blip r:embed="rId2"/>
          <a:stretch/>
        </p:blipFill>
        <p:spPr>
          <a:xfrm>
            <a:off x="4500720" y="4071960"/>
            <a:ext cx="1152360" cy="10112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5" descr="New_radiation_symbol_ISO_21482_svg.png"/>
          <p:cNvPicPr/>
          <p:nvPr/>
        </p:nvPicPr>
        <p:blipFill>
          <a:blip r:embed="rId3"/>
          <a:stretch/>
        </p:blipFill>
        <p:spPr>
          <a:xfrm>
            <a:off x="6956280" y="4118040"/>
            <a:ext cx="1150920" cy="954000"/>
          </a:xfrm>
          <a:prstGeom prst="rect">
            <a:avLst/>
          </a:prstGeom>
          <a:ln w="0">
            <a:noFill/>
          </a:ln>
        </p:spPr>
      </p:pic>
      <p:sp>
        <p:nvSpPr>
          <p:cNvPr id="59" name="Slide Number Placeholder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B51F4-6B4F-47A0-AABF-D63C3895FF6B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" nodeType="afterEffect" fill="hold" presetClass="entr" presetID="3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4000"/>
                            </p:stCondLst>
                            <p:childTnLst>
                              <p:par>
                                <p:cTn id="3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l-SI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Content Placeholder 4" descr="graf sevanje1.gif"/>
          <p:cNvPicPr/>
          <p:nvPr/>
        </p:nvPicPr>
        <p:blipFill>
          <a:blip r:embed="rId1"/>
          <a:stretch/>
        </p:blipFill>
        <p:spPr>
          <a:xfrm>
            <a:off x="1300320" y="1700280"/>
            <a:ext cx="6543360" cy="3228840"/>
          </a:xfrm>
          <a:prstGeom prst="rect">
            <a:avLst/>
          </a:prstGeom>
          <a:ln w="0">
            <a:noFill/>
          </a:ln>
        </p:spPr>
      </p:pic>
      <p:sp>
        <p:nvSpPr>
          <p:cNvPr id="62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DD67E-32B6-4A03-9748-6B02663D7409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ff0000"/>
                </a:solidFill>
                <a:latin typeface="Arial"/>
              </a:rPr>
              <a:t>Ionizirajoče sevan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95280" y="1341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Ionizirajoče sevanje rečemo vsem delcem, k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imajo zadosti energije, da ionizirajo atom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in moleku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Takšni delci izbijejo elektrone iz zunanje lupine v atomi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V večjih količinah lahko ionizirajoče sevanje v živih tkivih povzroči mutacije celic ali pa celo sm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Ionizirajoče sevanje je lahk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sestavljeno iz protonov, nevtronov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elektronov, helijevih jeder, in š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nekaterih drugih delcev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black hole"/>
          <p:cNvPicPr/>
          <p:nvPr/>
        </p:nvPicPr>
        <p:blipFill>
          <a:blip r:embed="rId1"/>
          <a:stretch/>
        </p:blipFill>
        <p:spPr>
          <a:xfrm>
            <a:off x="5724360" y="4797360"/>
            <a:ext cx="3173400" cy="1776600"/>
          </a:xfrm>
          <a:prstGeom prst="rect">
            <a:avLst/>
          </a:prstGeom>
          <a:ln w="0">
            <a:noFill/>
          </a:ln>
        </p:spPr>
      </p:pic>
      <p:sp>
        <p:nvSpPr>
          <p:cNvPr id="66" name="Oval 6"/>
          <p:cNvSpPr/>
          <p:nvPr/>
        </p:nvSpPr>
        <p:spPr>
          <a:xfrm>
            <a:off x="7236000" y="1579680"/>
            <a:ext cx="1058760" cy="1057320"/>
          </a:xfrm>
          <a:prstGeom prst="ellipse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7"/>
          <p:cNvSpPr/>
          <p:nvPr/>
        </p:nvSpPr>
        <p:spPr>
          <a:xfrm>
            <a:off x="7335720" y="1677960"/>
            <a:ext cx="849600" cy="849240"/>
          </a:xfrm>
          <a:prstGeom prst="ellipse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 8"/>
          <p:cNvSpPr/>
          <p:nvPr/>
        </p:nvSpPr>
        <p:spPr>
          <a:xfrm>
            <a:off x="7427880" y="1765440"/>
            <a:ext cx="666720" cy="666720"/>
          </a:xfrm>
          <a:prstGeom prst="ellipse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Oval 9"/>
          <p:cNvSpPr/>
          <p:nvPr/>
        </p:nvSpPr>
        <p:spPr>
          <a:xfrm>
            <a:off x="7523280" y="1870200"/>
            <a:ext cx="447480" cy="447480"/>
          </a:xfrm>
          <a:prstGeom prst="ellipse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Oval 10"/>
          <p:cNvSpPr/>
          <p:nvPr/>
        </p:nvSpPr>
        <p:spPr>
          <a:xfrm>
            <a:off x="7605720" y="1943280"/>
            <a:ext cx="284040" cy="284040"/>
          </a:xfrm>
          <a:prstGeom prst="ellipse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Oval 11"/>
          <p:cNvSpPr/>
          <p:nvPr/>
        </p:nvSpPr>
        <p:spPr>
          <a:xfrm>
            <a:off x="7686720" y="2023920"/>
            <a:ext cx="119160" cy="11916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800" bIns="37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Oval 12"/>
          <p:cNvSpPr/>
          <p:nvPr/>
        </p:nvSpPr>
        <p:spPr>
          <a:xfrm>
            <a:off x="8107200" y="2367000"/>
            <a:ext cx="44640" cy="4608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Oval 13"/>
          <p:cNvSpPr/>
          <p:nvPr/>
        </p:nvSpPr>
        <p:spPr>
          <a:xfrm>
            <a:off x="7939080" y="1886040"/>
            <a:ext cx="46080" cy="4608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Oval 14"/>
          <p:cNvSpPr/>
          <p:nvPr/>
        </p:nvSpPr>
        <p:spPr>
          <a:xfrm>
            <a:off x="7450200" y="2098800"/>
            <a:ext cx="46080" cy="4608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Oval 15"/>
          <p:cNvSpPr/>
          <p:nvPr/>
        </p:nvSpPr>
        <p:spPr>
          <a:xfrm>
            <a:off x="7510320" y="1893960"/>
            <a:ext cx="44640" cy="4608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val 16"/>
          <p:cNvSpPr/>
          <p:nvPr/>
        </p:nvSpPr>
        <p:spPr>
          <a:xfrm>
            <a:off x="7711920" y="1787400"/>
            <a:ext cx="46080" cy="4608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Oval 17"/>
          <p:cNvSpPr/>
          <p:nvPr/>
        </p:nvSpPr>
        <p:spPr>
          <a:xfrm>
            <a:off x="7616880" y="2060640"/>
            <a:ext cx="46080" cy="4608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Oval 18"/>
          <p:cNvSpPr/>
          <p:nvPr/>
        </p:nvSpPr>
        <p:spPr>
          <a:xfrm>
            <a:off x="7824960" y="2057400"/>
            <a:ext cx="45720" cy="4608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Oval 19"/>
          <p:cNvSpPr/>
          <p:nvPr/>
        </p:nvSpPr>
        <p:spPr>
          <a:xfrm>
            <a:off x="8016840" y="2093760"/>
            <a:ext cx="46080" cy="4464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val 20"/>
          <p:cNvSpPr/>
          <p:nvPr/>
        </p:nvSpPr>
        <p:spPr>
          <a:xfrm>
            <a:off x="7935840" y="2281320"/>
            <a:ext cx="46080" cy="4428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Oval 21"/>
          <p:cNvSpPr/>
          <p:nvPr/>
        </p:nvSpPr>
        <p:spPr>
          <a:xfrm>
            <a:off x="7738920" y="2354400"/>
            <a:ext cx="46080" cy="4608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Oval 22"/>
          <p:cNvSpPr/>
          <p:nvPr/>
        </p:nvSpPr>
        <p:spPr>
          <a:xfrm>
            <a:off x="7556400" y="2284560"/>
            <a:ext cx="46080" cy="4572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040" bIns="-14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Oval 23"/>
          <p:cNvSpPr/>
          <p:nvPr/>
        </p:nvSpPr>
        <p:spPr>
          <a:xfrm>
            <a:off x="7289640" y="2206800"/>
            <a:ext cx="46080" cy="4572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040" bIns="-14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Oval 24"/>
          <p:cNvSpPr/>
          <p:nvPr/>
        </p:nvSpPr>
        <p:spPr>
          <a:xfrm>
            <a:off x="7923240" y="1649520"/>
            <a:ext cx="46080" cy="4428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Slide Number Placeholder 2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B6CD4-AFEF-47D2-BCE2-8DF776315283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000"/>
                            </p:stCondLst>
                            <p:childTnLst>
                              <p:par>
                                <p:cTn id="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500"/>
                            </p:stCondLst>
                            <p:childTnLst>
                              <p:par>
                                <p:cTn id="5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2000"/>
                            </p:stCondLst>
                            <p:childTnLst>
                              <p:par>
                                <p:cTn id="5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2500"/>
                            </p:stCondLst>
                            <p:childTnLst>
                              <p:par>
                                <p:cTn id="6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4000"/>
                            </p:stCondLst>
                            <p:childTnLst>
                              <p:par>
                                <p:cTn id="13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4500"/>
                            </p:stCondLst>
                            <p:childTnLst>
                              <p:par>
                                <p:cTn id="1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5000"/>
                            </p:stCondLst>
                            <p:childTnLst>
                              <p:par>
                                <p:cTn id="1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6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500"/>
                            </p:stCondLst>
                            <p:childTnLst>
                              <p:par>
                                <p:cTn id="1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ff0000"/>
                </a:solidFill>
                <a:latin typeface="Arial"/>
              </a:rPr>
              <a:t>Odkod sevanj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Nekateri atomi niso stabilni, zato razpadej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V naravi so takšni predvsem izotopi težjih elementov, ki imajo dodatne nevtrone v jedr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Temu razpadu rečemo </a:t>
            </a: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radioaktivni razpad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. Nestabilni izotopi so radioaktivni, zato jim rečemo tudi </a:t>
            </a: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radioizotopi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Pri radioaktivnem razpadu se del energije atoma sprosti v obliki delcev, ki jih običajno spremlja tudi elektromagnetno valovanje z visoko energij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Temu pojavu rečemo s skupnim imenom </a:t>
            </a: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radioaktivno sevanje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. Sevanja radioaktivnih snovi ne moremo prekinit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B6079-F662-4611-BA57-D636AE399071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3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7" dur="5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1000"/>
                            </p:stCondLst>
                            <p:childTnLst>
                              <p:par>
                                <p:cTn id="15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1" dur="50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500"/>
                            </p:stCondLst>
                            <p:childTnLst>
                              <p:par>
                                <p:cTn id="16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5" dur="500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2000"/>
                            </p:stCondLst>
                            <p:childTnLst>
                              <p:par>
                                <p:cTn id="16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9" dur="500"/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ff0000"/>
                </a:solidFill>
                <a:latin typeface="Arial"/>
              </a:rPr>
              <a:t>Vrste radioaktivnega sevan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Glede na vrsto </a:t>
            </a:r>
            <a:r>
              <a:rPr b="0" i="1" lang="sl-SI" sz="2400" spc="-1" strike="noStrike">
                <a:solidFill>
                  <a:srgbClr val="ff0000"/>
                </a:solidFill>
                <a:latin typeface="Arial"/>
              </a:rPr>
              <a:t>emitiranih delcev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ločimo alfa (</a:t>
            </a:r>
            <a:r>
              <a:rPr b="0" lang="sl-SI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) in beta (</a:t>
            </a:r>
            <a:r>
              <a:rPr b="0" lang="sl-SI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) radioaktivno sevanj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Spremljajoče </a:t>
            </a:r>
            <a:r>
              <a:rPr b="0" i="1" lang="sl-SI" sz="2400" spc="-1" strike="noStrike">
                <a:solidFill>
                  <a:srgbClr val="ff0000"/>
                </a:solidFill>
                <a:latin typeface="Arial"/>
              </a:rPr>
              <a:t>valovanje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pa imenujemo gama (</a:t>
            </a:r>
            <a:r>
              <a:rPr b="0" lang="sl-SI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) sevanje ali </a:t>
            </a:r>
            <a:r>
              <a:rPr b="0" lang="sl-SI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– žark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5" descr="elektromagnetni spekter"/>
          <p:cNvPicPr/>
          <p:nvPr/>
        </p:nvPicPr>
        <p:blipFill>
          <a:blip r:embed="rId1"/>
          <a:stretch/>
        </p:blipFill>
        <p:spPr>
          <a:xfrm>
            <a:off x="2905200" y="3740040"/>
            <a:ext cx="3333600" cy="2352960"/>
          </a:xfrm>
          <a:prstGeom prst="rect">
            <a:avLst/>
          </a:prstGeom>
          <a:ln w="0">
            <a:noFill/>
          </a:ln>
        </p:spPr>
      </p:pic>
      <p:sp>
        <p:nvSpPr>
          <p:cNvPr id="9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A8446-FAEF-491D-AFA5-3649580A5A14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500"/>
                            </p:stCondLst>
                            <p:childTnLst>
                              <p:par>
                                <p:cTn id="17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1000"/>
                            </p:stCondLst>
                            <p:childTnLst>
                              <p:par>
                                <p:cTn id="18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ff0000"/>
                </a:solidFill>
                <a:latin typeface="Arial"/>
              </a:rPr>
              <a:t>Prodornost sevan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list papir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aluminijasta foli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bet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300px-Alfa_beta_gamma_radiation_svg"/>
          <p:cNvPicPr/>
          <p:nvPr/>
        </p:nvPicPr>
        <p:blipFill>
          <a:blip r:embed="rId1"/>
          <a:stretch/>
        </p:blipFill>
        <p:spPr>
          <a:xfrm>
            <a:off x="1476360" y="1673280"/>
            <a:ext cx="2857680" cy="3771720"/>
          </a:xfrm>
          <a:prstGeom prst="rect">
            <a:avLst/>
          </a:prstGeom>
          <a:ln w="0">
            <a:noFill/>
          </a:ln>
        </p:spPr>
      </p:pic>
      <p:sp>
        <p:nvSpPr>
          <p:cNvPr id="9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99626-4109-4279-8B2F-00E098284CFA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000"/>
                            </p:stCondLst>
                            <p:childTnLst>
                              <p:par>
                                <p:cTn id="19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500"/>
                            </p:stCondLst>
                            <p:childTnLst>
                              <p:par>
                                <p:cTn id="2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ff0000"/>
                </a:solidFill>
                <a:latin typeface="Arial"/>
              </a:rPr>
              <a:t>Doza sevan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je količina ionizirajočega sevanja, ki g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prejme tel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je merilo za energijo, ki se pri sevanj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absorbira v teles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Enota za dozo je </a:t>
            </a:r>
            <a:r>
              <a:rPr b="0" i="1" lang="sl-SI" sz="2400" spc="-1" strike="noStrike">
                <a:solidFill>
                  <a:srgbClr val="ff0000"/>
                </a:solidFill>
                <a:latin typeface="Arial"/>
              </a:rPr>
              <a:t>gray</a:t>
            </a:r>
            <a:r>
              <a:rPr b="0" i="1" lang="sl-SI" sz="2400" spc="-1" strike="noStrike">
                <a:solidFill>
                  <a:srgbClr val="000000"/>
                </a:solidFill>
                <a:latin typeface="Arial"/>
              </a:rPr>
              <a:t> (Gy)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, ki je en jou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na kilogram: 1 Gy = 1 J / kg snov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Običajno: mGy ali </a:t>
            </a:r>
            <a:r>
              <a:rPr b="0" lang="sl-SI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G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Včasih enota rad: 1Gy = 100 r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Telo Cosmicman"/>
          <p:cNvPicPr/>
          <p:nvPr/>
        </p:nvPicPr>
        <p:blipFill>
          <a:blip r:embed="rId1"/>
          <a:stretch/>
        </p:blipFill>
        <p:spPr>
          <a:xfrm>
            <a:off x="7327800" y="849240"/>
            <a:ext cx="1060560" cy="5459400"/>
          </a:xfrm>
          <a:prstGeom prst="rect">
            <a:avLst/>
          </a:prstGeom>
          <a:ln w="0">
            <a:noFill/>
          </a:ln>
        </p:spPr>
      </p:pic>
      <p:sp>
        <p:nvSpPr>
          <p:cNvPr id="10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19069-D617-476A-A7C8-EAB35FE14315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"/>
                            </p:stCondLst>
                            <p:childTnLst>
                              <p:par>
                                <p:cTn id="2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1000"/>
                            </p:stCondLst>
                            <p:childTnLst>
                              <p:par>
                                <p:cTn id="2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2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2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5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2500"/>
                            </p:stCondLst>
                            <p:childTnLst>
                              <p:par>
                                <p:cTn id="22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" dur="500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3000"/>
                            </p:stCondLst>
                            <p:childTnLst>
                              <p:par>
                                <p:cTn id="23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3500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500"/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4500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9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8T11:35:09Z</dcterms:created>
  <dc:creator>agodec</dc:creator>
  <dc:description/>
  <dc:language>en-US</dc:language>
  <cp:lastModifiedBy>Anja</cp:lastModifiedBy>
  <dcterms:modified xsi:type="dcterms:W3CDTF">2011-03-26T10:52:43Z</dcterms:modified>
  <cp:revision>156</cp:revision>
  <dc:subject/>
  <dc:title>Radioaktivnost je!</dc:title>
</cp:coreProperties>
</file>