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8.jpeg" ContentType="image/jpeg"/>
  <Override PartName="/ppt/media/image51.jpeg" ContentType="image/jpeg"/>
  <Override PartName="/ppt/media/image40.jpeg" ContentType="image/jpeg"/>
  <Override PartName="/ppt/media/image13.jpeg" ContentType="image/jpeg"/>
  <Override PartName="/ppt/media/image16.png" ContentType="image/png"/>
  <Override PartName="/ppt/media/image7.jpeg" ContentType="image/jpeg"/>
  <Override PartName="/ppt/media/image4.png" ContentType="image/png"/>
  <Override PartName="/ppt/media/image1.gif" ContentType="image/gif"/>
  <Override PartName="/ppt/media/image28.jpeg" ContentType="image/jpeg"/>
  <Override PartName="/ppt/media/image11.jpeg" ContentType="image/jpeg"/>
  <Override PartName="/ppt/media/image24.png" ContentType="image/png"/>
  <Override PartName="/ppt/media/image27.png" ContentType="image/png"/>
  <Override PartName="/ppt/media/image55.jpeg" ContentType="image/jpeg"/>
  <Override PartName="/ppt/media/image23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41.jpeg" ContentType="image/jpeg"/>
  <Override PartName="/ppt/media/image14.jpeg" ContentType="image/jpeg"/>
  <Override PartName="/ppt/media/image60.png" ContentType="image/png"/>
  <Override PartName="/ppt/media/image19.png" ContentType="image/png"/>
  <Override PartName="/ppt/media/image61.png" ContentType="image/png"/>
  <Override PartName="/ppt/media/image20.jpeg" ContentType="image/jpeg"/>
  <Override PartName="/ppt/media/image25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26.jpeg" ContentType="image/jpeg"/>
  <Override PartName="/ppt/media/image32.jpeg" ContentType="image/jpeg"/>
  <Override PartName="/ppt/media/image15.jpeg" ContentType="image/jpeg"/>
  <Override PartName="/ppt/media/image12.jpeg" ContentType="image/jpeg"/>
  <Override PartName="/ppt/media/image29.jpeg" ContentType="image/jpeg"/>
  <Override PartName="/ppt/media/image33.wmf" ContentType="image/x-wmf"/>
  <Override PartName="/ppt/media/image52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35.jpeg" ContentType="image/jpeg"/>
  <Override PartName="/ppt/media/image37.jpeg" ContentType="image/jpeg"/>
  <Override PartName="/ppt/media/image43.wmf" ContentType="image/x-wmf"/>
  <Override PartName="/ppt/media/image44.jpeg" ContentType="image/jpeg"/>
  <Override PartName="/ppt/media/image45.wmf" ContentType="image/x-wmf"/>
  <Override PartName="/ppt/media/image46.jpeg" ContentType="image/jpeg"/>
  <Override PartName="/ppt/media/image47.jpeg" ContentType="image/jpeg"/>
  <Override PartName="/ppt/media/image48.jpeg" ContentType="image/jpeg"/>
  <Override PartName="/ppt/media/image49.png" ContentType="image/png"/>
  <Override PartName="/ppt/media/image50.jpeg" ContentType="image/jpeg"/>
  <Override PartName="/ppt/media/image56.jpeg" ContentType="image/jpeg"/>
  <Override PartName="/ppt/media/image53.png" ContentType="image/png"/>
  <Override PartName="/ppt/media/image58.jpeg" ContentType="image/jpeg"/>
  <Override PartName="/ppt/media/image54.jpeg" ContentType="image/jpeg"/>
  <Override PartName="/ppt/media/image57.jpeg" ContentType="image/jpeg"/>
  <Override PartName="/ppt/media/image59.jpeg" ContentType="image/jpeg"/>
  <Override PartName="/ppt/media/image42.jpeg" ContentType="image/jpeg"/>
  <Override PartName="/ppt/media/image6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CA7C-00DE-494B-BF92-6EE0044B639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EAD6C-C020-4811-BCDF-DA5AA55FFEC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22A40-D94D-44FC-831E-0DF7A79615B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4B81-A01A-4586-8A0C-6A04581C70F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2FAD5-43BC-4DD8-8F0B-275EE30C9D2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E5BE8-978A-4B8D-AA2D-1BBCDB1152DE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AEF7-7A6D-4E5B-AABB-4F43CBC4C17E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3151-4FB0-44A4-B7C0-54C199C4EC3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FDAE-CB7E-4439-BD18-49D47D1B8DBE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D59C-9919-44DD-B89E-AFF26E0468C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1382-9D18-45CB-8652-E5B937A1ED3A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035C9-12A5-45D3-87C8-046407FB871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B011F-AF1D-40A6-BB9B-0089EDBA0B3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09A14-0FDE-42F4-A2B9-547215DF815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A995-78B3-4B6B-8205-C700BB2AF12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0D94-86F9-410A-8983-CE12B0F1E5A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5DA9-A7F1-4C25-AA52-D6F7E738FC9E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F905-5989-461A-8D51-241438037E1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7802-F5D6-48EE-8123-A650A328568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57772-3B04-433A-A6AF-8743DB6E1E0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82EDB-DC05-4D61-B67D-0F2CAB1BBE9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44AF-C47B-4C90-BB9C-ED2649C8936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D43E4-20C7-4BC7-BF59-144BBD7C8A9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95F6-CFBC-41E5-8EA3-0F9E17DA2668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981C-07F9-4C42-AEA1-325E742A405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2899-7F96-4D03-8B21-E09656182BD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30F5-8E54-4B0E-B6D5-7BAEFCE73CDC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C2CD-6A0A-46EE-B2A7-32CCF57DCC2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B2EB5-18FF-488E-94B8-0FD045890FA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B309-7390-45EA-AD4E-9F307FBD063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ABB7-8AB7-47D1-A1A9-8E08B62E7F4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3959C-7C0C-414F-AAE3-C3EFFC352C8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59732-EFA3-49E2-907B-2B2E3281F55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1E5F-60F6-4CB5-BD44-C2AA1C917C3E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E88BA-66E5-40F3-A5AD-3A47793BB51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F252-5C64-4148-971E-60E7A849AC5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6EE7-80F0-4E80-B5FE-F2F811243B5F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9A58-F55C-40F3-821E-A56445CA3C19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1FD2-DD0B-4C95-A2CB-0E8BBBF1E1A6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C7419-0603-4009-9A5A-448C6AE104C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0C1E-C4D2-43E0-80E7-8971FCAE76D4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674E-A796-4379-A517-1F36FE1773A0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710F-5CCB-473A-BC2F-90471A70EAFA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FAF4-2CE3-4430-BC4D-7537B0FAC2A5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61EE-14CA-47BF-A6DD-2BF1AB6D49E1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625C-5A1F-4342-A2EF-3DC883B94952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FCB1-B4F5-413A-A966-9A925BDE8D8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28876-B3BD-4DBE-A258-08B2DB4092BD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367B-8911-4031-8002-89A8894F1F9E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70CF-4C3C-496D-AEBE-D6E37F233E63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7A87-03D5-4352-AE45-7A8498955B3B}" type="slidenum">
              <a:rPr b="0" lang="sl-S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0BA7-FFF5-41FA-9D21-3F49363C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4CDF-CF71-4AA7-A7E5-999D4137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614-3057-434D-81BF-07B9AD2A3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11CE-5874-4FE0-9740-9409FF29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044E-31C3-4FB6-8706-5447939DE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FF38-4DAF-4D47-B7E8-FA6E0300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132F-5726-433C-8CB6-1D949558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530C-B169-496E-8B8F-5282A374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1DF4-785C-4DDB-8330-1CB7214C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0D0A-0AEF-41A8-B48F-E821FFC9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B70-0900-49A8-A2D5-45BDFF939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EA4E-88B6-4A8B-B867-FA4D8818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2F663-D00E-43E7-BECF-D9BEC8974A9F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5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modern atom[1]"/>
          <p:cNvPicPr/>
          <p:nvPr/>
        </p:nvPicPr>
        <p:blipFill>
          <a:blip r:embed="rId1"/>
          <a:stretch/>
        </p:blipFill>
        <p:spPr>
          <a:xfrm>
            <a:off x="3638520" y="2421000"/>
            <a:ext cx="1866960" cy="18669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simbol za radioaktivnost"/>
          <p:cNvPicPr/>
          <p:nvPr/>
        </p:nvPicPr>
        <p:blipFill>
          <a:blip r:embed="rId2"/>
          <a:stretch/>
        </p:blipFill>
        <p:spPr>
          <a:xfrm>
            <a:off x="2881440" y="6276960"/>
            <a:ext cx="190440" cy="1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686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ionirja na področju radioaktivn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a bila pred dobrimi sto le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. Becquerrel in Marie Cur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estabilne izotope pa znajo znanstveniki narediti tudi v laboratori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vi (?) uspešen alkimist na svetu: Ernest Rutherford.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200px-Mariecurie"/>
          <p:cNvPicPr/>
          <p:nvPr/>
        </p:nvPicPr>
        <p:blipFill>
          <a:blip r:embed="rId1"/>
          <a:stretch/>
        </p:blipFill>
        <p:spPr>
          <a:xfrm>
            <a:off x="7599240" y="404640"/>
            <a:ext cx="1220760" cy="1427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znamka - rutherford"/>
          <p:cNvPicPr/>
          <p:nvPr/>
        </p:nvPicPr>
        <p:blipFill>
          <a:blip r:embed="rId2"/>
          <a:stretch/>
        </p:blipFill>
        <p:spPr>
          <a:xfrm>
            <a:off x="971640" y="4437000"/>
            <a:ext cx="2933640" cy="1790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7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2"/>
              <p:cNvSpPr txBox="1"/>
              <p:nvPr/>
            </p:nvSpPr>
            <p:spPr>
              <a:xfrm>
                <a:off x="5364000" y="4983120"/>
                <a:ext cx="2587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  <m:r>
                      <m:t xml:space="preserve">→</m:t>
                    </m:r>
                    <m:sPre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O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Picture 8" descr="becquerel"/>
          <p:cNvPicPr/>
          <p:nvPr/>
        </p:nvPicPr>
        <p:blipFill>
          <a:blip r:embed="rId3"/>
          <a:stretch/>
        </p:blipFill>
        <p:spPr>
          <a:xfrm>
            <a:off x="6265800" y="403200"/>
            <a:ext cx="102888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3500"/>
                            </p:stCondLst>
                            <p:childTnLst>
                              <p:par>
                                <p:cTn id="2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4000"/>
                            </p:stCondLst>
                            <p:childTnLst>
                              <p:par>
                                <p:cTn id="2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Cern 200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HC (Large Hadron Collider): 100 m pod zemljo, 27 km v premer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va curka subatomskih delcev hadronov (protonov ali pa svinčevih ionov) z veliko energijo čelno trči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čakovanja: veliko novih subatomskih delcev, supersimetrija, Higgsov bozon – ultimativni delec, ki je bil že teoretično napovedan v Standardnem model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cern4.jpg"/>
          <p:cNvPicPr/>
          <p:nvPr/>
        </p:nvPicPr>
        <p:blipFill>
          <a:blip r:embed="rId1"/>
          <a:stretch/>
        </p:blipFill>
        <p:spPr>
          <a:xfrm>
            <a:off x="3222720" y="2192400"/>
            <a:ext cx="2666880" cy="1736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" descr="cern 6.jpg"/>
          <p:cNvPicPr/>
          <p:nvPr/>
        </p:nvPicPr>
        <p:blipFill>
          <a:blip r:embed="rId2"/>
          <a:stretch/>
        </p:blipFill>
        <p:spPr>
          <a:xfrm>
            <a:off x="6429240" y="285840"/>
            <a:ext cx="142884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Higgsov bozon: je delec ali delci, ki dajejo drugim maso. Ti delci so verjeten odgovor na vprašanje, odkod delcem ma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eter Higgs (1960): vesolje je napolnjeno z neko vrsto mreže (Higgsovo polje), ki vpliva na delce, ki se premikajo po njem; tak delec ustvari v polju majhno popačenje, kar mu da maso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http://www.exploratorium.edu/origins/cern/ideas/higg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http://www.phy.uct.ac.za/courses/phy400w/particle/higgs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Content Placeholder 3" descr="higgs3_small.gif"/>
          <p:cNvPicPr/>
          <p:nvPr/>
        </p:nvPicPr>
        <p:blipFill>
          <a:blip r:embed="rId1"/>
          <a:stretch/>
        </p:blipFill>
        <p:spPr>
          <a:xfrm>
            <a:off x="3395520" y="2492280"/>
            <a:ext cx="23529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Vrste radioaktivnega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lede na vrsto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emitiranih delcev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ločimo alfa 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in beta 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radioaktivno sevan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premljajoče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valovan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pa imenujemo gama (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sevanje ali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– žark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elektromagnetni spekter"/>
          <p:cNvPicPr/>
          <p:nvPr/>
        </p:nvPicPr>
        <p:blipFill>
          <a:blip r:embed="rId1"/>
          <a:stretch/>
        </p:blipFill>
        <p:spPr>
          <a:xfrm>
            <a:off x="2905200" y="3740040"/>
            <a:ext cx="3333600" cy="23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Symbol"/>
                <a:ea typeface="Symbol"/>
              </a:rPr>
              <a:t>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zotop emitira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el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ran v naravi: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val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starševski izotop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hčerinski izo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poraba: detektorji d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2"/>
              <p:cNvSpPr txBox="1"/>
              <p:nvPr/>
            </p:nvSpPr>
            <p:spPr>
              <a:xfrm>
                <a:off x="3995640" y="1585800"/>
                <a:ext cx="6048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"/>
              <p:cNvSpPr txBox="1"/>
              <p:nvPr/>
            </p:nvSpPr>
            <p:spPr>
              <a:xfrm>
                <a:off x="3449520" y="2781360"/>
                <a:ext cx="24908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Th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Line 14"/>
          <p:cNvSpPr/>
          <p:nvPr/>
        </p:nvSpPr>
        <p:spPr>
          <a:xfrm flipV="1">
            <a:off x="3060720" y="3284640"/>
            <a:ext cx="647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5"/>
          <p:cNvSpPr/>
          <p:nvPr/>
        </p:nvSpPr>
        <p:spPr>
          <a:xfrm flipH="1" flipV="1">
            <a:off x="5003280" y="3284280"/>
            <a:ext cx="289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3276720" y="5380200"/>
                <a:ext cx="24858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4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Am</m:t>
                    </m:r>
                    <m:r>
                      <m:t xml:space="preserve">→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p</m:t>
                    </m:r>
                    <m:r>
                      <m:t xml:space="preserve">+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2" name="Picture 20" descr="Ionization_Smoke_Detector___Smoke_Alarm"/>
          <p:cNvPicPr/>
          <p:nvPr/>
        </p:nvPicPr>
        <p:blipFill>
          <a:blip r:embed="rId1"/>
          <a:stretch/>
        </p:blipFill>
        <p:spPr>
          <a:xfrm>
            <a:off x="6819840" y="4653000"/>
            <a:ext cx="2054160" cy="2054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alfa slika1"/>
          <p:cNvPicPr/>
          <p:nvPr/>
        </p:nvPicPr>
        <p:blipFill>
          <a:blip r:embed="rId2"/>
          <a:stretch/>
        </p:blipFill>
        <p:spPr>
          <a:xfrm>
            <a:off x="4975200" y="189000"/>
            <a:ext cx="41338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500"/>
                            </p:stCondLst>
                            <p:childTnLst>
                              <p:par>
                                <p:cTn id="3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3500"/>
                            </p:stCondLst>
                            <p:childTnLst>
                              <p:par>
                                <p:cTn id="3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4000"/>
                            </p:stCondLst>
                            <p:childTnLst>
                              <p:par>
                                <p:cTn id="3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500"/>
                            </p:stCondLst>
                            <p:childTnLst>
                              <p:par>
                                <p:cTn id="3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6000"/>
                            </p:stCondLst>
                            <p:childTnLst>
                              <p:par>
                                <p:cTn id="3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Nevar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To sevanje je nevarno predvsem v primeru zaužitja snovi, ki se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320 ton osiromašenega urana je bilo “izgubljenih” samo v prvi zalivski vojni (tudi U - 238 je alfa sevalec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Žrtev tega sevanja je bil zaradi zastrupit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 polonijem leta 2006 tudi Rus A. Litvinenk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lonij je močan α sevalec; na sekundo odda 4000 krat več α delcev kot ista masa na primer izotopa radija, ki je tudi sam zelo radioaktiven, in razpade do plina rado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2124000" y="3832200"/>
                <a:ext cx="2911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1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Po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06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Pb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He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38" name="Picture 6" descr="simbol za radioaktivnost"/>
          <p:cNvPicPr/>
          <p:nvPr/>
        </p:nvPicPr>
        <p:blipFill>
          <a:blip r:embed="rId1"/>
          <a:stretch/>
        </p:blipFill>
        <p:spPr>
          <a:xfrm>
            <a:off x="6934320" y="426960"/>
            <a:ext cx="950760" cy="8334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AlexanderLitvinenkoHospital"/>
          <p:cNvPicPr/>
          <p:nvPr/>
        </p:nvPicPr>
        <p:blipFill>
          <a:blip r:embed="rId2"/>
          <a:stretch/>
        </p:blipFill>
        <p:spPr>
          <a:xfrm>
            <a:off x="6227640" y="3078000"/>
            <a:ext cx="228600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500"/>
                            </p:stCondLst>
                            <p:childTnLst>
                              <p:par>
                                <p:cTn id="3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2500"/>
                            </p:stCondLst>
                            <p:childTnLst>
                              <p:par>
                                <p:cTn id="3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3500"/>
                            </p:stCondLst>
                            <p:childTnLst>
                              <p:par>
                                <p:cTn id="3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4000"/>
                            </p:stCondLst>
                            <p:childTnLst>
                              <p:par>
                                <p:cTn id="3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stavljajo ga elektroni z visoko energijo, ki nastanejo pri razpadu nevtronov v jed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stane pri razpadu nekaterih radioaktivnih snovi v naravi in odpadnih produktov v jedrskih reaktorj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atiranje s pomočjo izotopa oglji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erjenje z AMS (Accelerator Mass Spectrometry);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80 000 let nazaj (14 razpolovnih časov), ko je navzočih le še 0,006% začetne količine izotopa oglji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2"/>
              <p:cNvSpPr txBox="1"/>
              <p:nvPr/>
            </p:nvSpPr>
            <p:spPr>
              <a:xfrm>
                <a:off x="3635280" y="2060640"/>
                <a:ext cx="19573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2124000" y="4653000"/>
                <a:ext cx="228132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C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46" name="Picture 13" descr="divje babe 2"/>
          <p:cNvPicPr/>
          <p:nvPr/>
        </p:nvPicPr>
        <p:blipFill>
          <a:blip r:embed="rId1"/>
          <a:stretch/>
        </p:blipFill>
        <p:spPr>
          <a:xfrm>
            <a:off x="5770440" y="4076640"/>
            <a:ext cx="2689200" cy="13017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6" descr="Beta sevanje"/>
          <p:cNvPicPr/>
          <p:nvPr/>
        </p:nvPicPr>
        <p:blipFill>
          <a:blip r:embed="rId2"/>
          <a:stretch/>
        </p:blipFill>
        <p:spPr>
          <a:xfrm>
            <a:off x="4226040" y="-100080"/>
            <a:ext cx="171432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500"/>
                            </p:stCondLst>
                            <p:childTnLst>
                              <p:par>
                                <p:cTn id="3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500"/>
                            </p:stCondLst>
                            <p:childTnLst>
                              <p:par>
                                <p:cTn id="4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2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3500"/>
                            </p:stCondLst>
                            <p:childTnLst>
                              <p:par>
                                <p:cTn id="4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4000"/>
                            </p:stCondLst>
                            <p:childTnLst>
                              <p:par>
                                <p:cTn id="4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500"/>
                            </p:stCondLst>
                            <p:childTnLst>
                              <p:par>
                                <p:cTn id="4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50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6000"/>
                            </p:stCondLst>
                            <p:childTnLst>
                              <p:par>
                                <p:cTn id="4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14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Uporaba </a:t>
            </a:r>
            <a:r>
              <a:rPr b="0" lang="sl-SI" sz="4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 sevalc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816200"/>
            <a:ext cx="82184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 medicini za zdravljenje očesnih bolezni in kostnega ra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dravljenje bolezni ščitn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ricij       pri proučevanju telesnega metabolizma in varnosti novih zdrav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estiranje puščanja cev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1635120" y="2090880"/>
                <a:ext cx="63324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S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4597560" y="2881440"/>
                <a:ext cx="55080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4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8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4"/>
              <p:cNvSpPr txBox="1"/>
              <p:nvPr/>
            </p:nvSpPr>
            <p:spPr>
              <a:xfrm>
                <a:off x="1604880" y="3673440"/>
                <a:ext cx="4827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3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5"/>
              <p:cNvSpPr txBox="1"/>
              <p:nvPr/>
            </p:nvSpPr>
            <p:spPr>
              <a:xfrm>
                <a:off x="4356000" y="4811760"/>
                <a:ext cx="81288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M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Nevar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jnevarnejša je izpostavljenost z vdihavanjem, ali zaužitje sevalca;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sevanje je prodornejše od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irektna izpostavljenost je tudi nevarna (pordečenje kože, opekli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od – 131 se akumulira v ščitni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roncij – 90 se akumulira v kosteh in zobe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simbol za radioaktivnost"/>
          <p:cNvPicPr/>
          <p:nvPr/>
        </p:nvPicPr>
        <p:blipFill>
          <a:blip r:embed="rId1"/>
          <a:stretch/>
        </p:blipFill>
        <p:spPr>
          <a:xfrm>
            <a:off x="6141960" y="282600"/>
            <a:ext cx="95112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Symbol"/>
                <a:ea typeface="Symbol"/>
              </a:rPr>
              <a:t>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773360"/>
            <a:ext cx="8435880" cy="50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vanje je elektromagnetno valovanje z valovno dolžino pod 124 pm, ki spremlja α in β radioaktivni razpad nekaterih izotopov; primer:           je vzbujeni izot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vanje je najprodornejše; zadržijo ga le debele plasti svinca, betona (6 krat debelejša plast) ali v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i fotoni imajo 10 000 krat višjo energijo kot fotoni iz vidnega dela elektromagnetnega spekt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Gamma_Decay_svg"/>
          <p:cNvPicPr/>
          <p:nvPr/>
        </p:nvPicPr>
        <p:blipFill>
          <a:blip r:embed="rId1"/>
          <a:stretch/>
        </p:blipFill>
        <p:spPr>
          <a:xfrm>
            <a:off x="4729320" y="250920"/>
            <a:ext cx="1714320" cy="11620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1346040" y="3068640"/>
                <a:ext cx="27212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o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e>
                      <m:sup/>
                    </m:sSup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Rectangle 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1330200" y="3789360"/>
                <a:ext cx="2378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e>
                      <m:sup/>
                    </m:sSup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Ni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4"/>
              <p:cNvSpPr txBox="1"/>
              <p:nvPr/>
            </p:nvSpPr>
            <p:spPr>
              <a:xfrm>
                <a:off x="4572000" y="2463840"/>
                <a:ext cx="781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Ni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0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Sevanje okrog 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335772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Andrej God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Fakulteta za kemijo in kemijsko tehnologi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Univerza v Ljublja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66ff"/>
                </a:solidFill>
                <a:latin typeface="Arial"/>
              </a:rPr>
              <a:t>andrej.godec@fkkt.uni-lj.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Uporaba </a:t>
            </a:r>
            <a:r>
              <a:rPr b="0" lang="sl-SI" sz="4400" spc="-1" strike="noStrike">
                <a:solidFill>
                  <a:srgbClr val="ff0000"/>
                </a:solidFill>
                <a:latin typeface="Symbol"/>
                <a:ea typeface="Symbol"/>
              </a:rPr>
              <a:t>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 sevalce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997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jpogosteje se uporabljajo         ,            in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obalt – 60: sterilizacija medicinske opreme v bolnišnicah, hrane v živilski industriji in pošte; zdravljenje raka, kontrola materialov v industriji (npr. debeline, defekto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ehnecij – 99: najpogostejši izotop za diagnostiko v jedrski medicini (kontrastno sredstvo pri tomografij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2"/>
              <p:cNvSpPr txBox="1"/>
              <p:nvPr/>
            </p:nvSpPr>
            <p:spPr>
              <a:xfrm>
                <a:off x="4716360" y="1467000"/>
                <a:ext cx="7048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o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3"/>
              <p:cNvSpPr txBox="1"/>
              <p:nvPr/>
            </p:nvSpPr>
            <p:spPr>
              <a:xfrm>
                <a:off x="5591160" y="1467000"/>
                <a:ext cx="781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5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7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C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9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6804000" y="1468440"/>
                <a:ext cx="684360" cy="53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Tc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79" name="Picture 11" descr="simbol za sterilizirano hrano"/>
          <p:cNvPicPr/>
          <p:nvPr/>
        </p:nvPicPr>
        <p:blipFill>
          <a:blip r:embed="rId1"/>
          <a:stretch/>
        </p:blipFill>
        <p:spPr>
          <a:xfrm>
            <a:off x="2286000" y="3333600"/>
            <a:ext cx="2095560" cy="2095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CAT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5214960" y="3571920"/>
            <a:ext cx="22860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Nevar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jpogostejša je direktna zunanja izpostavljenost, naprimer naravnim radionuklidom, ki so gama sevalci: kalij – 40 (zemlja, voda, meso, banane ...), radij itd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zpostavljenost sevalcem kot posledica uporabe v medicini in industri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aradi svoje prodornosti so gama žarki zelo nevarni (radiacijska bolezen: izpostavljenost veliki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zam v kratkem času, pri čemer povzroč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ama sevanje največ ško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simbol za radioaktivnost"/>
          <p:cNvPicPr/>
          <p:nvPr/>
        </p:nvPicPr>
        <p:blipFill>
          <a:blip r:embed="rId1"/>
          <a:stretch/>
        </p:blipFill>
        <p:spPr>
          <a:xfrm>
            <a:off x="5708520" y="282600"/>
            <a:ext cx="951120" cy="8334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Radiation_burns_on_a_Japanese_woman_after_a_nuclear_explosion_in_1945"/>
          <p:cNvPicPr/>
          <p:nvPr/>
        </p:nvPicPr>
        <p:blipFill>
          <a:blip r:embed="rId2"/>
          <a:stretch/>
        </p:blipFill>
        <p:spPr>
          <a:xfrm>
            <a:off x="7308720" y="5013360"/>
            <a:ext cx="8240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Prodornost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ist papir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luminijasta fol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e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300px-Alfa_beta_gamma_radiation_svg"/>
          <p:cNvPicPr/>
          <p:nvPr/>
        </p:nvPicPr>
        <p:blipFill>
          <a:blip r:embed="rId1"/>
          <a:stretch/>
        </p:blipFill>
        <p:spPr>
          <a:xfrm>
            <a:off x="1476360" y="1673280"/>
            <a:ext cx="285768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500"/>
                            </p:stCondLst>
                            <p:childTnLst>
                              <p:par>
                                <p:cTn id="5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Doza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e količina ionizirajočega sevanja, ki 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ejme tel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e merilo za energijo, ki se pri sevanj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bsorbira v teles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nota za dozo je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gray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 (Gy)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, ki je en jou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 kilogram: 1 Gy = 1 J / kg sno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bičajno: mGy ali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časih enota rad: 1Gy = 100 r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Telo Cosmicman"/>
          <p:cNvPicPr/>
          <p:nvPr/>
        </p:nvPicPr>
        <p:blipFill>
          <a:blip r:embed="rId1"/>
          <a:stretch/>
        </p:blipFill>
        <p:spPr>
          <a:xfrm>
            <a:off x="7327800" y="849240"/>
            <a:ext cx="1060560" cy="54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10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3000"/>
                            </p:stCondLst>
                            <p:childTnLst>
                              <p:par>
                                <p:cTn id="5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3" dur="500"/>
                                        <p:tgtEl>
                                          <p:spTgt spid="1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4000"/>
                            </p:stCondLst>
                            <p:childTnLst>
                              <p:par>
                                <p:cTn id="5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7" dur="500"/>
                                        <p:tgtEl>
                                          <p:spTgt spid="18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1" dur="500"/>
                                        <p:tgtEl>
                                          <p:spTgt spid="18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Efektivna doza sevan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nota </a:t>
            </a:r>
            <a:r>
              <a:rPr b="0" i="1" lang="sl-SI" sz="2400" spc="-1" strike="noStrike">
                <a:solidFill>
                  <a:srgbClr val="ff0000"/>
                </a:solidFill>
                <a:latin typeface="Arial"/>
              </a:rPr>
              <a:t>sievert</a:t>
            </a:r>
            <a:r>
              <a:rPr b="0" i="1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Sv): en sievert sevanj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vzroči enak biološki efekt na telo, 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lede na vrsto sevanja. Običaj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porabljamo enoto milisievert mS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ravno ozadje kjerkoli na našem planetu pomeni efektivno dozo okrog 2 do 3 mSv/leto. Rekord: Ramsar (Iran), kjer je efektivna doza tudi do 260 mSv/l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voljena efektivna doza zaradi umetnih virov sevanja je 1 mSv/l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bližno velja: doza sevanja 1 mGy ustreza biološkemu vplivu na telo 1,14 mSv.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8" descr="Telo TheLadyOfShallot by J"/>
          <p:cNvPicPr/>
          <p:nvPr/>
        </p:nvPicPr>
        <p:blipFill>
          <a:blip r:embed="rId1"/>
          <a:stretch/>
        </p:blipFill>
        <p:spPr>
          <a:xfrm>
            <a:off x="6300720" y="1332000"/>
            <a:ext cx="2286000" cy="17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2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1000"/>
                            </p:stCondLst>
                            <p:childTnLst>
                              <p:par>
                                <p:cTn id="5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6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80316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et z letalom, Paris – Los Angel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krog 48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y (višina 11 km, 11 u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ziroma cca. 55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sakodnevno gledanje TV ali de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 računalnikom: 0,01 mSv/l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ipična efektivna doza sevanja iz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metnih virov v medicini: 0,06 mSv/le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mSv/leto: sevanje naravnega ozad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 mSv/leto: rudarji v dnevnih kopih ur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etalo1"/>
          <p:cNvPicPr/>
          <p:nvPr/>
        </p:nvPicPr>
        <p:blipFill>
          <a:blip r:embed="rId1"/>
          <a:stretch/>
        </p:blipFill>
        <p:spPr>
          <a:xfrm>
            <a:off x="6531120" y="981000"/>
            <a:ext cx="1209600" cy="9716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gama kamera"/>
          <p:cNvPicPr/>
          <p:nvPr/>
        </p:nvPicPr>
        <p:blipFill>
          <a:blip r:embed="rId2"/>
          <a:stretch/>
        </p:blipFill>
        <p:spPr>
          <a:xfrm>
            <a:off x="6588000" y="3024360"/>
            <a:ext cx="1770120" cy="1268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uranium mine across colorado river"/>
          <p:cNvPicPr/>
          <p:nvPr/>
        </p:nvPicPr>
        <p:blipFill>
          <a:blip r:embed="rId3"/>
          <a:stretch/>
        </p:blipFill>
        <p:spPr>
          <a:xfrm>
            <a:off x="6948360" y="4651200"/>
            <a:ext cx="127800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500"/>
                            </p:stCondLst>
                            <p:childTnLst>
                              <p:par>
                                <p:cTn id="5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500"/>
                            </p:stCondLst>
                            <p:childTnLst>
                              <p:par>
                                <p:cTn id="6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1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2000"/>
                            </p:stCondLst>
                            <p:childTnLst>
                              <p:par>
                                <p:cTn id="6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2500"/>
                            </p:stCondLst>
                            <p:childTnLst>
                              <p:par>
                                <p:cTn id="6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1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3000"/>
                            </p:stCondLst>
                            <p:childTnLst>
                              <p:par>
                                <p:cTn id="6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1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3500"/>
                            </p:stCondLst>
                            <p:childTnLst>
                              <p:par>
                                <p:cTn id="6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Izpostavljenost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6516720" y="364500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cc00"/>
                </a:solidFill>
                <a:latin typeface="Arial"/>
              </a:rPr>
              <a:t>NARAV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cc00"/>
                </a:solidFill>
                <a:latin typeface="Arial"/>
              </a:rPr>
              <a:t>OZAD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1" name="Object 4"/>
          <p:cNvGraphicFramePr/>
          <p:nvPr/>
        </p:nvGraphicFramePr>
        <p:xfrm>
          <a:off x="28440" y="1413000"/>
          <a:ext cx="6272280" cy="4608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1413000"/>
                    <a:ext cx="627228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AutoShape 5"/>
          <p:cNvSpPr/>
          <p:nvPr/>
        </p:nvSpPr>
        <p:spPr>
          <a:xfrm>
            <a:off x="6300720" y="3357720"/>
            <a:ext cx="216000" cy="1323720"/>
          </a:xfrm>
          <a:custGeom>
            <a:avLst/>
            <a:gdLst>
              <a:gd name="textAreaLeft" fmla="*/ 0 w 216000"/>
              <a:gd name="textAreaRight" fmla="*/ 78120 w 216000"/>
              <a:gd name="textAreaTop" fmla="*/ 20160 h 1323720"/>
              <a:gd name="textAreaBottom" fmla="*/ 1303560 h 132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30"/>
                  <a:pt x="10800" y="1059"/>
                </a:cubicBezTo>
                <a:lnTo>
                  <a:pt x="10800" y="9741"/>
                </a:lnTo>
                <a:cubicBezTo>
                  <a:pt x="10800" y="10271"/>
                  <a:pt x="16200" y="10800"/>
                  <a:pt x="21600" y="10800"/>
                </a:cubicBezTo>
                <a:cubicBezTo>
                  <a:pt x="16200" y="10800"/>
                  <a:pt x="10800" y="11330"/>
                  <a:pt x="10800" y="11859"/>
                </a:cubicBezTo>
                <a:lnTo>
                  <a:pt x="10800" y="20541"/>
                </a:lnTo>
                <a:cubicBezTo>
                  <a:pt x="10800" y="2107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1500"/>
                            </p:stCondLst>
                            <p:childTnLst>
                              <p:par>
                                <p:cTn id="6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2000"/>
                            </p:stCondLst>
                            <p:childTnLst>
                              <p:par>
                                <p:cTn id="6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Letna efektivna doza za prebivalce Slovenije /</a:t>
            </a:r>
            <a:r>
              <a:rPr b="0" lang="sl-SI" sz="2800" spc="-1" strike="noStrike">
                <a:solidFill>
                  <a:srgbClr val="ff0000"/>
                </a:solidFill>
                <a:latin typeface="Verdana"/>
              </a:rPr>
              <a:t>m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Sv </a:t>
            </a:r>
            <a:br>
              <a:rPr sz="2800"/>
            </a:b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(vir: ARAO, 2006</a:t>
            </a: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755640" y="1592280"/>
          <a:ext cx="7715160" cy="4479840"/>
        </p:xfrm>
        <a:graphic>
          <a:graphicData uri="http://schemas.openxmlformats.org/drawingml/2006/table">
            <a:tbl>
              <a:tblPr/>
              <a:tblGrid>
                <a:gridCol w="3683160"/>
                <a:gridCol w="1803240"/>
                <a:gridCol w="2228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Vir sevanj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ovprečna vredno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ksimalna vrednos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zmično sevanj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38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zmogeni radionuklid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1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emeljsko gama sevanj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6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3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nuklidi v organizmu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3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acija Rn-2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halacija Rn-22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estija Rn-222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05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upaj (zaokroženo)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00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Efektivne doze po svetu (brez radona), mSv/l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sevanje ozadja v svetu"/>
          <p:cNvPicPr/>
          <p:nvPr/>
        </p:nvPicPr>
        <p:blipFill>
          <a:blip r:embed="rId1"/>
          <a:stretch/>
        </p:blipFill>
        <p:spPr>
          <a:xfrm>
            <a:off x="611280" y="1700280"/>
            <a:ext cx="769752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0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Kje je me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6056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20 mSv/leto: zgornja dovoljena meja za delavce v jedrski industriji, medicini in v rudnik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50 mSv/leto je najnižja efektivna doza, pri kateri so opazili nastanek raka pri odrasl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000 mSv: radiacijska bolezen, vendar ne nujno sm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0 000 mSv: smrt v nekaj tedn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1000"/>
                            </p:stCondLst>
                            <p:childTnLst>
                              <p:par>
                                <p:cTn id="6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0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ionizirajo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(nižje energ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onizirajo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(višje energ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Radio_waves_hazard_symbol_svg.png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00720" y="213372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Radioactive_svg.png"/>
          <p:cNvPicPr/>
          <p:nvPr/>
        </p:nvPicPr>
        <p:blipFill>
          <a:blip r:embed="rId2"/>
          <a:stretch/>
        </p:blipFill>
        <p:spPr>
          <a:xfrm>
            <a:off x="4500720" y="4071960"/>
            <a:ext cx="1152360" cy="10112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New_radiation_symbol_ISO_21482_svg.png"/>
          <p:cNvPicPr/>
          <p:nvPr/>
        </p:nvPicPr>
        <p:blipFill>
          <a:blip r:embed="rId3"/>
          <a:stretch/>
        </p:blipFill>
        <p:spPr>
          <a:xfrm>
            <a:off x="6956280" y="4118040"/>
            <a:ext cx="115092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400" spc="-1" strike="noStrike">
                <a:solidFill>
                  <a:srgbClr val="ff0000"/>
                </a:solidFill>
                <a:latin typeface="Arial"/>
              </a:rPr>
              <a:t>Aktivnost radioaktivnih snovi</a:t>
            </a: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2319480"/>
            <a:ext cx="8229600" cy="38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Arial"/>
              </a:rPr>
              <a:t>Aktivnost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radioaktivne snovi: enota je 1 becquerel (Bq), ki znaša 1 razpad na seku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 Bq = 1 s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časih je bila enota Curie: 1 Bq = 27 x 10 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C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erjenje: Geiger - Millerjev števe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101916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drasel človek (70 kg): 7000 B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 kg kave: 1000 B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orovničev sok: 30 Bq/d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doza 0,35 </a:t>
            </a:r>
            <a:r>
              <a:rPr b="0" lang="sl-SI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ceani: 4,0x10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Bq (uran); 1,4x10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kalij); 1,33x10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21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Bq (rubidij – 87); 6,7x10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ogljik – 14); 7,4x10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17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tricij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človek"/>
          <p:cNvPicPr/>
          <p:nvPr/>
        </p:nvPicPr>
        <p:blipFill>
          <a:blip r:embed="rId1"/>
          <a:stretch/>
        </p:blipFill>
        <p:spPr>
          <a:xfrm>
            <a:off x="5338800" y="189000"/>
            <a:ext cx="2833560" cy="1143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5" descr="ivan cankar"/>
          <p:cNvPicPr/>
          <p:nvPr/>
        </p:nvPicPr>
        <p:blipFill>
          <a:blip r:embed="rId2"/>
          <a:stretch/>
        </p:blipFill>
        <p:spPr>
          <a:xfrm>
            <a:off x="7164360" y="1643040"/>
            <a:ext cx="733320" cy="9144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skodelica kave"/>
          <p:cNvPicPr/>
          <p:nvPr/>
        </p:nvPicPr>
        <p:blipFill>
          <a:blip r:embed="rId3"/>
          <a:stretch/>
        </p:blipFill>
        <p:spPr>
          <a:xfrm>
            <a:off x="5724360" y="1773360"/>
            <a:ext cx="1144800" cy="785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oceans"/>
          <p:cNvPicPr/>
          <p:nvPr/>
        </p:nvPicPr>
        <p:blipFill>
          <a:blip r:embed="rId4"/>
          <a:stretch/>
        </p:blipFill>
        <p:spPr>
          <a:xfrm>
            <a:off x="7104240" y="4292640"/>
            <a:ext cx="1428480" cy="9604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9" descr="borovnice"/>
          <p:cNvPicPr/>
          <p:nvPr/>
        </p:nvPicPr>
        <p:blipFill>
          <a:blip r:embed="rId5"/>
          <a:stretch/>
        </p:blipFill>
        <p:spPr>
          <a:xfrm>
            <a:off x="4713120" y="3429000"/>
            <a:ext cx="101124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0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1500"/>
                            </p:stCondLst>
                            <p:childTnLst>
                              <p:par>
                                <p:cTn id="6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2500"/>
                            </p:stCondLst>
                            <p:childTnLst>
                              <p:par>
                                <p:cTn id="6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3000"/>
                            </p:stCondLst>
                            <p:childTnLst>
                              <p:par>
                                <p:cTn id="6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8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2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3500"/>
                            </p:stCondLst>
                            <p:childTnLst>
                              <p:par>
                                <p:cTn id="7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houses_3"/>
          <p:cNvPicPr/>
          <p:nvPr/>
        </p:nvPicPr>
        <p:blipFill>
          <a:blip r:embed="rId1"/>
          <a:stretch/>
        </p:blipFill>
        <p:spPr>
          <a:xfrm>
            <a:off x="7164360" y="404640"/>
            <a:ext cx="1716120" cy="120996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rak v povprečni evropski hiši (radon): 30 000 B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adioizotopi za diagnostiko v medicin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600 MBq oziroma 3 m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npr. scintigram kosti, izotop 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ehnecijev – 99 difosfonat; pokažejo 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roče točke”, kjer je infekcija ali tum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ran v naravi: 50 MBq/kg. Sestav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99,27 % uran – 238 (aktivnost 12 MBq/kg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0,72 % uran – 235 (aktivnost 78 MBq/kg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 pet stotink promila uran – 23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180px-Ranger_Uranium_Mine_in_Kakadu_National_Park"/>
          <p:cNvPicPr/>
          <p:nvPr/>
        </p:nvPicPr>
        <p:blipFill>
          <a:blip r:embed="rId2"/>
          <a:stretch/>
        </p:blipFill>
        <p:spPr>
          <a:xfrm>
            <a:off x="6985080" y="4743360"/>
            <a:ext cx="1619280" cy="9907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bone scintigram"/>
          <p:cNvPicPr/>
          <p:nvPr/>
        </p:nvPicPr>
        <p:blipFill>
          <a:blip r:embed="rId3"/>
          <a:stretch/>
        </p:blipFill>
        <p:spPr>
          <a:xfrm>
            <a:off x="7556400" y="2205000"/>
            <a:ext cx="903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0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3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1000"/>
                            </p:stCondLst>
                            <p:childTnLst>
                              <p:par>
                                <p:cTn id="7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4" dur="5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500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0" dur="500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6" dur="500"/>
                                        <p:tgtEl>
                                          <p:spTgt spid="2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500"/>
                            </p:stCondLst>
                            <p:childTnLst>
                              <p:par>
                                <p:cTn id="7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2000"/>
                            </p:stCondLst>
                            <p:childTnLst>
                              <p:par>
                                <p:cTn id="7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2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2500"/>
                            </p:stCondLst>
                            <p:childTnLst>
                              <p:par>
                                <p:cTn id="7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8" dur="500"/>
                                        <p:tgtEl>
                                          <p:spTgt spid="2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3000"/>
                            </p:stCondLst>
                            <p:childTnLst>
                              <p:par>
                                <p:cTn id="7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2" dur="500"/>
                                        <p:tgtEl>
                                          <p:spTgt spid="2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3500"/>
                            </p:stCondLst>
                            <p:childTnLst>
                              <p:par>
                                <p:cTn id="7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000"/>
                            </p:stCondLst>
                            <p:childTnLst>
                              <p:par>
                                <p:cTn id="7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Specifična aktivnost nuklidov v mleku v okolici Ljubljane; vir: AR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3"/>
          <p:cNvGraphicFramePr/>
          <p:nvPr/>
        </p:nvGraphicFramePr>
        <p:xfrm>
          <a:off x="539640" y="1487520"/>
          <a:ext cx="8058240" cy="388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7520"/>
                    <a:ext cx="805824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Zakonoda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rana: v EU je bila po Černobilu določena nova najvišja dovoljena aktivnost izotopa Cs – 137, in sicer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2,5 kBq / kg suhe tež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ze: 20 mSv letno za izpostavljene delavce; 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1 mSv letno za posameznike iz prebivalstva in</a:t>
            </a:r>
            <a:br>
              <a:rPr sz="2400"/>
            </a:b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1 mSv za nerojenega otroka noseče ženske v času do konca nosečnos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 zdravniških pregledih in zdravljenju se uporabljata načeli upravičenosti in optimizaci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Radon v Sloveniji (leto 200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jubljana, Velenje 18 Bq/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zraka; Kočevje do 40 Bq/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povišano naravno ozadje, bivši rudnik premoga); največ: K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zaprti prostori do 60 Bq/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(dopustno do 200 Bq/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kord: termalna voda, toplice Snovik v Tuhinjski dolini (do 63 000 Bq/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in Dolenjske Toplice (51 000 Bq/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kladišče za nizko in srednje radioaktivne odpadke v Brinju (zdravstvo, industrija, šolstvo, znanost): 6300 Bq/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slovenija"/>
          <p:cNvPicPr/>
          <p:nvPr/>
        </p:nvPicPr>
        <p:blipFill>
          <a:blip r:embed="rId1"/>
          <a:stretch/>
        </p:blipFill>
        <p:spPr>
          <a:xfrm>
            <a:off x="6948360" y="115920"/>
            <a:ext cx="1076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0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7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1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Razpolovni čas t</a:t>
            </a:r>
            <a:r>
              <a:rPr b="0" lang="sl-SI" sz="4400" spc="-1" strike="noStrike" baseline="-25000">
                <a:solidFill>
                  <a:srgbClr val="ff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adioaktivni razpadi so vsi prvega re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Arial"/>
              </a:rPr>
              <a:t>Razpolovni čas t</a:t>
            </a:r>
            <a:r>
              <a:rPr b="0" lang="sl-SI" sz="2400" spc="-1" strike="noStrike" baseline="-25000">
                <a:solidFill>
                  <a:srgbClr val="ff0000"/>
                </a:solidFill>
                <a:latin typeface="Arial"/>
              </a:rPr>
              <a:t>1/2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: je čas, v katerem se koncentracija zmanjša na polovico začet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Object 2"/>
              <p:cNvSpPr txBox="1"/>
              <p:nvPr/>
            </p:nvSpPr>
            <p:spPr>
              <a:xfrm>
                <a:off x="6311880" y="2060640"/>
                <a:ext cx="15001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ct 3"/>
              <p:cNvSpPr txBox="1"/>
              <p:nvPr/>
            </p:nvSpPr>
            <p:spPr>
              <a:xfrm>
                <a:off x="6337440" y="4008600"/>
                <a:ext cx="1374480" cy="78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2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6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500"/>
                            </p:stCondLst>
                            <p:childTnLst>
                              <p:par>
                                <p:cTn id="7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000"/>
                            </p:stCondLst>
                            <p:childTnLst>
                              <p:par>
                                <p:cTn id="7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3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4000"/>
                            </p:stCondLst>
                            <p:childTnLst>
                              <p:par>
                                <p:cTn id="7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RAZPOLOVNICAS"/>
          <p:cNvPicPr/>
          <p:nvPr/>
        </p:nvPicPr>
        <p:blipFill>
          <a:blip r:embed="rId1"/>
          <a:stretch/>
        </p:blipFill>
        <p:spPr>
          <a:xfrm>
            <a:off x="1325520" y="1600200"/>
            <a:ext cx="64911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Koliko časa do polovi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ran – 238: razpolovni čas je 4,5 x 10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l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esečna plača: razpolovni čas 15 dni (če se le da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metni vir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cezij – 137 (jedrske eksplozije, Černobil): 30 le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tehnecij – 99: 6 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- jod – 131: 8 d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Umetni radioaktivni vir je nenevaren takrat, ko je njegova aktivnost podobna tisti v naravnem ozadj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1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3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2000"/>
                            </p:stCondLst>
                            <p:childTnLst>
                              <p:par>
                                <p:cTn id="8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8" fill="hold">
                            <p:stCondLst>
                              <p:cond delay="2500"/>
                            </p:stCondLst>
                            <p:childTnLst>
                              <p:par>
                                <p:cTn id="8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3000"/>
                            </p:stCondLst>
                            <p:childTnLst>
                              <p:par>
                                <p:cTn id="8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3500"/>
                            </p:stCondLst>
                            <p:childTnLst>
                              <p:par>
                                <p:cTn id="8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9" dur="500"/>
                                        <p:tgtEl>
                                          <p:spTgt spid="2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347184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epitev jeder v reaktorju - močno eksotermna reakcij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941: prva nadzorovana verižna reakcija (Enrico Ferm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1954: prva jedrska elektrarna (Obninsk, SSS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Jedrska energ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gorivni elementi"/>
          <p:cNvPicPr/>
          <p:nvPr/>
        </p:nvPicPr>
        <p:blipFill>
          <a:blip r:embed="rId1"/>
          <a:stretch/>
        </p:blipFill>
        <p:spPr>
          <a:xfrm>
            <a:off x="3963960" y="1406520"/>
            <a:ext cx="1184400" cy="18064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Enrico Fermi"/>
          <p:cNvPicPr/>
          <p:nvPr/>
        </p:nvPicPr>
        <p:blipFill>
          <a:blip r:embed="rId2"/>
          <a:stretch/>
        </p:blipFill>
        <p:spPr>
          <a:xfrm>
            <a:off x="2994120" y="4653000"/>
            <a:ext cx="857160" cy="1058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Obninsk_plant"/>
          <p:cNvPicPr/>
          <p:nvPr/>
        </p:nvPicPr>
        <p:blipFill>
          <a:blip r:embed="rId3"/>
          <a:stretch/>
        </p:blipFill>
        <p:spPr>
          <a:xfrm>
            <a:off x="6156360" y="4581360"/>
            <a:ext cx="1716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0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4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500"/>
                            </p:stCondLst>
                            <p:childTnLst>
                              <p:par>
                                <p:cTn id="8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2000"/>
                            </p:stCondLst>
                            <p:childTnLst>
                              <p:par>
                                <p:cTn id="8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2" dur="2000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4000"/>
                            </p:stCondLst>
                            <p:childTnLst>
                              <p:par>
                                <p:cTn id="854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ontent Placeholder 4" descr="graf sevanje1.gif"/>
          <p:cNvPicPr/>
          <p:nvPr/>
        </p:nvPicPr>
        <p:blipFill>
          <a:blip r:embed="rId1"/>
          <a:stretch/>
        </p:blipFill>
        <p:spPr>
          <a:xfrm>
            <a:off x="1300320" y="1700280"/>
            <a:ext cx="654336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Verižne reakc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adzorovana jedrska verižna reakcija 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razne možnost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Object 6"/>
              <p:cNvSpPr txBox="1"/>
              <p:nvPr/>
            </p:nvSpPr>
            <p:spPr>
              <a:xfrm>
                <a:off x="900000" y="2895480"/>
                <a:ext cx="4567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34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Xe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Sr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2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52" name="Picture 9" descr="250px-Nuclear_fission_svg"/>
          <p:cNvPicPr/>
          <p:nvPr/>
        </p:nvPicPr>
        <p:blipFill>
          <a:blip r:embed="rId1"/>
          <a:stretch/>
        </p:blipFill>
        <p:spPr>
          <a:xfrm>
            <a:off x="6438960" y="2522520"/>
            <a:ext cx="2381040" cy="37148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Object 10"/>
              <p:cNvSpPr txBox="1"/>
              <p:nvPr/>
            </p:nvSpPr>
            <p:spPr>
              <a:xfrm>
                <a:off x="965160" y="4408560"/>
                <a:ext cx="44704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5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Kr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14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Ba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3</m:t>
                    </m:r>
                    <m:r>
                      <m:t xml:space="preserve"> </m:t>
                    </m:r>
                    <m:sPr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0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500"/>
                            </p:stCondLst>
                            <p:childTnLst>
                              <p:par>
                                <p:cTn id="8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fill="hold">
                            <p:stCondLst>
                              <p:cond delay="1000"/>
                            </p:stCondLst>
                            <p:childTnLst>
                              <p:par>
                                <p:cTn id="8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604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NEK (700 M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edrsko gorivo: 95% uran – 238 in 5% uran – 235 (jedrsko orožje: 90% urana – 23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Gorivne palice iz cirkonija vsebujejo gorivo v obliki UO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EK: 121 gorivnih elementov, vsak ima 235 gorivnih palic, skupaj 50 ton ura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5" descr="gorivni_elementi v NEK"/>
          <p:cNvPicPr/>
          <p:nvPr/>
        </p:nvPicPr>
        <p:blipFill>
          <a:blip r:embed="rId1"/>
          <a:stretch/>
        </p:blipFill>
        <p:spPr>
          <a:xfrm>
            <a:off x="5003640" y="5300640"/>
            <a:ext cx="1524240" cy="1143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6" descr="Nek"/>
          <p:cNvPicPr/>
          <p:nvPr/>
        </p:nvPicPr>
        <p:blipFill>
          <a:blip r:embed="rId2"/>
          <a:stretch/>
        </p:blipFill>
        <p:spPr>
          <a:xfrm>
            <a:off x="5576760" y="11592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0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9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500"/>
                            </p:stCondLst>
                            <p:childTnLst>
                              <p:par>
                                <p:cTn id="8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000"/>
                            </p:stCondLst>
                            <p:childTnLst>
                              <p:par>
                                <p:cTn id="8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1500"/>
                            </p:stCondLst>
                            <p:childTnLst>
                              <p:par>
                                <p:cTn id="8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bsorpcija nevtronov: bor (H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O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) v hladilni vodi ali regulacijske palice iz srebra, indija in kadm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oderator nevtronov: hladilna voda (jih upočas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Jedrska energija (toplota) </a:t>
            </a:r>
            <a:r>
              <a:rPr b="0" lang="sl-SI" sz="2400" spc="-1" strike="noStrike">
                <a:solidFill>
                  <a:srgbClr val="000000"/>
                </a:solidFill>
                <a:latin typeface="SymbolPS"/>
                <a:ea typeface="SymbolPS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uparevanje vode  </a:t>
            </a:r>
            <a:r>
              <a:rPr b="0" lang="sl-SI" sz="2400" spc="-1" strike="noStrike">
                <a:solidFill>
                  <a:srgbClr val="000000"/>
                </a:solidFill>
                <a:latin typeface="SymbolPS"/>
                <a:ea typeface="SymbolPS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parne turbine  </a:t>
            </a:r>
            <a:r>
              <a:rPr b="0" lang="sl-SI" sz="2400" spc="-1" strike="noStrike">
                <a:solidFill>
                  <a:srgbClr val="000000"/>
                </a:solidFill>
                <a:latin typeface="SymbolPS"/>
                <a:ea typeface="SymbolPS"/>
              </a:rPr>
              <a:t>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 električni generatorj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oplotni izkoristek: 3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6" descr="hladilna voda"/>
          <p:cNvPicPr/>
          <p:nvPr/>
        </p:nvPicPr>
        <p:blipFill>
          <a:blip r:embed="rId1"/>
          <a:stretch/>
        </p:blipFill>
        <p:spPr>
          <a:xfrm>
            <a:off x="3276720" y="3141720"/>
            <a:ext cx="190332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500"/>
                            </p:stCondLst>
                            <p:childTnLst>
                              <p:par>
                                <p:cTn id="8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1000"/>
                            </p:stCondLst>
                            <p:childTnLst>
                              <p:par>
                                <p:cTn id="9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3" dur="500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4" fill="hold">
                            <p:stCondLst>
                              <p:cond delay="1500"/>
                            </p:stCondLst>
                            <p:childTnLst>
                              <p:par>
                                <p:cTn id="90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000"/>
                            </p:stCondLst>
                            <p:childTnLst>
                              <p:par>
                                <p:cTn id="9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2500"/>
                            </p:stCondLst>
                            <p:childTnLst>
                              <p:par>
                                <p:cTn id="9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5" dur="500"/>
                                        <p:tgtEl>
                                          <p:spTgt spid="2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epitveni produkti so prav tako radioaktivni; predstavljajo del radioaktivnih odpadkov iz jedrskih elektrarn, zato jih je treba pravilno skladiščiti. Z njimi je povezanih večina ekoloških problemov v zvezi s pridobivanjem energije iz jedrskih elektr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onec leta 2004 v elektrarni: 2289 m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odpadkov (nizko in srednje radioaktivni, to so taki, ki po 300 letih niso več radioaktivni), skupna aktivnost 19 TBq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odlagalisce1"/>
          <p:cNvPicPr/>
          <p:nvPr/>
        </p:nvPicPr>
        <p:blipFill>
          <a:blip r:embed="rId1"/>
          <a:stretch/>
        </p:blipFill>
        <p:spPr>
          <a:xfrm>
            <a:off x="5132520" y="3357720"/>
            <a:ext cx="952200" cy="12762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cistilna_naprava01"/>
          <p:cNvPicPr/>
          <p:nvPr/>
        </p:nvPicPr>
        <p:blipFill>
          <a:blip r:embed="rId2"/>
          <a:stretch/>
        </p:blipFill>
        <p:spPr>
          <a:xfrm>
            <a:off x="1476360" y="3429000"/>
            <a:ext cx="15238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fill="hold">
                      <p:stCondLst>
                        <p:cond delay="0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2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500"/>
                            </p:stCondLst>
                            <p:childTnLst>
                              <p:par>
                                <p:cTn id="9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1000"/>
                            </p:stCondLst>
                            <p:childTnLst>
                              <p:par>
                                <p:cTn id="9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1500"/>
                            </p:stCondLst>
                            <p:childTnLst>
                              <p:par>
                                <p:cTn id="9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4" dur="500"/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esmotrna uporaba jedrske energi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tomska bomba: nekontrolirana jedrska verižna reak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meričani so avgusta 1945 na japonski mesti Hirošimo in Nagasaki odvrgli atomski bombi moči 13 kiloton TNT (60 kg urana – 235, Hirošima) in 21 kiloton TNT (6,4 kg plutonija – 239, Nagasaki). Posledice bombardiranja: okrog 200 000 ubitih civilistov in še večje število obolel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6" descr="250px-Hiroshima_aftermath"/>
          <p:cNvPicPr/>
          <p:nvPr/>
        </p:nvPicPr>
        <p:blipFill>
          <a:blip r:embed="rId1"/>
          <a:stretch/>
        </p:blipFill>
        <p:spPr>
          <a:xfrm>
            <a:off x="4710240" y="4365720"/>
            <a:ext cx="3174840" cy="1727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250px-Nagasakibomb"/>
          <p:cNvPicPr/>
          <p:nvPr/>
        </p:nvPicPr>
        <p:blipFill>
          <a:blip r:embed="rId2"/>
          <a:stretch/>
        </p:blipFill>
        <p:spPr>
          <a:xfrm>
            <a:off x="1465200" y="4102200"/>
            <a:ext cx="1666800" cy="22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NT je okrajšava za klasično eksplozivo 2,4,6 - trinitrotoluen. Moč jedrske eksplozije je izražena s pomočjo mase v kilotonah TNT, ki bi morala eksplodirati za podoben učinek. Energija pri eksploziji 1 kilotone TNT znaša 4,184·10</a:t>
            </a:r>
            <a:r>
              <a:rPr b="0" lang="sl-SI" sz="2400" spc="-1" strike="noStrike" baseline="30000">
                <a:solidFill>
                  <a:srgbClr val="000000"/>
                </a:solidFill>
                <a:latin typeface="Arial"/>
              </a:rPr>
              <a:t>12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J. Toliko energije nastane na primer pri zgorevanju okrog 143 ton premo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anes: atomske bombe z močjo 500 kilot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Atomska bomba Fat_man"/>
          <p:cNvPicPr/>
          <p:nvPr/>
        </p:nvPicPr>
        <p:blipFill>
          <a:blip r:embed="rId1"/>
          <a:stretch/>
        </p:blipFill>
        <p:spPr>
          <a:xfrm>
            <a:off x="6458040" y="3879720"/>
            <a:ext cx="171432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500"/>
                            </p:stCondLst>
                            <p:childTnLst>
                              <p:par>
                                <p:cTn id="9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000"/>
                            </p:stCondLst>
                            <p:childTnLst>
                              <p:par>
                                <p:cTn id="9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0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Fuz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once: fuzijski reak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zlivanje protono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Fuzija zaenkrat: žal le kot orož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vodikova bomba: 50 megat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4" descr="sonce je fuzijski reaktor"/>
          <p:cNvPicPr/>
          <p:nvPr/>
        </p:nvPicPr>
        <p:blipFill>
          <a:blip r:embed="rId1"/>
          <a:stretch/>
        </p:blipFill>
        <p:spPr>
          <a:xfrm>
            <a:off x="5589720" y="1693800"/>
            <a:ext cx="1646280" cy="15908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prva vodikova bomba"/>
          <p:cNvPicPr/>
          <p:nvPr/>
        </p:nvPicPr>
        <p:blipFill>
          <a:blip r:embed="rId2"/>
          <a:stretch/>
        </p:blipFill>
        <p:spPr>
          <a:xfrm>
            <a:off x="5838840" y="4492800"/>
            <a:ext cx="182880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0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7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"/>
                            </p:stCondLst>
                            <p:childTnLst>
                              <p:par>
                                <p:cTn id="96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1" dur="5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6" fill="hold">
                            <p:stCondLst>
                              <p:cond delay="1500"/>
                            </p:stCondLst>
                            <p:childTnLst>
                              <p:par>
                                <p:cTn id="9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9" dur="500"/>
                                        <p:tgtEl>
                                          <p:spTgt spid="2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2000"/>
                            </p:stCondLst>
                            <p:childTnLst>
                              <p:par>
                                <p:cTn id="9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3" dur="500"/>
                                        <p:tgtEl>
                                          <p:spTgt spid="2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2500"/>
                            </p:stCondLst>
                            <p:childTnLst>
                              <p:par>
                                <p:cTn id="98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7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Prihodnos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betajoča fuzijska reakcij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obetajoca fusijska reakcija"/>
          <p:cNvPicPr/>
          <p:nvPr/>
        </p:nvPicPr>
        <p:blipFill>
          <a:blip r:embed="rId1"/>
          <a:stretch/>
        </p:blipFill>
        <p:spPr>
          <a:xfrm>
            <a:off x="5364000" y="2421000"/>
            <a:ext cx="19051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0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4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"/>
                            </p:stCondLst>
                            <p:childTnLst>
                              <p:par>
                                <p:cTn id="9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Vi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.W. Atkins: Physical Chemistry, 8</a:t>
            </a:r>
            <a:r>
              <a:rPr b="0" lang="sl-SI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Ed., Oxford Pr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. Monk: Physical Chemistry - Understanding our Chemical World, John Wiley and S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a RS za jedrsko varnost (</a:t>
            </a:r>
            <a:r>
              <a:rPr b="0" lang="sl-SI" sz="2000" spc="-1" strike="noStrike" u="sng">
                <a:solidFill>
                  <a:srgbClr val="3366ff"/>
                </a:solidFill>
                <a:uFillTx/>
                <a:latin typeface="Arial"/>
              </a:rPr>
              <a:t>http://www.ursjv.gov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Agencija za radioaktivne odpadke (</a:t>
            </a:r>
            <a:r>
              <a:rPr b="0" lang="sl-SI" sz="2000" spc="-1" strike="noStrike" u="sng">
                <a:solidFill>
                  <a:srgbClr val="3366ff"/>
                </a:solidFill>
                <a:uFillTx/>
                <a:latin typeface="Arial"/>
              </a:rPr>
              <a:t>http://www.arao.si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ikipedia (slike) (</a:t>
            </a:r>
            <a:r>
              <a:rPr b="0" lang="sl-SI" sz="2000" spc="-1" strike="noStrike" u="sng">
                <a:solidFill>
                  <a:srgbClr val="3366ff"/>
                </a:solidFill>
                <a:uFillTx/>
                <a:latin typeface="Arial"/>
              </a:rPr>
              <a:t>http://en.wikipedia.org/wiki/Main_Page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Environmental Protection Agency (</a:t>
            </a:r>
            <a:r>
              <a:rPr b="0" lang="sl-SI" sz="2000" spc="-1" strike="noStrike">
                <a:solidFill>
                  <a:srgbClr val="3366ff"/>
                </a:solidFill>
                <a:latin typeface="Arial"/>
              </a:rPr>
              <a:t>http://www.epa.gov/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66ff"/>
                </a:solidFill>
                <a:latin typeface="Arial"/>
              </a:rPr>
              <a:t>http://teachers.web.cern.ch/teacher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66ff"/>
                </a:solidFill>
                <a:latin typeface="Arial"/>
              </a:rPr>
              <a:t>http://hyperphysics.phy-astr.gsu.edu/hbase/nuclear/nucnot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66ff"/>
                </a:solidFill>
                <a:latin typeface="Arial"/>
              </a:rPr>
              <a:t>http://particleadventure.org/frameless/4interaction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66ff"/>
                </a:solidFill>
                <a:latin typeface="Arial"/>
              </a:rPr>
              <a:t>http://science.uniserve.edu.au/school/curric/stage6/phys/physapplets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66ff"/>
                </a:solidFill>
                <a:latin typeface="Arial"/>
              </a:rPr>
              <a:t>http://www.uic.com.au/nip26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66ff"/>
                </a:solidFill>
                <a:latin typeface="Arial"/>
              </a:rPr>
              <a:t>http://www.radiation.org/reading/pubs/testimonyNJFeb2005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fill="hold">
                      <p:stCondLst>
                        <p:cond delay="0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9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3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7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1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9" dur="500"/>
                                        <p:tgtEl>
                                          <p:spTgt spid="2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3" dur="500"/>
                                        <p:tgtEl>
                                          <p:spTgt spid="2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7" dur="500"/>
                                        <p:tgtEl>
                                          <p:spTgt spid="2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8" fill="hold">
                            <p:stCondLst>
                              <p:cond delay="4500"/>
                            </p:stCondLst>
                            <p:childTnLst>
                              <p:par>
                                <p:cTn id="10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1" dur="500"/>
                                        <p:tgtEl>
                                          <p:spTgt spid="2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5" dur="500"/>
                                        <p:tgtEl>
                                          <p:spTgt spid="2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500"/>
                            </p:stCondLst>
                            <p:childTnLst>
                              <p:par>
                                <p:cTn id="10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9" dur="500"/>
                                        <p:tgtEl>
                                          <p:spTgt spid="2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3" dur="500"/>
                                        <p:tgtEl>
                                          <p:spTgt spid="28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74420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HVA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ff0000"/>
                </a:solidFill>
                <a:latin typeface="Arial"/>
              </a:rPr>
              <a:t>POTRPEŽLJIVOST</a:t>
            </a: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modern atom[1]"/>
          <p:cNvPicPr/>
          <p:nvPr/>
        </p:nvPicPr>
        <p:blipFill>
          <a:blip r:embed="rId1"/>
          <a:stretch/>
        </p:blipFill>
        <p:spPr>
          <a:xfrm>
            <a:off x="3059280" y="189000"/>
            <a:ext cx="2857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0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9" dur="50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500"/>
                            </p:stCondLst>
                            <p:childTnLst>
                              <p:par>
                                <p:cTn id="106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2" dur="50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5" dur="50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8" dur="50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Neionizirajoče 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bližnje UV, vidno in IR elektromagnetno valovanje, mikrovalovi in radijski valovi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o valovanje lahko sproži naprimer nekatere fotokemijske reakcije in pospeši radikalske reakcij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ovzroči lahko opekline kože; večino ga zadrži že zemeljska atmosfer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nergija praviloma ni zadostna za ionizacijo atomov in moleku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Geiger-Millerjev štev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4" descr="Geiger Millerjev števec"/>
          <p:cNvPicPr/>
          <p:nvPr/>
        </p:nvPicPr>
        <p:blipFill>
          <a:blip r:embed="rId1"/>
          <a:stretch/>
        </p:blipFill>
        <p:spPr>
          <a:xfrm>
            <a:off x="3143160" y="2381400"/>
            <a:ext cx="28576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Ionizirajoče sevan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onizirajoče sevanje rečemo vsem delcem, 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ajo zadosti energije, da ionizirajo at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 molek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akšni delci izbijejo elektrone iz zunanje lupine v atomi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 večjih količinah lahko ionizirajoče sevanje v živih tkivih povzroči mutacije celic ali pa celo sm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onizirajoče sevanje je lahk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stavljeno iz protonov, nevtron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elektronov, helijevih jeder, in š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ekaterih drugih delcev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black hole"/>
          <p:cNvPicPr/>
          <p:nvPr/>
        </p:nvPicPr>
        <p:blipFill>
          <a:blip r:embed="rId1"/>
          <a:stretch/>
        </p:blipFill>
        <p:spPr>
          <a:xfrm>
            <a:off x="5724360" y="4797360"/>
            <a:ext cx="3173400" cy="1776600"/>
          </a:xfrm>
          <a:prstGeom prst="rect">
            <a:avLst/>
          </a:prstGeom>
          <a:ln w="0">
            <a:noFill/>
          </a:ln>
        </p:spPr>
      </p:pic>
      <p:sp>
        <p:nvSpPr>
          <p:cNvPr id="64" name="Oval 6"/>
          <p:cNvSpPr/>
          <p:nvPr/>
        </p:nvSpPr>
        <p:spPr>
          <a:xfrm>
            <a:off x="7236000" y="1579680"/>
            <a:ext cx="1058760" cy="10573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7"/>
          <p:cNvSpPr/>
          <p:nvPr/>
        </p:nvSpPr>
        <p:spPr>
          <a:xfrm>
            <a:off x="7335720" y="1677960"/>
            <a:ext cx="849600" cy="84924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8"/>
          <p:cNvSpPr/>
          <p:nvPr/>
        </p:nvSpPr>
        <p:spPr>
          <a:xfrm>
            <a:off x="7427880" y="1765440"/>
            <a:ext cx="666720" cy="66672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9"/>
          <p:cNvSpPr/>
          <p:nvPr/>
        </p:nvSpPr>
        <p:spPr>
          <a:xfrm>
            <a:off x="7523280" y="1870200"/>
            <a:ext cx="447480" cy="44748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0"/>
          <p:cNvSpPr/>
          <p:nvPr/>
        </p:nvSpPr>
        <p:spPr>
          <a:xfrm>
            <a:off x="7605720" y="1943280"/>
            <a:ext cx="284040" cy="284040"/>
          </a:xfrm>
          <a:prstGeom prst="ellipse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7686720" y="2023920"/>
            <a:ext cx="119160" cy="11916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2"/>
          <p:cNvSpPr/>
          <p:nvPr/>
        </p:nvSpPr>
        <p:spPr>
          <a:xfrm>
            <a:off x="8107200" y="2367000"/>
            <a:ext cx="4464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3"/>
          <p:cNvSpPr/>
          <p:nvPr/>
        </p:nvSpPr>
        <p:spPr>
          <a:xfrm>
            <a:off x="7939080" y="188604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4"/>
          <p:cNvSpPr/>
          <p:nvPr/>
        </p:nvSpPr>
        <p:spPr>
          <a:xfrm>
            <a:off x="7450200" y="209880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5"/>
          <p:cNvSpPr/>
          <p:nvPr/>
        </p:nvSpPr>
        <p:spPr>
          <a:xfrm>
            <a:off x="7510320" y="1893960"/>
            <a:ext cx="4464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6"/>
          <p:cNvSpPr/>
          <p:nvPr/>
        </p:nvSpPr>
        <p:spPr>
          <a:xfrm>
            <a:off x="7711920" y="178740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7"/>
          <p:cNvSpPr/>
          <p:nvPr/>
        </p:nvSpPr>
        <p:spPr>
          <a:xfrm>
            <a:off x="7616880" y="206064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8"/>
          <p:cNvSpPr/>
          <p:nvPr/>
        </p:nvSpPr>
        <p:spPr>
          <a:xfrm>
            <a:off x="7824960" y="2057400"/>
            <a:ext cx="4572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9"/>
          <p:cNvSpPr/>
          <p:nvPr/>
        </p:nvSpPr>
        <p:spPr>
          <a:xfrm>
            <a:off x="8016840" y="2093760"/>
            <a:ext cx="46080" cy="4464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20"/>
          <p:cNvSpPr/>
          <p:nvPr/>
        </p:nvSpPr>
        <p:spPr>
          <a:xfrm>
            <a:off x="7935840" y="2281320"/>
            <a:ext cx="46080" cy="44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21"/>
          <p:cNvSpPr/>
          <p:nvPr/>
        </p:nvSpPr>
        <p:spPr>
          <a:xfrm>
            <a:off x="7738920" y="2354400"/>
            <a:ext cx="46080" cy="460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22"/>
          <p:cNvSpPr/>
          <p:nvPr/>
        </p:nvSpPr>
        <p:spPr>
          <a:xfrm>
            <a:off x="7556400" y="2284560"/>
            <a:ext cx="46080" cy="45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23"/>
          <p:cNvSpPr/>
          <p:nvPr/>
        </p:nvSpPr>
        <p:spPr>
          <a:xfrm>
            <a:off x="7289640" y="2206800"/>
            <a:ext cx="46080" cy="45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24"/>
          <p:cNvSpPr/>
          <p:nvPr/>
        </p:nvSpPr>
        <p:spPr>
          <a:xfrm>
            <a:off x="7923240" y="1649520"/>
            <a:ext cx="46080" cy="4428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4500"/>
                            </p:stCondLst>
                            <p:childTnLst>
                              <p:par>
                                <p:cTn id="1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5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50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Dejst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Radioaktivno (ionizirajoče) sevanje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je na našem planetu stalno prisotno. Rečemo mu </a:t>
            </a: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naravno ozadje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ir sevanja naravnega ozadja so </a:t>
            </a:r>
            <a:r>
              <a:rPr b="0" lang="sl-SI" sz="2000" spc="-1" strike="noStrike">
                <a:solidFill>
                  <a:srgbClr val="0000cc"/>
                </a:solidFill>
                <a:latin typeface="Arial"/>
              </a:rPr>
              <a:t>kozmični žark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iz oddaljenega vesolja in od našega sonca, in </a:t>
            </a:r>
            <a:r>
              <a:rPr b="0" lang="sl-SI" sz="2000" spc="-1" strike="noStrike">
                <a:solidFill>
                  <a:srgbClr val="0000cc"/>
                </a:solidFill>
                <a:latin typeface="Arial"/>
              </a:rPr>
              <a:t>radioaktivne snov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v globinah našega plan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adioaktivni izotopi, ki so prisotni v večjih količinah v našem teles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7 mg/70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90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g/ 70 k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30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Arial"/>
              </a:rPr>
              <a:t>g/ 70 k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si navedeni so primarni radioizotopi, ki so navzoči že od nastanka Zemlje. Vsega skupaj je v naravi več kot 60 radioaktivnih elementov.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8"/>
              <p:cNvSpPr txBox="1"/>
              <p:nvPr/>
            </p:nvSpPr>
            <p:spPr>
              <a:xfrm>
                <a:off x="1258920" y="3875040"/>
                <a:ext cx="54288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14"/>
              <p:cNvSpPr txBox="1"/>
              <p:nvPr/>
            </p:nvSpPr>
            <p:spPr>
              <a:xfrm>
                <a:off x="1116000" y="5214960"/>
                <a:ext cx="7524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2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rPr>
                        <m:lit/>
                        <m:nor/>
                      </m:rPr>
                      <m:t xml:space="preserve">T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16"/>
              <p:cNvSpPr txBox="1"/>
              <p:nvPr/>
            </p:nvSpPr>
            <p:spPr>
              <a:xfrm>
                <a:off x="1187280" y="4551480"/>
                <a:ext cx="6256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5" name="Picture 18" descr="leonardo body"/>
          <p:cNvPicPr/>
          <p:nvPr/>
        </p:nvPicPr>
        <p:blipFill>
          <a:blip r:embed="rId1"/>
          <a:stretch/>
        </p:blipFill>
        <p:spPr>
          <a:xfrm>
            <a:off x="6099120" y="3929040"/>
            <a:ext cx="1281240" cy="17384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kladivo vojasko"/>
          <p:cNvPicPr/>
          <p:nvPr/>
        </p:nvPicPr>
        <p:blipFill>
          <a:blip r:embed="rId2"/>
          <a:stretch/>
        </p:blipFill>
        <p:spPr>
          <a:xfrm>
            <a:off x="5869080" y="189000"/>
            <a:ext cx="122400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20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500"/>
                            </p:stCondLst>
                            <p:childTnLst>
                              <p:par>
                                <p:cTn id="17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500"/>
                            </p:stCondLst>
                            <p:childTnLst>
                              <p:par>
                                <p:cTn id="1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7000"/>
                            </p:stCondLst>
                            <p:childTnLst>
                              <p:par>
                                <p:cTn id="1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500"/>
                            </p:stCondLst>
                            <p:childTnLst>
                              <p:par>
                                <p:cTn id="2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8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oplota našega planeta prihaja tudi od radioaktivnega razpada           v njegovi notranjosti – uranova serij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Oklo (Gabon): naravni fizijski jedrski reaktor v področjih z nahajališči uranove rude, ki je deloval skoraj milijon let. Nevtronski moderator je bila voda iz podtalnice. Moč reaktorja: 100 kW. Reaktor je ugasnil pred 1,5 milijarde l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4"/>
              <p:cNvSpPr txBox="1"/>
              <p:nvPr/>
            </p:nvSpPr>
            <p:spPr>
              <a:xfrm>
                <a:off x="4181400" y="1865160"/>
                <a:ext cx="66996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Pre>
                      <m:sub>
                        <m:r>
                          <m:rPr>
                            <m:lit/>
                            <m:nor/>
                          </m:rPr>
                          <m:t xml:space="preserve">92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238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/>
                        </m:r>
                      </m:e>
                    </m:sPre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1" name="Picture 6" descr="Gabon naravni fisijski reaktor"/>
          <p:cNvPicPr/>
          <p:nvPr/>
        </p:nvPicPr>
        <p:blipFill>
          <a:blip r:embed="rId1"/>
          <a:stretch/>
        </p:blipFill>
        <p:spPr>
          <a:xfrm>
            <a:off x="6588000" y="1403280"/>
            <a:ext cx="238140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0000"/>
                </a:solidFill>
                <a:latin typeface="Arial"/>
              </a:rPr>
              <a:t>Odkod sevanj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Nekateri atomi niso stabilni, zato razpade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V naravi so takšni predvsem izotopi težjih elementov, ki imajo dodatne nevtrone v jedr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emu razpadu rečemo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dioaktivni razpad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Nestabilni izotopi so radioaktivni, zato jim rečemo tudi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dioizotopi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ri radioaktivnem razpadu se del energije atoma sprosti v obliki delcev, ki jih običajno spremlja tudi elektromagnetno valovanje z visoko energi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emu pojavu rečemo s skupnim imenom </a:t>
            </a: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radioaktivno sevanje</a:t>
            </a: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. Sevanja radioaktivnih snovi ne moremo prekini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8T11:35:09Z</dcterms:created>
  <dc:creator>agodec</dc:creator>
  <dc:description/>
  <dc:language>en-US</dc:language>
  <cp:lastModifiedBy>Eva Ferk</cp:lastModifiedBy>
  <dcterms:modified xsi:type="dcterms:W3CDTF">2010-03-31T09:14:30Z</dcterms:modified>
  <cp:revision>148</cp:revision>
  <dc:subject/>
  <dc:title>Radioaktivnost je!</dc:title>
</cp:coreProperties>
</file>