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9B1F-18A7-4674-B788-6653EC81F6C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47CC-8378-4175-99E7-1A742F39FFD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EB40-FBF0-4BA7-A82F-47203CBE26E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8459C-222A-4144-8603-23952EBB5A7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C613B-E9BC-4419-8C23-ADD5F87D8AD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7B56-5F57-4F13-963C-78008BAAAD3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BE30-71DF-4DBD-A089-AB6F3351537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68A5-F8F0-42CD-AD7D-77763BF19D7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A8C1-46A2-43B4-A0AE-9CA3694CA55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7E7E-721B-4F67-B634-071C4A5CE7D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8D2DB-728B-4321-9A91-8FABDF805D9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8E87-EF5F-4839-B060-EF200F40144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0B26A-EAE8-4AD0-B8D0-0DC876AF9A6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57D4-E0DD-4D56-9D7F-CCA821BD1A8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3729-4C07-40C8-A50D-5497693BF37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00AD-CD46-4CF7-B0C3-570186CBF10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A3BF-AE18-437A-8E68-6BF27840C52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56F3-9CB6-406F-969F-DE9874457CB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5DCC-D42A-481D-B12B-1051058666D7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D93C1-D4B2-4B1E-B3B0-EE34AB78FA6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960-1107-423C-8F3F-9A6D6701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DAB8-DE87-4D6E-B36F-236577B0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76EE-D71A-406E-8E72-BEC42B93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7AC4-BD68-45E5-875A-2E340E0BF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AD27-9C9B-493E-B409-63DB147E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8C84-E662-4A11-A337-EE7E8031B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0DEF-87E7-4290-9D91-E3CAD0622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372-0A54-4A7C-BAE3-4BA678438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8F8-75CB-48EE-83DE-0A3EEF0D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94AD-F40C-4AB9-8D15-92949D387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0EB-37F1-4361-AA54-0A818D40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E95C-8B86-4D7F-AD57-817E5E07E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50585-2180-44AD-9C91-5A25F91B3C5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907920"/>
            <a:ext cx="8229600" cy="237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dioaktivno sevanje</a:t>
            </a:r>
            <a:br>
              <a:rPr sz="4400"/>
            </a:b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(interdisciplinarno:kemija – fizika – biolog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993F1-EC28-488F-BCE6-1B28B1DE2FB4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CF26-8FA2-4BC8-B9B0-FBFAFA02272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E680-3A03-44BD-84AD-AFA25A882B4B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ED2FC-894B-42FF-805F-201D9426E9C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706B-BF38-41A0-A19A-B76EC867E47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6DDA-8280-47FB-84DE-27915B82F930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3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E7FA-AA82-4121-A9DE-73BFA9665A4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15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000"/>
                            </p:stCondLst>
                            <p:childTnLst>
                              <p:par>
                                <p:cTn id="3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2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4000"/>
                            </p:stCondLst>
                            <p:childTnLst>
                              <p:par>
                                <p:cTn id="32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Slide Number Placeholder 10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560A-6BE2-4B3C-89B9-BEDE2307CCF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00"/>
                            </p:stCondLst>
                            <p:childTnLst>
                              <p:par>
                                <p:cTn id="3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  <p:sp>
        <p:nvSpPr>
          <p:cNvPr id="140" name="Slide Number Placeholder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AEF6-6993-4504-BA43-18BAE5DD435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2500"/>
                            </p:stCondLst>
                            <p:childTnLst>
                              <p:par>
                                <p:cTn id="36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  <p:sp>
        <p:nvSpPr>
          <p:cNvPr id="14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07FC-CD11-4505-A951-148EB193692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4CB0-07B5-455A-AE32-9F4A00E763B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6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 vse je dovolj dela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em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zgradba atoma, izotopi, kemijski procesi pri pridobivanju jedrske energije; merjenje radioaktivno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Fizik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stnosti delcev, energija delcev, sile v jed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Biologija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vplivi na metabolizem, povezava z 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medic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7640-B291-4660-9569-B9DEFB99678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  <p:sp>
        <p:nvSpPr>
          <p:cNvPr id="59" name="Slide Number Placeholder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559BD-F9CD-41E5-BEBE-2F7BE33C58C3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  <p:sp>
        <p:nvSpPr>
          <p:cNvPr id="62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B8CF-79DD-4E6D-8B47-BEE898B1D529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6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2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D3DA-2D8E-45DA-AB9D-AB588D0A65E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8C30-91D7-4778-997E-FD9FD2D6E2C1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  <p:sp>
        <p:nvSpPr>
          <p:cNvPr id="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39A1C-E73E-4BF7-86BC-58D990A8F42A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  <p:sp>
        <p:nvSpPr>
          <p:cNvPr id="9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1FB6-CEE9-481D-B4B1-88F2F12C8D6D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1A30-4AF1-4402-B27A-3ED384F1D155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3000"/>
                            </p:stCondLst>
                            <p:childTnLst>
                              <p:par>
                                <p:cTn id="2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3500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Eva Ferk</cp:lastModifiedBy>
  <dcterms:modified xsi:type="dcterms:W3CDTF">2010-03-31T09:21:02Z</dcterms:modified>
  <cp:revision>156</cp:revision>
  <dc:subject/>
  <dc:title>Radioaktivnost je!</dc:title>
</cp:coreProperties>
</file>